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28480" y="528120"/>
            <a:ext cx="8082000" cy="2843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hyperlink" Target="file:///../Credits.ppt"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8480" y="528120"/>
            <a:ext cx="8082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Verdana"/>
              </a:rPr>
              <a:t>Click to edit the title text format</a:t>
            </a:r>
            <a:endParaRPr b="0" lang="en-US" sz="2500" spc="-1" strike="noStrike">
              <a:solidFill>
                <a:srgbClr val="ffff99"/>
              </a:solidFill>
              <a:latin typeface="Verdana"/>
            </a:endParaRPr>
          </a:p>
        </p:txBody>
      </p:sp>
      <p:sp>
        <p:nvSpPr>
          <p:cNvPr id="1" name="AutoShape 7">
            <a:hlinkClick r:id="" action="ppaction://hlinkshowjump?jump=previousslide"/>
          </p:cNvPr>
          <p:cNvSpPr/>
          <p:nvPr/>
        </p:nvSpPr>
        <p:spPr>
          <a:xfrm>
            <a:off x="6172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8">
            <a:hlinkClick r:id="" action="ppaction://hlinkshowjump?jump=nextslide"/>
          </p:cNvPr>
          <p:cNvSpPr/>
          <p:nvPr/>
        </p:nvSpPr>
        <p:spPr>
          <a:xfrm>
            <a:off x="69343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AutoShape 9">
            <a:hlinkClick r:id="rId3" action="ppaction://hlinksldjump"/>
          </p:cNvPr>
          <p:cNvSpPr/>
          <p:nvPr/>
        </p:nvSpPr>
        <p:spPr>
          <a:xfrm>
            <a:off x="76201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AutoShape 10">
            <a:hlinkClick r:id="" action="ppaction://hlinkshowjump?jump=endshow"/>
          </p:cNvPr>
          <p:cNvSpPr/>
          <p:nvPr/>
        </p:nvSpPr>
        <p:spPr>
          <a:xfrm>
            <a:off x="83059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Rectangle 11">
            <a:hlinkClick r:id="rId4"/>
          </p:cNvPr>
          <p:cNvSpPr/>
          <p:nvPr/>
        </p:nvSpPr>
        <p:spPr>
          <a:xfrm>
            <a:off x="5029200" y="6629400"/>
            <a:ext cx="6094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28480" y="528120"/>
            <a:ext cx="8082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99"/>
                </a:solidFill>
                <a:uFillTx/>
                <a:latin typeface="Verdana"/>
              </a:rPr>
              <a:t>DO NOW!!!</a:t>
            </a:r>
            <a:endParaRPr b="0" lang="en-US" sz="6000" spc="-1" strike="noStrike">
              <a:solidFill>
                <a:srgbClr val="ffff99"/>
              </a:solidFill>
              <a:latin typeface="Verdana"/>
            </a:endParaRPr>
          </a:p>
        </p:txBody>
      </p:sp>
      <p:sp>
        <p:nvSpPr>
          <p:cNvPr id="43" name="TextBox 3"/>
          <p:cNvSpPr/>
          <p:nvPr/>
        </p:nvSpPr>
        <p:spPr>
          <a:xfrm>
            <a:off x="457200" y="1752480"/>
            <a:ext cx="8229600" cy="3522960"/>
          </a:xfrm>
          <a:prstGeom prst="rect">
            <a:avLst/>
          </a:prstGeom>
          <a:noFill/>
          <a:ln w="0">
            <a:noFill/>
          </a:ln>
        </p:spPr>
        <p:style>
          <a:lnRef idx="0"/>
          <a:fillRef idx="0"/>
          <a:effectRef idx="0"/>
          <a:fontRef idx="minor"/>
        </p:style>
        <p:txBody>
          <a:bodyPr lIns="90000" rIns="90000" tIns="46800" bIns="46800" anchor="t">
            <a:spAutoFit/>
          </a:bodyPr>
          <a:p>
            <a:pPr marL="685800" indent="-6858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Verdana"/>
              </a:rPr>
              <a:t>What is a </a:t>
            </a:r>
            <a:r>
              <a:rPr b="1" lang="en-US" sz="4500" spc="-1" strike="noStrike" u="sng">
                <a:solidFill>
                  <a:srgbClr val="ffff00"/>
                </a:solidFill>
                <a:uFillTx/>
                <a:latin typeface="Verdana"/>
              </a:rPr>
              <a:t>SETTING</a:t>
            </a:r>
            <a:r>
              <a:rPr b="1" lang="en-US" sz="4500" spc="-1" strike="noStrike">
                <a:solidFill>
                  <a:srgbClr val="ffff00"/>
                </a:solidFill>
                <a:latin typeface="Verdana"/>
              </a:rPr>
              <a:t>?</a:t>
            </a:r>
            <a:br>
              <a:rPr sz="4500"/>
            </a:br>
            <a:r>
              <a:rPr b="1" lang="en-US" sz="4500" spc="-1" strike="noStrike">
                <a:solidFill>
                  <a:srgbClr val="ffff00"/>
                </a:solidFill>
                <a:latin typeface="Verdana"/>
              </a:rPr>
              <a:t> </a:t>
            </a:r>
            <a:endParaRPr b="0" lang="en-US" sz="4500" spc="-1" strike="noStrike">
              <a:solidFill>
                <a:srgbClr val="000000"/>
              </a:solidFill>
              <a:latin typeface="Verdana"/>
            </a:endParaRPr>
          </a:p>
          <a:p>
            <a:pPr marL="685800" indent="-68580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6600"/>
                </a:solidFill>
                <a:latin typeface="Verdana"/>
              </a:rPr>
              <a:t>What settings have you encountered in your readings?</a:t>
            </a:r>
            <a:endParaRPr b="0" lang="en-US" sz="45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0" y="0"/>
            <a:ext cx="9144000" cy="68580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3" name="Picture 12" descr="STB0010D.jpg"/>
          <p:cNvPicPr/>
          <p:nvPr/>
        </p:nvPicPr>
        <p:blipFill>
          <a:blip r:embed="rId1"/>
          <a:stretch/>
        </p:blipFill>
        <p:spPr>
          <a:xfrm>
            <a:off x="685800" y="380880"/>
            <a:ext cx="4343400" cy="6199200"/>
          </a:xfrm>
          <a:prstGeom prst="rect">
            <a:avLst/>
          </a:prstGeom>
          <a:ln w="0">
            <a:noFill/>
          </a:ln>
        </p:spPr>
      </p:pic>
      <p:sp>
        <p:nvSpPr>
          <p:cNvPr id="224" name="Text Box 13"/>
          <p:cNvSpPr/>
          <p:nvPr/>
        </p:nvSpPr>
        <p:spPr>
          <a:xfrm rot="990600">
            <a:off x="4955040" y="773280"/>
            <a:ext cx="3962160" cy="169452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u="sng">
                <a:solidFill>
                  <a:srgbClr val="336600"/>
                </a:solidFill>
                <a:uFillTx/>
                <a:latin typeface="Verdana"/>
              </a:rPr>
              <a:t>What do you think this character is like? </a:t>
            </a:r>
            <a:endParaRPr b="0" lang="en-US" sz="3500" spc="-1" strike="noStrike">
              <a:solidFill>
                <a:srgbClr val="000000"/>
              </a:solidFill>
              <a:latin typeface="Verdana"/>
            </a:endParaRPr>
          </a:p>
        </p:txBody>
      </p:sp>
    </p:spTree>
  </p:cSld>
  <p:transition>
    <p:wipe dir="r"/>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22" presetSubtype="1">
                                  <p:stCondLst>
                                    <p:cond delay="0"/>
                                  </p:stCondLst>
                                  <p:childTnLst>
                                    <p:set>
                                      <p:cBhvr>
                                        <p:cTn id="188" dur="1" fill="hold">
                                          <p:stCondLst>
                                            <p:cond delay="0"/>
                                          </p:stCondLst>
                                        </p:cTn>
                                        <p:tgtEl>
                                          <p:spTgt spid="223"/>
                                        </p:tgtEl>
                                        <p:attrNameLst>
                                          <p:attrName>style.visibility</p:attrName>
                                        </p:attrNameLst>
                                      </p:cBhvr>
                                      <p:to>
                                        <p:strVal val="visible"/>
                                      </p:to>
                                    </p:set>
                                    <p:animEffect filter="wipe(up)" transition="in">
                                      <p:cBhvr additive="repl">
                                        <p:cTn id="189" dur="500"/>
                                        <p:tgtEl>
                                          <p:spTgt spid="22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24"/>
                                        </p:tgtEl>
                                        <p:attrNameLst>
                                          <p:attrName>style.visibility</p:attrName>
                                        </p:attrNameLst>
                                      </p:cBhvr>
                                      <p:to>
                                        <p:strVal val="visible"/>
                                      </p:to>
                                    </p:set>
                                    <p:animEffect filter="wipe(left)" transition="in">
                                      <p:cBhvr additive="repl">
                                        <p:cTn id="19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28480" y="528120"/>
            <a:ext cx="8082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ffc000"/>
                </a:solidFill>
                <a:uFillTx/>
                <a:latin typeface="Verdana"/>
              </a:rPr>
              <a:t>Setting, Mood, and Tone</a:t>
            </a:r>
            <a:endParaRPr b="0" lang="en-US" sz="3500" spc="-1" strike="noStrike">
              <a:solidFill>
                <a:srgbClr val="ffff99"/>
              </a:solidFill>
              <a:latin typeface="Verdana"/>
            </a:endParaRPr>
          </a:p>
        </p:txBody>
      </p:sp>
      <p:sp>
        <p:nvSpPr>
          <p:cNvPr id="226" name="Text Box 3"/>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Verdana"/>
              </a:rPr>
              <a:t>Setting can also </a:t>
            </a:r>
            <a:r>
              <a:rPr b="1" lang="en-US" sz="2400" spc="-1" strike="noStrike" u="sng">
                <a:solidFill>
                  <a:srgbClr val="ffff00"/>
                </a:solidFill>
                <a:uFillTx/>
                <a:latin typeface="Verdana"/>
              </a:rPr>
              <a:t>create mood</a:t>
            </a:r>
            <a:r>
              <a:rPr b="1" lang="en-US" sz="2400" spc="-1" strike="noStrike">
                <a:solidFill>
                  <a:srgbClr val="00b0f0"/>
                </a:solidFill>
                <a:latin typeface="Verdana"/>
              </a:rPr>
              <a:t>, or atmosphere. It can </a:t>
            </a:r>
            <a:r>
              <a:rPr b="1" lang="en-US" sz="2400" spc="-1" strike="noStrike" u="sng">
                <a:solidFill>
                  <a:srgbClr val="ffff00"/>
                </a:solidFill>
                <a:uFillTx/>
                <a:latin typeface="Verdana"/>
              </a:rPr>
              <a:t>affect the way we feel about the characters</a:t>
            </a:r>
            <a:r>
              <a:rPr b="1" lang="en-US" sz="2400" spc="-1" strike="noStrike">
                <a:solidFill>
                  <a:srgbClr val="00b0f0"/>
                </a:solidFill>
                <a:latin typeface="Verdana"/>
              </a:rPr>
              <a:t>.</a:t>
            </a:r>
            <a:endParaRPr b="0" lang="en-US" sz="2400" spc="-1" strike="noStrike">
              <a:solidFill>
                <a:srgbClr val="000000"/>
              </a:solidFill>
              <a:latin typeface="Verdana"/>
            </a:endParaRPr>
          </a:p>
        </p:txBody>
      </p:sp>
      <p:pic>
        <p:nvPicPr>
          <p:cNvPr id="227" name="Picture 11" descr="51036.JPG"/>
          <p:cNvPicPr/>
          <p:nvPr/>
        </p:nvPicPr>
        <p:blipFill>
          <a:blip r:embed="rId1"/>
          <a:stretch/>
        </p:blipFill>
        <p:spPr>
          <a:xfrm>
            <a:off x="228600" y="2895480"/>
            <a:ext cx="2819520" cy="3160800"/>
          </a:xfrm>
          <a:prstGeom prst="rect">
            <a:avLst/>
          </a:prstGeom>
          <a:ln w="0">
            <a:noFill/>
          </a:ln>
        </p:spPr>
      </p:pic>
      <p:sp>
        <p:nvSpPr>
          <p:cNvPr id="228" name="Text Box 12"/>
          <p:cNvSpPr/>
          <p:nvPr/>
        </p:nvSpPr>
        <p:spPr>
          <a:xfrm>
            <a:off x="533520" y="30481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mysterious</a:t>
            </a:r>
            <a:endParaRPr b="0" lang="en-US" sz="2400" spc="-1" strike="noStrike">
              <a:solidFill>
                <a:srgbClr val="000000"/>
              </a:solidFill>
              <a:latin typeface="Verdana"/>
            </a:endParaRPr>
          </a:p>
        </p:txBody>
      </p:sp>
      <p:pic>
        <p:nvPicPr>
          <p:cNvPr id="229" name="Picture 14" descr="15327.JPG"/>
          <p:cNvPicPr/>
          <p:nvPr/>
        </p:nvPicPr>
        <p:blipFill>
          <a:blip r:embed="rId2"/>
          <a:stretch/>
        </p:blipFill>
        <p:spPr>
          <a:xfrm>
            <a:off x="3060720" y="2895480"/>
            <a:ext cx="2882880" cy="3129120"/>
          </a:xfrm>
          <a:prstGeom prst="rect">
            <a:avLst/>
          </a:prstGeom>
          <a:ln w="0">
            <a:noFill/>
          </a:ln>
        </p:spPr>
      </p:pic>
      <p:sp>
        <p:nvSpPr>
          <p:cNvPr id="230" name="Text Box 15"/>
          <p:cNvSpPr/>
          <p:nvPr/>
        </p:nvSpPr>
        <p:spPr>
          <a:xfrm>
            <a:off x="3276720" y="37339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b050"/>
                </a:solidFill>
                <a:latin typeface="Verdana"/>
              </a:rPr>
              <a:t>peaceful</a:t>
            </a:r>
            <a:endParaRPr b="0" lang="en-US" sz="2400" spc="-1" strike="noStrike">
              <a:solidFill>
                <a:srgbClr val="000000"/>
              </a:solidFill>
              <a:latin typeface="Verdana"/>
            </a:endParaRPr>
          </a:p>
        </p:txBody>
      </p:sp>
      <p:pic>
        <p:nvPicPr>
          <p:cNvPr id="231" name="Picture 17" descr="ANT0098E.JPG"/>
          <p:cNvPicPr/>
          <p:nvPr/>
        </p:nvPicPr>
        <p:blipFill>
          <a:blip r:embed="rId3"/>
          <a:stretch/>
        </p:blipFill>
        <p:spPr>
          <a:xfrm>
            <a:off x="5943600" y="2895480"/>
            <a:ext cx="2895480" cy="3127320"/>
          </a:xfrm>
          <a:prstGeom prst="rect">
            <a:avLst/>
          </a:prstGeom>
          <a:ln w="0">
            <a:noFill/>
          </a:ln>
        </p:spPr>
      </p:pic>
      <p:sp>
        <p:nvSpPr>
          <p:cNvPr id="232" name="Text Box 18"/>
          <p:cNvSpPr/>
          <p:nvPr/>
        </p:nvSpPr>
        <p:spPr>
          <a:xfrm>
            <a:off x="6324480" y="3052800"/>
            <a:ext cx="198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Verdana"/>
              </a:rPr>
              <a:t>menacing</a:t>
            </a:r>
            <a:endParaRPr b="0" lang="en-US" sz="2400" spc="-1" strike="noStrike">
              <a:solidFill>
                <a:srgbClr val="000000"/>
              </a:solidFill>
              <a:latin typeface="Verdana"/>
            </a:endParaRPr>
          </a:p>
        </p:txBody>
      </p:sp>
      <p:pic>
        <p:nvPicPr>
          <p:cNvPr id="233" name="Picture 19" descr=""/>
          <p:cNvPicPr/>
          <p:nvPr/>
        </p:nvPicPr>
        <p:blipFill>
          <a:blip r:embed="rId4"/>
          <a:stretch/>
        </p:blipFill>
        <p:spPr>
          <a:xfrm>
            <a:off x="8172360" y="1968480"/>
            <a:ext cx="133560" cy="88920"/>
          </a:xfrm>
          <a:prstGeom prst="rect">
            <a:avLst/>
          </a:prstGeom>
          <a:ln w="0">
            <a:noFill/>
          </a:ln>
        </p:spPr>
      </p:pic>
    </p:spTree>
  </p:cSld>
  <p:transition>
    <p:wipe dir="r"/>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27"/>
                                        </p:tgtEl>
                                        <p:attrNameLst>
                                          <p:attrName>style.visibility</p:attrName>
                                        </p:attrNameLst>
                                      </p:cBhvr>
                                      <p:to>
                                        <p:strVal val="visible"/>
                                      </p:to>
                                    </p:set>
                                    <p:animEffect filter="wipe(left)" transition="in">
                                      <p:cBhvr additive="repl">
                                        <p:cTn id="201" dur="500"/>
                                        <p:tgtEl>
                                          <p:spTgt spid="227"/>
                                        </p:tgtEl>
                                      </p:cBhvr>
                                    </p:animEffect>
                                  </p:childTnLst>
                                </p:cTn>
                              </p:par>
                            </p:childTnLst>
                          </p:cTn>
                        </p:par>
                        <p:par>
                          <p:cTn id="202" nodeType="afterEffect" fill="hold">
                            <p:stCondLst>
                              <p:cond delay="500"/>
                            </p:stCondLst>
                            <p:childTnLst>
                              <p:par>
                                <p:cTn id="203" nodeType="afterEffect" fill="hold" presetClass="entr" presetID="22" presetSubtype="8">
                                  <p:stCondLst>
                                    <p:cond delay="0"/>
                                  </p:stCondLst>
                                  <p:childTnLst>
                                    <p:set>
                                      <p:cBhvr>
                                        <p:cTn id="204" dur="1" fill="hold">
                                          <p:stCondLst>
                                            <p:cond delay="0"/>
                                          </p:stCondLst>
                                        </p:cTn>
                                        <p:tgtEl>
                                          <p:spTgt spid="228"/>
                                        </p:tgtEl>
                                        <p:attrNameLst>
                                          <p:attrName>style.visibility</p:attrName>
                                        </p:attrNameLst>
                                      </p:cBhvr>
                                      <p:to>
                                        <p:strVal val="visible"/>
                                      </p:to>
                                    </p:set>
                                    <p:animEffect filter="wipe(left)" transition="in">
                                      <p:cBhvr additive="repl">
                                        <p:cTn id="205" dur="500"/>
                                        <p:tgtEl>
                                          <p:spTgt spid="228"/>
                                        </p:tgtEl>
                                      </p:cBhvr>
                                    </p:animEffect>
                                  </p:childTnLst>
                                </p:cTn>
                              </p:par>
                            </p:childTnLst>
                          </p:cTn>
                        </p:par>
                        <p:par>
                          <p:cTn id="206" nodeType="afterEffect" fill="hold">
                            <p:stCondLst>
                              <p:cond delay="1000"/>
                            </p:stCondLst>
                            <p:childTnLst>
                              <p:par>
                                <p:cTn id="207" nodeType="afterEffect" fill="hold" presetClass="entr" presetID="22" presetSubtype="8">
                                  <p:stCondLst>
                                    <p:cond delay="500"/>
                                  </p:stCondLst>
                                  <p:childTnLst>
                                    <p:set>
                                      <p:cBhvr>
                                        <p:cTn id="208" dur="1" fill="hold">
                                          <p:stCondLst>
                                            <p:cond delay="0"/>
                                          </p:stCondLst>
                                        </p:cTn>
                                        <p:tgtEl>
                                          <p:spTgt spid="229"/>
                                        </p:tgtEl>
                                        <p:attrNameLst>
                                          <p:attrName>style.visibility</p:attrName>
                                        </p:attrNameLst>
                                      </p:cBhvr>
                                      <p:to>
                                        <p:strVal val="visible"/>
                                      </p:to>
                                    </p:set>
                                    <p:animEffect filter="wipe(left)" transition="in">
                                      <p:cBhvr additive="repl">
                                        <p:cTn id="209" dur="500"/>
                                        <p:tgtEl>
                                          <p:spTgt spid="229"/>
                                        </p:tgtEl>
                                      </p:cBhvr>
                                    </p:animEffect>
                                  </p:childTnLst>
                                </p:cTn>
                              </p:par>
                            </p:childTnLst>
                          </p:cTn>
                        </p:par>
                        <p:par>
                          <p:cTn id="210" nodeType="afterEffect" fill="hold">
                            <p:stCondLst>
                              <p:cond delay="2000"/>
                            </p:stCondLst>
                            <p:childTnLst>
                              <p:par>
                                <p:cTn id="211" nodeType="afterEffect" fill="hold" presetClass="entr" presetID="22" presetSubtype="8">
                                  <p:stCondLst>
                                    <p:cond delay="0"/>
                                  </p:stCondLst>
                                  <p:childTnLst>
                                    <p:set>
                                      <p:cBhvr>
                                        <p:cTn id="212" dur="1" fill="hold">
                                          <p:stCondLst>
                                            <p:cond delay="0"/>
                                          </p:stCondLst>
                                        </p:cTn>
                                        <p:tgtEl>
                                          <p:spTgt spid="230"/>
                                        </p:tgtEl>
                                        <p:attrNameLst>
                                          <p:attrName>style.visibility</p:attrName>
                                        </p:attrNameLst>
                                      </p:cBhvr>
                                      <p:to>
                                        <p:strVal val="visible"/>
                                      </p:to>
                                    </p:set>
                                    <p:animEffect filter="wipe(left)" transition="in">
                                      <p:cBhvr additive="repl">
                                        <p:cTn id="213" dur="500"/>
                                        <p:tgtEl>
                                          <p:spTgt spid="230"/>
                                        </p:tgtEl>
                                      </p:cBhvr>
                                    </p:animEffect>
                                  </p:childTnLst>
                                </p:cTn>
                              </p:par>
                            </p:childTnLst>
                          </p:cTn>
                        </p:par>
                        <p:par>
                          <p:cTn id="214" nodeType="afterEffect" fill="hold">
                            <p:stCondLst>
                              <p:cond delay="2500"/>
                            </p:stCondLst>
                            <p:childTnLst>
                              <p:par>
                                <p:cTn id="215" nodeType="afterEffect" fill="hold" presetClass="entr" presetID="22" presetSubtype="8">
                                  <p:stCondLst>
                                    <p:cond delay="500"/>
                                  </p:stCondLst>
                                  <p:childTnLst>
                                    <p:set>
                                      <p:cBhvr>
                                        <p:cTn id="216" dur="1" fill="hold">
                                          <p:stCondLst>
                                            <p:cond delay="0"/>
                                          </p:stCondLst>
                                        </p:cTn>
                                        <p:tgtEl>
                                          <p:spTgt spid="231"/>
                                        </p:tgtEl>
                                        <p:attrNameLst>
                                          <p:attrName>style.visibility</p:attrName>
                                        </p:attrNameLst>
                                      </p:cBhvr>
                                      <p:to>
                                        <p:strVal val="visible"/>
                                      </p:to>
                                    </p:set>
                                    <p:animEffect filter="wipe(left)" transition="in">
                                      <p:cBhvr additive="repl">
                                        <p:cTn id="217" dur="500"/>
                                        <p:tgtEl>
                                          <p:spTgt spid="231"/>
                                        </p:tgtEl>
                                      </p:cBhvr>
                                    </p:animEffect>
                                  </p:childTnLst>
                                </p:cTn>
                              </p:par>
                            </p:childTnLst>
                          </p:cTn>
                        </p:par>
                        <p:par>
                          <p:cTn id="218" nodeType="afterEffect" fill="hold">
                            <p:stCondLst>
                              <p:cond delay="3500"/>
                            </p:stCondLst>
                            <p:childTnLst>
                              <p:par>
                                <p:cTn id="219" nodeType="afterEffect" fill="hold" presetClass="entr" presetID="22" presetSubtype="8">
                                  <p:stCondLst>
                                    <p:cond delay="0"/>
                                  </p:stCondLst>
                                  <p:childTnLst>
                                    <p:set>
                                      <p:cBhvr>
                                        <p:cTn id="220" dur="1" fill="hold">
                                          <p:stCondLst>
                                            <p:cond delay="0"/>
                                          </p:stCondLst>
                                        </p:cTn>
                                        <p:tgtEl>
                                          <p:spTgt spid="232"/>
                                        </p:tgtEl>
                                        <p:attrNameLst>
                                          <p:attrName>style.visibility</p:attrName>
                                        </p:attrNameLst>
                                      </p:cBhvr>
                                      <p:to>
                                        <p:strVal val="visible"/>
                                      </p:to>
                                    </p:set>
                                    <p:animEffect filter="wipe(left)" transition="in">
                                      <p:cBhvr additive="repl">
                                        <p:cTn id="22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28480" y="528120"/>
            <a:ext cx="8082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ffc000"/>
                </a:solidFill>
                <a:uFillTx/>
                <a:latin typeface="Verdana"/>
              </a:rPr>
              <a:t>Setting, Mood, and Tone</a:t>
            </a:r>
            <a:endParaRPr b="0" lang="en-US" sz="3500" spc="-1" strike="noStrike">
              <a:solidFill>
                <a:srgbClr val="ffff99"/>
              </a:solidFill>
              <a:latin typeface="Verdana"/>
            </a:endParaRPr>
          </a:p>
        </p:txBody>
      </p:sp>
      <p:sp>
        <p:nvSpPr>
          <p:cNvPr id="235" name="Text Box 3"/>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Verdana"/>
              </a:rPr>
              <a:t>Setting can also </a:t>
            </a:r>
            <a:r>
              <a:rPr b="1" lang="en-US" sz="2400" spc="-1" strike="noStrike" u="sng">
                <a:solidFill>
                  <a:srgbClr val="ffff00"/>
                </a:solidFill>
                <a:uFillTx/>
                <a:latin typeface="Verdana"/>
              </a:rPr>
              <a:t>express a tone, or attitude toward a subject</a:t>
            </a:r>
            <a:r>
              <a:rPr b="1" lang="en-US" sz="2400" spc="-1" strike="noStrike">
                <a:solidFill>
                  <a:srgbClr val="00b0f0"/>
                </a:solidFill>
                <a:latin typeface="Verdana"/>
              </a:rPr>
              <a:t> or object.</a:t>
            </a:r>
            <a:endParaRPr b="0" lang="en-US" sz="2400" spc="-1" strike="noStrike">
              <a:solidFill>
                <a:srgbClr val="000000"/>
              </a:solidFill>
              <a:latin typeface="Verdana"/>
            </a:endParaRPr>
          </a:p>
        </p:txBody>
      </p:sp>
      <p:sp>
        <p:nvSpPr>
          <p:cNvPr id="236" name="Text Box 6"/>
          <p:cNvSpPr/>
          <p:nvPr/>
        </p:nvSpPr>
        <p:spPr>
          <a:xfrm>
            <a:off x="533520" y="3276720"/>
            <a:ext cx="8076960" cy="1925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Now, with supper finished, we retire to the room in a faraway part of the house where my friend sleeps in a scrap-quilt-covered iron bed painted rose pink, her favorite color. Silently, wallowing in the pleasures of conspiracy, we take the bead purse from its secret place and spill its contents on the scrap quilt.</a:t>
            </a:r>
            <a:endParaRPr b="0"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from “A Christmas Memory” by Truman Capote</a:t>
            </a:r>
            <a:endParaRPr b="0" lang="en-US" sz="1600" spc="-1" strike="noStrike">
              <a:solidFill>
                <a:srgbClr val="000000"/>
              </a:solidFill>
              <a:latin typeface="Verdana"/>
            </a:endParaRPr>
          </a:p>
        </p:txBody>
      </p:sp>
      <p:sp>
        <p:nvSpPr>
          <p:cNvPr id="237" name="Text Box 7"/>
          <p:cNvSpPr/>
          <p:nvPr/>
        </p:nvSpPr>
        <p:spPr>
          <a:xfrm>
            <a:off x="533520" y="2286000"/>
            <a:ext cx="8076960" cy="82548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is the tone of this passage? How do you think the writer feels about these characters?</a:t>
            </a:r>
            <a:endParaRPr b="0" lang="en-US" sz="2400" spc="-1" strike="noStrike">
              <a:solidFill>
                <a:srgbClr val="000000"/>
              </a:solidFill>
              <a:latin typeface="Verdana"/>
            </a:endParaRPr>
          </a:p>
        </p:txBody>
      </p:sp>
      <p:sp>
        <p:nvSpPr>
          <p:cNvPr id="238" name="Text Box 9"/>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237"/>
                                        </p:tgtEl>
                                        <p:attrNameLst>
                                          <p:attrName>style.visibility</p:attrName>
                                        </p:attrNameLst>
                                      </p:cBhvr>
                                      <p:to>
                                        <p:strVal val="visible"/>
                                      </p:to>
                                    </p:set>
                                    <p:animEffect filter="wipe(left)" transition="in">
                                      <p:cBhvr additive="repl">
                                        <p:cTn id="228" dur="500"/>
                                        <p:tgtEl>
                                          <p:spTgt spid="237"/>
                                        </p:tgtEl>
                                      </p:cBhvr>
                                    </p:animEffect>
                                  </p:childTnLst>
                                </p:cTn>
                              </p:par>
                            </p:childTnLst>
                          </p:cTn>
                        </p:par>
                        <p:par>
                          <p:cTn id="229" nodeType="afterEffect" fill="hold">
                            <p:stCondLst>
                              <p:cond delay="500"/>
                            </p:stCondLst>
                            <p:childTnLst>
                              <p:par>
                                <p:cTn id="230" nodeType="afterEffect" fill="hold" presetClass="entr" presetID="22" presetSubtype="1">
                                  <p:stCondLst>
                                    <p:cond delay="0"/>
                                  </p:stCondLst>
                                  <p:childTnLst>
                                    <p:set>
                                      <p:cBhvr>
                                        <p:cTn id="231" dur="1" fill="hold">
                                          <p:stCondLst>
                                            <p:cond delay="0"/>
                                          </p:stCondLst>
                                        </p:cTn>
                                        <p:tgtEl>
                                          <p:spTgt spid="236"/>
                                        </p:tgtEl>
                                        <p:attrNameLst>
                                          <p:attrName>style.visibility</p:attrName>
                                        </p:attrNameLst>
                                      </p:cBhvr>
                                      <p:to>
                                        <p:strVal val="visible"/>
                                      </p:to>
                                    </p:set>
                                    <p:animEffect filter="wipe(up)" transition="in">
                                      <p:cBhvr additive="repl">
                                        <p:cTn id="232" dur="500"/>
                                        <p:tgtEl>
                                          <p:spTgt spid="236"/>
                                        </p:tgtEl>
                                      </p:cBhvr>
                                    </p:animEffect>
                                  </p:childTnLst>
                                </p:cTn>
                              </p:par>
                            </p:childTnLst>
                          </p:cTn>
                        </p:par>
                        <p:par>
                          <p:cTn id="233" nodeType="afterEffect" fill="hold">
                            <p:stCondLst>
                              <p:cond delay="1000"/>
                            </p:stCondLst>
                            <p:childTnLst>
                              <p:par>
                                <p:cTn id="234" nodeType="afterEffect" fill="hold" presetClass="entr" presetID="1">
                                  <p:stCondLst>
                                    <p:cond delay="0"/>
                                  </p:stCondLst>
                                  <p:childTnLst>
                                    <p:set>
                                      <p:cBhvr>
                                        <p:cTn id="235"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28480" y="528120"/>
            <a:ext cx="8082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000"/>
                </a:solidFill>
                <a:uFillTx/>
                <a:latin typeface="Verdana"/>
              </a:rPr>
              <a:t>Setting</a:t>
            </a:r>
            <a:endParaRPr b="0" lang="en-US" sz="4000" spc="-1" strike="noStrike">
              <a:solidFill>
                <a:srgbClr val="ffff99"/>
              </a:solidFill>
              <a:latin typeface="Verdana"/>
            </a:endParaRPr>
          </a:p>
        </p:txBody>
      </p:sp>
      <p:sp>
        <p:nvSpPr>
          <p:cNvPr id="45" name="Text Box 3"/>
          <p:cNvSpPr/>
          <p:nvPr/>
        </p:nvSpPr>
        <p:spPr>
          <a:xfrm>
            <a:off x="533520" y="1370160"/>
            <a:ext cx="80769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erdana"/>
              </a:rPr>
              <a:t>Setting is the time and place of a story</a:t>
            </a:r>
            <a:r>
              <a:rPr b="0" lang="en-US" sz="2400" spc="-1" strike="noStrike">
                <a:solidFill>
                  <a:srgbClr val="ffff99"/>
                </a:solidFill>
                <a:latin typeface="Verdana"/>
              </a:rPr>
              <a: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u="sng">
                <a:solidFill>
                  <a:srgbClr val="ffff99"/>
                </a:solidFill>
                <a:uFillTx/>
                <a:latin typeface="Verdana"/>
              </a:rPr>
              <a:t>Setting can include:</a:t>
            </a:r>
            <a:endParaRPr b="0" lang="en-US" sz="2400" spc="-1" strike="noStrike">
              <a:solidFill>
                <a:srgbClr val="000000"/>
              </a:solidFill>
              <a:latin typeface="Verdana"/>
            </a:endParaRPr>
          </a:p>
        </p:txBody>
      </p:sp>
      <p:sp>
        <p:nvSpPr>
          <p:cNvPr id="46" name="Text Box 24"/>
          <p:cNvSpPr/>
          <p:nvPr/>
        </p:nvSpPr>
        <p:spPr>
          <a:xfrm>
            <a:off x="228600" y="3119400"/>
            <a:ext cx="47242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00b0f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Verdana"/>
              </a:rPr>
              <a:t>the </a:t>
            </a:r>
            <a:r>
              <a:rPr b="1" lang="en-US" sz="2400" spc="-1" strike="noStrike" u="sng">
                <a:solidFill>
                  <a:srgbClr val="ffff00"/>
                </a:solidFill>
                <a:uFillTx/>
                <a:latin typeface="Verdana"/>
              </a:rPr>
              <a:t>locale</a:t>
            </a:r>
            <a:r>
              <a:rPr b="1" lang="en-US" sz="2400" spc="-1" strike="noStrike">
                <a:solidFill>
                  <a:srgbClr val="00b0f0"/>
                </a:solidFill>
                <a:latin typeface="Verdana"/>
              </a:rPr>
              <a:t> of a story</a:t>
            </a:r>
            <a:endParaRPr b="0" lang="en-US" sz="2400" spc="-1" strike="noStrike">
              <a:solidFill>
                <a:srgbClr val="000000"/>
              </a:solidFill>
              <a:latin typeface="Verdana"/>
            </a:endParaRPr>
          </a:p>
        </p:txBody>
      </p:sp>
      <p:sp>
        <p:nvSpPr>
          <p:cNvPr id="47" name="Text Box 25"/>
          <p:cNvSpPr/>
          <p:nvPr/>
        </p:nvSpPr>
        <p:spPr>
          <a:xfrm>
            <a:off x="228600" y="3905280"/>
            <a:ext cx="4343400" cy="119124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erdana"/>
              </a:rPr>
              <a:t>people’s customs</a:t>
            </a:r>
            <a:r>
              <a:rPr b="1" lang="en-US" sz="2400" spc="-1" strike="noStrike">
                <a:solidFill>
                  <a:srgbClr val="00b0f0"/>
                </a:solidFill>
                <a:latin typeface="Verdana"/>
              </a:rPr>
              <a:t>—how they live, dress, eat, and behave</a:t>
            </a:r>
            <a:endParaRPr b="0" lang="en-US" sz="2400" spc="-1" strike="noStrike">
              <a:solidFill>
                <a:srgbClr val="000000"/>
              </a:solidFill>
              <a:latin typeface="Verdana"/>
            </a:endParaRPr>
          </a:p>
        </p:txBody>
      </p:sp>
      <p:pic>
        <p:nvPicPr>
          <p:cNvPr id="48" name="Picture 30" descr="WTR0066E.JPG"/>
          <p:cNvPicPr/>
          <p:nvPr/>
        </p:nvPicPr>
        <p:blipFill>
          <a:blip r:embed="rId1"/>
          <a:stretch/>
        </p:blipFill>
        <p:spPr>
          <a:xfrm>
            <a:off x="6019920" y="1981080"/>
            <a:ext cx="2590560" cy="1729080"/>
          </a:xfrm>
          <a:prstGeom prst="rect">
            <a:avLst/>
          </a:prstGeom>
          <a:ln w="0">
            <a:noFill/>
          </a:ln>
        </p:spPr>
      </p:pic>
      <p:sp>
        <p:nvSpPr>
          <p:cNvPr id="49" name="Text Box 31"/>
          <p:cNvSpPr/>
          <p:nvPr/>
        </p:nvSpPr>
        <p:spPr>
          <a:xfrm>
            <a:off x="6781680" y="3657600"/>
            <a:ext cx="1905120" cy="459720"/>
          </a:xfrm>
          <a:prstGeom prst="rect">
            <a:avLst/>
          </a:prstGeom>
          <a:solidFill>
            <a:srgbClr val="3366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ong Kong</a:t>
            </a:r>
            <a:endParaRPr b="0" lang="en-US" sz="2400" spc="-1" strike="noStrike">
              <a:solidFill>
                <a:srgbClr val="000000"/>
              </a:solidFill>
              <a:latin typeface="Verdana"/>
            </a:endParaRPr>
          </a:p>
        </p:txBody>
      </p:sp>
      <p:pic>
        <p:nvPicPr>
          <p:cNvPr id="50" name="Picture 42" descr="c01ele202"/>
          <p:cNvPicPr/>
          <p:nvPr/>
        </p:nvPicPr>
        <p:blipFill>
          <a:blip r:embed="rId2"/>
          <a:stretch/>
        </p:blipFill>
        <p:spPr>
          <a:xfrm>
            <a:off x="4572000" y="3019320"/>
            <a:ext cx="1743120" cy="2543400"/>
          </a:xfrm>
          <a:prstGeom prst="rect">
            <a:avLst/>
          </a:prstGeom>
          <a:ln w="0">
            <a:noFill/>
          </a:ln>
        </p:spPr>
      </p:pic>
      <p:pic>
        <p:nvPicPr>
          <p:cNvPr id="51" name="Picture 23" descr="5051.JPG"/>
          <p:cNvPicPr/>
          <p:nvPr/>
        </p:nvPicPr>
        <p:blipFill>
          <a:blip r:embed="rId3"/>
          <a:stretch/>
        </p:blipFill>
        <p:spPr>
          <a:xfrm>
            <a:off x="6095880" y="4129200"/>
            <a:ext cx="2514600" cy="1662120"/>
          </a:xfrm>
          <a:prstGeom prst="rect">
            <a:avLst/>
          </a:prstGeom>
          <a:ln w="0">
            <a:noFill/>
          </a:ln>
        </p:spPr>
      </p:pic>
      <p:sp>
        <p:nvSpPr>
          <p:cNvPr id="52" name="Freeform 1"/>
          <p:cNvSpPr/>
          <p:nvPr/>
        </p:nvSpPr>
        <p:spPr>
          <a:xfrm>
            <a:off x="457200" y="907920"/>
            <a:ext cx="158760" cy="317520"/>
          </a:xfrm>
          <a:custGeom>
            <a:avLst/>
            <a:gdLst>
              <a:gd name="textAreaLeft" fmla="*/ 0 w 158760"/>
              <a:gd name="textAreaRight" fmla="*/ 159120 w 158760"/>
              <a:gd name="textAreaTop" fmla="*/ 0 h 317520"/>
              <a:gd name="textAreaBottom" fmla="*/ 317520 h 317520"/>
            </a:gdLst>
            <a:ahLst/>
            <a:rect l="textAreaLeft" t="textAreaTop" r="textAreaRight" b="textAreaBottom"/>
            <a:pathLst>
              <a:path w="158751" h="317501">
                <a:moveTo>
                  <a:pt x="0" y="0"/>
                </a:moveTo>
                <a:lnTo>
                  <a:pt x="0" y="0"/>
                </a:lnTo>
                <a:lnTo>
                  <a:pt x="0" y="0"/>
                </a:lnTo>
                <a:lnTo>
                  <a:pt x="0" y="0"/>
                </a:lnTo>
                <a:lnTo>
                  <a:pt x="0" y="0"/>
                </a:lnTo>
                <a:lnTo>
                  <a:pt x="0" y="0"/>
                </a:lnTo>
                <a:lnTo>
                  <a:pt x="6350" y="0"/>
                </a:lnTo>
                <a:lnTo>
                  <a:pt x="6350" y="0"/>
                </a:lnTo>
                <a:lnTo>
                  <a:pt x="6350" y="0"/>
                </a:lnTo>
                <a:lnTo>
                  <a:pt x="6350" y="6350"/>
                </a:lnTo>
                <a:lnTo>
                  <a:pt x="6350" y="6350"/>
                </a:lnTo>
                <a:lnTo>
                  <a:pt x="12700" y="6350"/>
                </a:lnTo>
                <a:lnTo>
                  <a:pt x="19050" y="6350"/>
                </a:lnTo>
                <a:lnTo>
                  <a:pt x="12700" y="12700"/>
                </a:lnTo>
                <a:lnTo>
                  <a:pt x="19050" y="19050"/>
                </a:lnTo>
                <a:lnTo>
                  <a:pt x="19050" y="19050"/>
                </a:lnTo>
                <a:lnTo>
                  <a:pt x="19050" y="25400"/>
                </a:lnTo>
                <a:lnTo>
                  <a:pt x="19050" y="31750"/>
                </a:lnTo>
                <a:lnTo>
                  <a:pt x="25400" y="44450"/>
                </a:lnTo>
                <a:lnTo>
                  <a:pt x="31750" y="50800"/>
                </a:lnTo>
                <a:lnTo>
                  <a:pt x="31750" y="63500"/>
                </a:lnTo>
                <a:lnTo>
                  <a:pt x="38100" y="76200"/>
                </a:lnTo>
                <a:lnTo>
                  <a:pt x="44450" y="88900"/>
                </a:lnTo>
                <a:lnTo>
                  <a:pt x="50800" y="101600"/>
                </a:lnTo>
                <a:lnTo>
                  <a:pt x="57150" y="120650"/>
                </a:lnTo>
                <a:lnTo>
                  <a:pt x="63500" y="133350"/>
                </a:lnTo>
                <a:lnTo>
                  <a:pt x="69850" y="146050"/>
                </a:lnTo>
                <a:lnTo>
                  <a:pt x="82550" y="165100"/>
                </a:lnTo>
                <a:lnTo>
                  <a:pt x="88900" y="177800"/>
                </a:lnTo>
                <a:lnTo>
                  <a:pt x="95250" y="190500"/>
                </a:lnTo>
                <a:lnTo>
                  <a:pt x="101600" y="203200"/>
                </a:lnTo>
                <a:lnTo>
                  <a:pt x="107950" y="215900"/>
                </a:lnTo>
                <a:lnTo>
                  <a:pt x="114300" y="234950"/>
                </a:lnTo>
                <a:lnTo>
                  <a:pt x="114300" y="241300"/>
                </a:lnTo>
                <a:lnTo>
                  <a:pt x="120650" y="254000"/>
                </a:lnTo>
                <a:lnTo>
                  <a:pt x="127000" y="266700"/>
                </a:lnTo>
                <a:lnTo>
                  <a:pt x="133350" y="273050"/>
                </a:lnTo>
                <a:lnTo>
                  <a:pt x="139700" y="279400"/>
                </a:lnTo>
                <a:lnTo>
                  <a:pt x="146050" y="285750"/>
                </a:lnTo>
                <a:lnTo>
                  <a:pt x="152400" y="298450"/>
                </a:lnTo>
                <a:lnTo>
                  <a:pt x="152400" y="298450"/>
                </a:lnTo>
                <a:lnTo>
                  <a:pt x="158750" y="304800"/>
                </a:lnTo>
                <a:lnTo>
                  <a:pt x="158750" y="311150"/>
                </a:lnTo>
                <a:lnTo>
                  <a:pt x="158750" y="317500"/>
                </a:lnTo>
                <a:lnTo>
                  <a:pt x="158750" y="317500"/>
                </a:lnTo>
                <a:lnTo>
                  <a:pt x="158750" y="317500"/>
                </a:lnTo>
                <a:lnTo>
                  <a:pt x="158750" y="317500"/>
                </a:lnTo>
                <a:lnTo>
                  <a:pt x="158750" y="3175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53" name="Freeform 2"/>
          <p:cNvSpPr/>
          <p:nvPr/>
        </p:nvSpPr>
        <p:spPr>
          <a:xfrm>
            <a:off x="450720" y="743040"/>
            <a:ext cx="578160" cy="336600"/>
          </a:xfrm>
          <a:custGeom>
            <a:avLst/>
            <a:gdLst>
              <a:gd name="textAreaLeft" fmla="*/ 0 w 578160"/>
              <a:gd name="textAreaRight" fmla="*/ 578520 w 578160"/>
              <a:gd name="textAreaTop" fmla="*/ 0 h 336600"/>
              <a:gd name="textAreaBottom" fmla="*/ 336600 h 336600"/>
            </a:gdLst>
            <a:ahLst/>
            <a:rect l="textAreaLeft" t="textAreaTop" r="textAreaRight" b="textAreaBottom"/>
            <a:pathLst>
              <a:path w="577851" h="336551">
                <a:moveTo>
                  <a:pt x="0" y="165100"/>
                </a:moveTo>
                <a:lnTo>
                  <a:pt x="0" y="165100"/>
                </a:lnTo>
                <a:lnTo>
                  <a:pt x="0" y="165100"/>
                </a:lnTo>
                <a:lnTo>
                  <a:pt x="0" y="158750"/>
                </a:lnTo>
                <a:lnTo>
                  <a:pt x="0" y="158750"/>
                </a:lnTo>
                <a:lnTo>
                  <a:pt x="0" y="158750"/>
                </a:lnTo>
                <a:lnTo>
                  <a:pt x="6350" y="158750"/>
                </a:lnTo>
                <a:lnTo>
                  <a:pt x="6350" y="158750"/>
                </a:lnTo>
                <a:lnTo>
                  <a:pt x="6350" y="158750"/>
                </a:lnTo>
                <a:lnTo>
                  <a:pt x="6350" y="158750"/>
                </a:lnTo>
                <a:lnTo>
                  <a:pt x="12700" y="158750"/>
                </a:lnTo>
                <a:lnTo>
                  <a:pt x="12700" y="158750"/>
                </a:lnTo>
                <a:lnTo>
                  <a:pt x="19050" y="158750"/>
                </a:lnTo>
                <a:lnTo>
                  <a:pt x="19050" y="152400"/>
                </a:lnTo>
                <a:lnTo>
                  <a:pt x="25400" y="152400"/>
                </a:lnTo>
                <a:lnTo>
                  <a:pt x="25400" y="152400"/>
                </a:lnTo>
                <a:lnTo>
                  <a:pt x="25400" y="152400"/>
                </a:lnTo>
                <a:lnTo>
                  <a:pt x="31750" y="152400"/>
                </a:lnTo>
                <a:lnTo>
                  <a:pt x="38100" y="158750"/>
                </a:lnTo>
                <a:lnTo>
                  <a:pt x="38100" y="158750"/>
                </a:lnTo>
                <a:lnTo>
                  <a:pt x="44450" y="158750"/>
                </a:lnTo>
                <a:lnTo>
                  <a:pt x="50800" y="165100"/>
                </a:lnTo>
                <a:lnTo>
                  <a:pt x="57150" y="165100"/>
                </a:lnTo>
                <a:lnTo>
                  <a:pt x="63500" y="165100"/>
                </a:lnTo>
                <a:lnTo>
                  <a:pt x="69850" y="171450"/>
                </a:lnTo>
                <a:lnTo>
                  <a:pt x="76200" y="177800"/>
                </a:lnTo>
                <a:lnTo>
                  <a:pt x="82550" y="184150"/>
                </a:lnTo>
                <a:lnTo>
                  <a:pt x="95250" y="190500"/>
                </a:lnTo>
                <a:lnTo>
                  <a:pt x="107950" y="190500"/>
                </a:lnTo>
                <a:lnTo>
                  <a:pt x="114300" y="196850"/>
                </a:lnTo>
                <a:lnTo>
                  <a:pt x="127000" y="209550"/>
                </a:lnTo>
                <a:lnTo>
                  <a:pt x="139700" y="215900"/>
                </a:lnTo>
                <a:lnTo>
                  <a:pt x="152400" y="222250"/>
                </a:lnTo>
                <a:lnTo>
                  <a:pt x="165100" y="228600"/>
                </a:lnTo>
                <a:lnTo>
                  <a:pt x="177800" y="234950"/>
                </a:lnTo>
                <a:lnTo>
                  <a:pt x="190500" y="241300"/>
                </a:lnTo>
                <a:lnTo>
                  <a:pt x="203200" y="247650"/>
                </a:lnTo>
                <a:lnTo>
                  <a:pt x="215900" y="254000"/>
                </a:lnTo>
                <a:lnTo>
                  <a:pt x="228600" y="260350"/>
                </a:lnTo>
                <a:lnTo>
                  <a:pt x="241300" y="266700"/>
                </a:lnTo>
                <a:lnTo>
                  <a:pt x="247650" y="273050"/>
                </a:lnTo>
                <a:lnTo>
                  <a:pt x="260350" y="279400"/>
                </a:lnTo>
                <a:lnTo>
                  <a:pt x="266700" y="279400"/>
                </a:lnTo>
                <a:lnTo>
                  <a:pt x="279400" y="285750"/>
                </a:lnTo>
                <a:lnTo>
                  <a:pt x="285750" y="285750"/>
                </a:lnTo>
                <a:lnTo>
                  <a:pt x="292100" y="292100"/>
                </a:lnTo>
                <a:lnTo>
                  <a:pt x="298450" y="292100"/>
                </a:lnTo>
                <a:lnTo>
                  <a:pt x="304800" y="292100"/>
                </a:lnTo>
                <a:lnTo>
                  <a:pt x="311150" y="292100"/>
                </a:lnTo>
                <a:lnTo>
                  <a:pt x="317500" y="292100"/>
                </a:lnTo>
                <a:lnTo>
                  <a:pt x="317500" y="292100"/>
                </a:lnTo>
                <a:lnTo>
                  <a:pt x="323850" y="285750"/>
                </a:lnTo>
                <a:lnTo>
                  <a:pt x="323850" y="285750"/>
                </a:lnTo>
                <a:lnTo>
                  <a:pt x="330200" y="279400"/>
                </a:lnTo>
                <a:lnTo>
                  <a:pt x="330200" y="279400"/>
                </a:lnTo>
                <a:lnTo>
                  <a:pt x="330200" y="273050"/>
                </a:lnTo>
                <a:lnTo>
                  <a:pt x="330200" y="266700"/>
                </a:lnTo>
                <a:lnTo>
                  <a:pt x="336550" y="260350"/>
                </a:lnTo>
                <a:lnTo>
                  <a:pt x="336550" y="247650"/>
                </a:lnTo>
                <a:lnTo>
                  <a:pt x="336550" y="241300"/>
                </a:lnTo>
                <a:lnTo>
                  <a:pt x="330200" y="228600"/>
                </a:lnTo>
                <a:lnTo>
                  <a:pt x="330200" y="222250"/>
                </a:lnTo>
                <a:lnTo>
                  <a:pt x="330200" y="209550"/>
                </a:lnTo>
                <a:lnTo>
                  <a:pt x="330200" y="196850"/>
                </a:lnTo>
                <a:lnTo>
                  <a:pt x="330200" y="184150"/>
                </a:lnTo>
                <a:lnTo>
                  <a:pt x="330200" y="177800"/>
                </a:lnTo>
                <a:lnTo>
                  <a:pt x="330200" y="165100"/>
                </a:lnTo>
                <a:lnTo>
                  <a:pt x="330200" y="152400"/>
                </a:lnTo>
                <a:lnTo>
                  <a:pt x="330200" y="139700"/>
                </a:lnTo>
                <a:lnTo>
                  <a:pt x="330200" y="127000"/>
                </a:lnTo>
                <a:lnTo>
                  <a:pt x="330200" y="114300"/>
                </a:lnTo>
                <a:lnTo>
                  <a:pt x="330200" y="101600"/>
                </a:lnTo>
                <a:lnTo>
                  <a:pt x="330200" y="88900"/>
                </a:lnTo>
                <a:lnTo>
                  <a:pt x="330200" y="76200"/>
                </a:lnTo>
                <a:lnTo>
                  <a:pt x="330200" y="63500"/>
                </a:lnTo>
                <a:lnTo>
                  <a:pt x="330200" y="50800"/>
                </a:lnTo>
                <a:lnTo>
                  <a:pt x="330200" y="44450"/>
                </a:lnTo>
                <a:lnTo>
                  <a:pt x="330200" y="31750"/>
                </a:lnTo>
                <a:lnTo>
                  <a:pt x="330200" y="25400"/>
                </a:lnTo>
                <a:lnTo>
                  <a:pt x="330200" y="19050"/>
                </a:lnTo>
                <a:lnTo>
                  <a:pt x="330200" y="12700"/>
                </a:lnTo>
                <a:lnTo>
                  <a:pt x="330200" y="6350"/>
                </a:lnTo>
                <a:lnTo>
                  <a:pt x="330200" y="6350"/>
                </a:lnTo>
                <a:lnTo>
                  <a:pt x="330200" y="6350"/>
                </a:lnTo>
                <a:lnTo>
                  <a:pt x="330200" y="0"/>
                </a:lnTo>
                <a:lnTo>
                  <a:pt x="330200" y="0"/>
                </a:lnTo>
                <a:lnTo>
                  <a:pt x="330200" y="0"/>
                </a:lnTo>
                <a:lnTo>
                  <a:pt x="330200" y="0"/>
                </a:lnTo>
                <a:lnTo>
                  <a:pt x="330200" y="0"/>
                </a:lnTo>
                <a:lnTo>
                  <a:pt x="336550" y="0"/>
                </a:lnTo>
                <a:lnTo>
                  <a:pt x="336550" y="6350"/>
                </a:lnTo>
                <a:lnTo>
                  <a:pt x="336550" y="6350"/>
                </a:lnTo>
                <a:lnTo>
                  <a:pt x="342900" y="12700"/>
                </a:lnTo>
                <a:lnTo>
                  <a:pt x="342900" y="12700"/>
                </a:lnTo>
                <a:lnTo>
                  <a:pt x="349250" y="25400"/>
                </a:lnTo>
                <a:lnTo>
                  <a:pt x="355600" y="31750"/>
                </a:lnTo>
                <a:lnTo>
                  <a:pt x="355600" y="38100"/>
                </a:lnTo>
                <a:lnTo>
                  <a:pt x="361950" y="44450"/>
                </a:lnTo>
                <a:lnTo>
                  <a:pt x="368300" y="57150"/>
                </a:lnTo>
                <a:lnTo>
                  <a:pt x="374650" y="69850"/>
                </a:lnTo>
                <a:lnTo>
                  <a:pt x="381000" y="76200"/>
                </a:lnTo>
                <a:lnTo>
                  <a:pt x="387350" y="88900"/>
                </a:lnTo>
                <a:lnTo>
                  <a:pt x="393700" y="101600"/>
                </a:lnTo>
                <a:lnTo>
                  <a:pt x="400050" y="114300"/>
                </a:lnTo>
                <a:lnTo>
                  <a:pt x="406400" y="127000"/>
                </a:lnTo>
                <a:lnTo>
                  <a:pt x="419100" y="139700"/>
                </a:lnTo>
                <a:lnTo>
                  <a:pt x="425450" y="152400"/>
                </a:lnTo>
                <a:lnTo>
                  <a:pt x="438150" y="165100"/>
                </a:lnTo>
                <a:lnTo>
                  <a:pt x="444500" y="177800"/>
                </a:lnTo>
                <a:lnTo>
                  <a:pt x="450850" y="190500"/>
                </a:lnTo>
                <a:lnTo>
                  <a:pt x="463550" y="196850"/>
                </a:lnTo>
                <a:lnTo>
                  <a:pt x="476250" y="209550"/>
                </a:lnTo>
                <a:lnTo>
                  <a:pt x="482600" y="222250"/>
                </a:lnTo>
                <a:lnTo>
                  <a:pt x="488950" y="234950"/>
                </a:lnTo>
                <a:lnTo>
                  <a:pt x="501650" y="247650"/>
                </a:lnTo>
                <a:lnTo>
                  <a:pt x="508000" y="254000"/>
                </a:lnTo>
                <a:lnTo>
                  <a:pt x="514350" y="266700"/>
                </a:lnTo>
                <a:lnTo>
                  <a:pt x="520700" y="279400"/>
                </a:lnTo>
                <a:lnTo>
                  <a:pt x="527050" y="285750"/>
                </a:lnTo>
                <a:lnTo>
                  <a:pt x="533400" y="298450"/>
                </a:lnTo>
                <a:lnTo>
                  <a:pt x="539750" y="304800"/>
                </a:lnTo>
                <a:lnTo>
                  <a:pt x="546100" y="311150"/>
                </a:lnTo>
                <a:lnTo>
                  <a:pt x="552450" y="317500"/>
                </a:lnTo>
                <a:lnTo>
                  <a:pt x="558800" y="323850"/>
                </a:lnTo>
                <a:lnTo>
                  <a:pt x="558800" y="330200"/>
                </a:lnTo>
                <a:lnTo>
                  <a:pt x="565150" y="336550"/>
                </a:lnTo>
                <a:lnTo>
                  <a:pt x="571500" y="336550"/>
                </a:lnTo>
                <a:lnTo>
                  <a:pt x="577850" y="336550"/>
                </a:lnTo>
                <a:lnTo>
                  <a:pt x="577850" y="336550"/>
                </a:lnTo>
                <a:lnTo>
                  <a:pt x="577850" y="336550"/>
                </a:lnTo>
                <a:lnTo>
                  <a:pt x="577850" y="336550"/>
                </a:lnTo>
                <a:lnTo>
                  <a:pt x="577850" y="336550"/>
                </a:lnTo>
                <a:lnTo>
                  <a:pt x="577850" y="336550"/>
                </a:lnTo>
                <a:lnTo>
                  <a:pt x="577850" y="336550"/>
                </a:lnTo>
                <a:lnTo>
                  <a:pt x="577850" y="3365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54" name="Freeform 3"/>
          <p:cNvSpPr/>
          <p:nvPr/>
        </p:nvSpPr>
        <p:spPr>
          <a:xfrm>
            <a:off x="1022400" y="857160"/>
            <a:ext cx="361800" cy="196920"/>
          </a:xfrm>
          <a:custGeom>
            <a:avLst/>
            <a:gdLst>
              <a:gd name="textAreaLeft" fmla="*/ 0 w 361800"/>
              <a:gd name="textAreaRight" fmla="*/ 362160 w 361800"/>
              <a:gd name="textAreaTop" fmla="*/ 0 h 196920"/>
              <a:gd name="textAreaBottom" fmla="*/ 197280 h 196920"/>
            </a:gdLst>
            <a:ahLst/>
            <a:rect l="textAreaLeft" t="textAreaTop" r="textAreaRight" b="textAreaBottom"/>
            <a:pathLst>
              <a:path w="361951" h="196851">
                <a:moveTo>
                  <a:pt x="0" y="69850"/>
                </a:moveTo>
                <a:lnTo>
                  <a:pt x="0" y="69850"/>
                </a:lnTo>
                <a:lnTo>
                  <a:pt x="0" y="69850"/>
                </a:lnTo>
                <a:lnTo>
                  <a:pt x="0" y="69850"/>
                </a:lnTo>
                <a:lnTo>
                  <a:pt x="0" y="69850"/>
                </a:lnTo>
                <a:lnTo>
                  <a:pt x="0" y="69850"/>
                </a:lnTo>
                <a:lnTo>
                  <a:pt x="0" y="63500"/>
                </a:lnTo>
                <a:lnTo>
                  <a:pt x="6350" y="57150"/>
                </a:lnTo>
                <a:lnTo>
                  <a:pt x="6350" y="50800"/>
                </a:lnTo>
                <a:lnTo>
                  <a:pt x="12700" y="44450"/>
                </a:lnTo>
                <a:lnTo>
                  <a:pt x="19050" y="38100"/>
                </a:lnTo>
                <a:lnTo>
                  <a:pt x="31750" y="31750"/>
                </a:lnTo>
                <a:lnTo>
                  <a:pt x="38100" y="25400"/>
                </a:lnTo>
                <a:lnTo>
                  <a:pt x="50800" y="19050"/>
                </a:lnTo>
                <a:lnTo>
                  <a:pt x="63500" y="12700"/>
                </a:lnTo>
                <a:lnTo>
                  <a:pt x="69850" y="12700"/>
                </a:lnTo>
                <a:lnTo>
                  <a:pt x="82550" y="6350"/>
                </a:lnTo>
                <a:lnTo>
                  <a:pt x="101600" y="0"/>
                </a:lnTo>
                <a:lnTo>
                  <a:pt x="114300" y="0"/>
                </a:lnTo>
                <a:lnTo>
                  <a:pt x="127000" y="0"/>
                </a:lnTo>
                <a:lnTo>
                  <a:pt x="146050" y="0"/>
                </a:lnTo>
                <a:lnTo>
                  <a:pt x="158750" y="0"/>
                </a:lnTo>
                <a:lnTo>
                  <a:pt x="177800" y="0"/>
                </a:lnTo>
                <a:lnTo>
                  <a:pt x="190500" y="6350"/>
                </a:lnTo>
                <a:lnTo>
                  <a:pt x="209550" y="6350"/>
                </a:lnTo>
                <a:lnTo>
                  <a:pt x="222250" y="12700"/>
                </a:lnTo>
                <a:lnTo>
                  <a:pt x="234950" y="19050"/>
                </a:lnTo>
                <a:lnTo>
                  <a:pt x="254000" y="25400"/>
                </a:lnTo>
                <a:lnTo>
                  <a:pt x="260350" y="38100"/>
                </a:lnTo>
                <a:lnTo>
                  <a:pt x="273050" y="44450"/>
                </a:lnTo>
                <a:lnTo>
                  <a:pt x="285750" y="50800"/>
                </a:lnTo>
                <a:lnTo>
                  <a:pt x="298450" y="57150"/>
                </a:lnTo>
                <a:lnTo>
                  <a:pt x="304800" y="63500"/>
                </a:lnTo>
                <a:lnTo>
                  <a:pt x="311150" y="69850"/>
                </a:lnTo>
                <a:lnTo>
                  <a:pt x="317500" y="76200"/>
                </a:lnTo>
                <a:lnTo>
                  <a:pt x="323850" y="82550"/>
                </a:lnTo>
                <a:lnTo>
                  <a:pt x="323850" y="82550"/>
                </a:lnTo>
                <a:lnTo>
                  <a:pt x="330200" y="88900"/>
                </a:lnTo>
                <a:lnTo>
                  <a:pt x="330200" y="88900"/>
                </a:lnTo>
                <a:lnTo>
                  <a:pt x="330200" y="95250"/>
                </a:lnTo>
                <a:lnTo>
                  <a:pt x="330200" y="95250"/>
                </a:lnTo>
                <a:lnTo>
                  <a:pt x="330200" y="95250"/>
                </a:lnTo>
                <a:lnTo>
                  <a:pt x="330200" y="95250"/>
                </a:lnTo>
                <a:lnTo>
                  <a:pt x="330200" y="95250"/>
                </a:lnTo>
                <a:lnTo>
                  <a:pt x="323850" y="88900"/>
                </a:lnTo>
                <a:lnTo>
                  <a:pt x="317500" y="88900"/>
                </a:lnTo>
                <a:lnTo>
                  <a:pt x="311150" y="82550"/>
                </a:lnTo>
                <a:lnTo>
                  <a:pt x="298450" y="82550"/>
                </a:lnTo>
                <a:lnTo>
                  <a:pt x="285750" y="76200"/>
                </a:lnTo>
                <a:lnTo>
                  <a:pt x="279400" y="76200"/>
                </a:lnTo>
                <a:lnTo>
                  <a:pt x="266700" y="76200"/>
                </a:lnTo>
                <a:lnTo>
                  <a:pt x="254000" y="69850"/>
                </a:lnTo>
                <a:lnTo>
                  <a:pt x="241300" y="69850"/>
                </a:lnTo>
                <a:lnTo>
                  <a:pt x="222250" y="76200"/>
                </a:lnTo>
                <a:lnTo>
                  <a:pt x="215900" y="76200"/>
                </a:lnTo>
                <a:lnTo>
                  <a:pt x="196850" y="82550"/>
                </a:lnTo>
                <a:lnTo>
                  <a:pt x="184150" y="88900"/>
                </a:lnTo>
                <a:lnTo>
                  <a:pt x="171450" y="95250"/>
                </a:lnTo>
                <a:lnTo>
                  <a:pt x="158750" y="101600"/>
                </a:lnTo>
                <a:lnTo>
                  <a:pt x="146050" y="107950"/>
                </a:lnTo>
                <a:lnTo>
                  <a:pt x="133350" y="114300"/>
                </a:lnTo>
                <a:lnTo>
                  <a:pt x="127000" y="127000"/>
                </a:lnTo>
                <a:lnTo>
                  <a:pt x="120650" y="133350"/>
                </a:lnTo>
                <a:lnTo>
                  <a:pt x="114300" y="139700"/>
                </a:lnTo>
                <a:lnTo>
                  <a:pt x="107950" y="152400"/>
                </a:lnTo>
                <a:lnTo>
                  <a:pt x="107950" y="158750"/>
                </a:lnTo>
                <a:lnTo>
                  <a:pt x="107950" y="165100"/>
                </a:lnTo>
                <a:lnTo>
                  <a:pt x="107950" y="171450"/>
                </a:lnTo>
                <a:lnTo>
                  <a:pt x="107950" y="177800"/>
                </a:lnTo>
                <a:lnTo>
                  <a:pt x="114300" y="184150"/>
                </a:lnTo>
                <a:lnTo>
                  <a:pt x="120650" y="184150"/>
                </a:lnTo>
                <a:lnTo>
                  <a:pt x="120650" y="190500"/>
                </a:lnTo>
                <a:lnTo>
                  <a:pt x="133350" y="190500"/>
                </a:lnTo>
                <a:lnTo>
                  <a:pt x="139700" y="196850"/>
                </a:lnTo>
                <a:lnTo>
                  <a:pt x="152400" y="196850"/>
                </a:lnTo>
                <a:lnTo>
                  <a:pt x="165100" y="190500"/>
                </a:lnTo>
                <a:lnTo>
                  <a:pt x="177800" y="190500"/>
                </a:lnTo>
                <a:lnTo>
                  <a:pt x="190500" y="190500"/>
                </a:lnTo>
                <a:lnTo>
                  <a:pt x="203200" y="184150"/>
                </a:lnTo>
                <a:lnTo>
                  <a:pt x="215900" y="177800"/>
                </a:lnTo>
                <a:lnTo>
                  <a:pt x="234950" y="171450"/>
                </a:lnTo>
                <a:lnTo>
                  <a:pt x="247650" y="165100"/>
                </a:lnTo>
                <a:lnTo>
                  <a:pt x="260350" y="158750"/>
                </a:lnTo>
                <a:lnTo>
                  <a:pt x="279400" y="146050"/>
                </a:lnTo>
                <a:lnTo>
                  <a:pt x="292100" y="146050"/>
                </a:lnTo>
                <a:lnTo>
                  <a:pt x="304800" y="139700"/>
                </a:lnTo>
                <a:lnTo>
                  <a:pt x="317500" y="133350"/>
                </a:lnTo>
                <a:lnTo>
                  <a:pt x="323850" y="133350"/>
                </a:lnTo>
                <a:lnTo>
                  <a:pt x="336550" y="127000"/>
                </a:lnTo>
                <a:lnTo>
                  <a:pt x="342900" y="127000"/>
                </a:lnTo>
                <a:lnTo>
                  <a:pt x="349250" y="127000"/>
                </a:lnTo>
                <a:lnTo>
                  <a:pt x="355600" y="127000"/>
                </a:lnTo>
                <a:lnTo>
                  <a:pt x="355600" y="120650"/>
                </a:lnTo>
                <a:lnTo>
                  <a:pt x="361950" y="120650"/>
                </a:lnTo>
                <a:lnTo>
                  <a:pt x="361950" y="120650"/>
                </a:lnTo>
                <a:lnTo>
                  <a:pt x="361950" y="120650"/>
                </a:lnTo>
                <a:lnTo>
                  <a:pt x="361950" y="1206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55" name="Freeform 4"/>
          <p:cNvSpPr/>
          <p:nvPr/>
        </p:nvSpPr>
        <p:spPr>
          <a:xfrm>
            <a:off x="1415880" y="730080"/>
            <a:ext cx="216000" cy="235080"/>
          </a:xfrm>
          <a:custGeom>
            <a:avLst/>
            <a:gdLst>
              <a:gd name="textAreaLeft" fmla="*/ 0 w 216000"/>
              <a:gd name="textAreaRight" fmla="*/ 216360 w 216000"/>
              <a:gd name="textAreaTop" fmla="*/ 0 h 235080"/>
              <a:gd name="textAreaBottom" fmla="*/ 235440 h 235080"/>
            </a:gdLst>
            <a:ahLst/>
            <a:rect l="textAreaLeft" t="textAreaTop" r="textAreaRight" b="textAreaBottom"/>
            <a:pathLst>
              <a:path w="215901" h="234951">
                <a:moveTo>
                  <a:pt x="0" y="57150"/>
                </a:moveTo>
                <a:lnTo>
                  <a:pt x="0" y="57150"/>
                </a:lnTo>
                <a:lnTo>
                  <a:pt x="0" y="57150"/>
                </a:lnTo>
                <a:lnTo>
                  <a:pt x="0" y="57150"/>
                </a:lnTo>
                <a:lnTo>
                  <a:pt x="0" y="57150"/>
                </a:lnTo>
                <a:lnTo>
                  <a:pt x="6350" y="57150"/>
                </a:lnTo>
                <a:lnTo>
                  <a:pt x="6350" y="57150"/>
                </a:lnTo>
                <a:lnTo>
                  <a:pt x="6350" y="63500"/>
                </a:lnTo>
                <a:lnTo>
                  <a:pt x="12700" y="63500"/>
                </a:lnTo>
                <a:lnTo>
                  <a:pt x="12700" y="69850"/>
                </a:lnTo>
                <a:lnTo>
                  <a:pt x="19050" y="69850"/>
                </a:lnTo>
                <a:lnTo>
                  <a:pt x="19050" y="76200"/>
                </a:lnTo>
                <a:lnTo>
                  <a:pt x="25400" y="82550"/>
                </a:lnTo>
                <a:lnTo>
                  <a:pt x="31750" y="95250"/>
                </a:lnTo>
                <a:lnTo>
                  <a:pt x="31750" y="101600"/>
                </a:lnTo>
                <a:lnTo>
                  <a:pt x="38100" y="114300"/>
                </a:lnTo>
                <a:lnTo>
                  <a:pt x="44450" y="133350"/>
                </a:lnTo>
                <a:lnTo>
                  <a:pt x="44450" y="146050"/>
                </a:lnTo>
                <a:lnTo>
                  <a:pt x="50800" y="158750"/>
                </a:lnTo>
                <a:lnTo>
                  <a:pt x="57150" y="171450"/>
                </a:lnTo>
                <a:lnTo>
                  <a:pt x="63500" y="184150"/>
                </a:lnTo>
                <a:lnTo>
                  <a:pt x="69850" y="196850"/>
                </a:lnTo>
                <a:lnTo>
                  <a:pt x="76200" y="203200"/>
                </a:lnTo>
                <a:lnTo>
                  <a:pt x="82550" y="209550"/>
                </a:lnTo>
                <a:lnTo>
                  <a:pt x="88900" y="222250"/>
                </a:lnTo>
                <a:lnTo>
                  <a:pt x="95250" y="228600"/>
                </a:lnTo>
                <a:lnTo>
                  <a:pt x="101600" y="228600"/>
                </a:lnTo>
                <a:lnTo>
                  <a:pt x="101600" y="234950"/>
                </a:lnTo>
                <a:lnTo>
                  <a:pt x="107950" y="234950"/>
                </a:lnTo>
                <a:lnTo>
                  <a:pt x="107950" y="234950"/>
                </a:lnTo>
                <a:lnTo>
                  <a:pt x="107950" y="234950"/>
                </a:lnTo>
                <a:lnTo>
                  <a:pt x="107950" y="234950"/>
                </a:lnTo>
                <a:lnTo>
                  <a:pt x="107950" y="234950"/>
                </a:lnTo>
                <a:lnTo>
                  <a:pt x="107950" y="234950"/>
                </a:lnTo>
                <a:lnTo>
                  <a:pt x="101600" y="228600"/>
                </a:lnTo>
                <a:lnTo>
                  <a:pt x="95250" y="222250"/>
                </a:lnTo>
                <a:lnTo>
                  <a:pt x="88900" y="215900"/>
                </a:lnTo>
                <a:lnTo>
                  <a:pt x="82550" y="203200"/>
                </a:lnTo>
                <a:lnTo>
                  <a:pt x="76200" y="196850"/>
                </a:lnTo>
                <a:lnTo>
                  <a:pt x="69850" y="184150"/>
                </a:lnTo>
                <a:lnTo>
                  <a:pt x="63500" y="171450"/>
                </a:lnTo>
                <a:lnTo>
                  <a:pt x="57150" y="165100"/>
                </a:lnTo>
                <a:lnTo>
                  <a:pt x="57150" y="152400"/>
                </a:lnTo>
                <a:lnTo>
                  <a:pt x="57150" y="139700"/>
                </a:lnTo>
                <a:lnTo>
                  <a:pt x="57150" y="133350"/>
                </a:lnTo>
                <a:lnTo>
                  <a:pt x="57150" y="114300"/>
                </a:lnTo>
                <a:lnTo>
                  <a:pt x="57150" y="107950"/>
                </a:lnTo>
                <a:lnTo>
                  <a:pt x="63500" y="95250"/>
                </a:lnTo>
                <a:lnTo>
                  <a:pt x="76200" y="82550"/>
                </a:lnTo>
                <a:lnTo>
                  <a:pt x="82550" y="69850"/>
                </a:lnTo>
                <a:lnTo>
                  <a:pt x="95250" y="57150"/>
                </a:lnTo>
                <a:lnTo>
                  <a:pt x="107950" y="50800"/>
                </a:lnTo>
                <a:lnTo>
                  <a:pt x="120650" y="38100"/>
                </a:lnTo>
                <a:lnTo>
                  <a:pt x="133350" y="31750"/>
                </a:lnTo>
                <a:lnTo>
                  <a:pt x="152400" y="25400"/>
                </a:lnTo>
                <a:lnTo>
                  <a:pt x="165100" y="19050"/>
                </a:lnTo>
                <a:lnTo>
                  <a:pt x="177800" y="12700"/>
                </a:lnTo>
                <a:lnTo>
                  <a:pt x="190500" y="6350"/>
                </a:lnTo>
                <a:lnTo>
                  <a:pt x="203200" y="6350"/>
                </a:lnTo>
                <a:lnTo>
                  <a:pt x="209550" y="6350"/>
                </a:lnTo>
                <a:lnTo>
                  <a:pt x="209550" y="6350"/>
                </a:lnTo>
                <a:lnTo>
                  <a:pt x="215900" y="0"/>
                </a:lnTo>
                <a:lnTo>
                  <a:pt x="215900" y="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56" name="Freeform 5"/>
          <p:cNvSpPr/>
          <p:nvPr/>
        </p:nvSpPr>
        <p:spPr>
          <a:xfrm>
            <a:off x="1727280" y="685800"/>
            <a:ext cx="323640" cy="228600"/>
          </a:xfrm>
          <a:custGeom>
            <a:avLst/>
            <a:gdLst>
              <a:gd name="textAreaLeft" fmla="*/ 0 w 323640"/>
              <a:gd name="textAreaRight" fmla="*/ 324000 w 323640"/>
              <a:gd name="textAreaTop" fmla="*/ 0 h 228600"/>
              <a:gd name="textAreaBottom" fmla="*/ 228960 h 228600"/>
            </a:gdLst>
            <a:ahLst/>
            <a:rect l="textAreaLeft" t="textAreaTop" r="textAreaRight" b="textAreaBottom"/>
            <a:pathLst>
              <a:path w="323851" h="228601">
                <a:moveTo>
                  <a:pt x="215900" y="57150"/>
                </a:moveTo>
                <a:lnTo>
                  <a:pt x="215900" y="57150"/>
                </a:lnTo>
                <a:lnTo>
                  <a:pt x="215900" y="57150"/>
                </a:lnTo>
                <a:lnTo>
                  <a:pt x="215900" y="50800"/>
                </a:lnTo>
                <a:lnTo>
                  <a:pt x="222250" y="50800"/>
                </a:lnTo>
                <a:lnTo>
                  <a:pt x="222250" y="44450"/>
                </a:lnTo>
                <a:lnTo>
                  <a:pt x="215900" y="44450"/>
                </a:lnTo>
                <a:lnTo>
                  <a:pt x="215900" y="38100"/>
                </a:lnTo>
                <a:lnTo>
                  <a:pt x="215900" y="31750"/>
                </a:lnTo>
                <a:lnTo>
                  <a:pt x="209550" y="25400"/>
                </a:lnTo>
                <a:lnTo>
                  <a:pt x="203200" y="19050"/>
                </a:lnTo>
                <a:lnTo>
                  <a:pt x="196850" y="19050"/>
                </a:lnTo>
                <a:lnTo>
                  <a:pt x="190500" y="12700"/>
                </a:lnTo>
                <a:lnTo>
                  <a:pt x="177800" y="6350"/>
                </a:lnTo>
                <a:lnTo>
                  <a:pt x="171450" y="6350"/>
                </a:lnTo>
                <a:lnTo>
                  <a:pt x="158750" y="0"/>
                </a:lnTo>
                <a:lnTo>
                  <a:pt x="152400" y="0"/>
                </a:lnTo>
                <a:lnTo>
                  <a:pt x="139700" y="0"/>
                </a:lnTo>
                <a:lnTo>
                  <a:pt x="127000" y="0"/>
                </a:lnTo>
                <a:lnTo>
                  <a:pt x="114300" y="0"/>
                </a:lnTo>
                <a:lnTo>
                  <a:pt x="101600" y="0"/>
                </a:lnTo>
                <a:lnTo>
                  <a:pt x="88900" y="6350"/>
                </a:lnTo>
                <a:lnTo>
                  <a:pt x="76200" y="12700"/>
                </a:lnTo>
                <a:lnTo>
                  <a:pt x="63500" y="19050"/>
                </a:lnTo>
                <a:lnTo>
                  <a:pt x="50800" y="25400"/>
                </a:lnTo>
                <a:lnTo>
                  <a:pt x="38100" y="31750"/>
                </a:lnTo>
                <a:lnTo>
                  <a:pt x="31750" y="38100"/>
                </a:lnTo>
                <a:lnTo>
                  <a:pt x="19050" y="44450"/>
                </a:lnTo>
                <a:lnTo>
                  <a:pt x="12700" y="57150"/>
                </a:lnTo>
                <a:lnTo>
                  <a:pt x="6350" y="63500"/>
                </a:lnTo>
                <a:lnTo>
                  <a:pt x="0" y="69850"/>
                </a:lnTo>
                <a:lnTo>
                  <a:pt x="0" y="82550"/>
                </a:lnTo>
                <a:lnTo>
                  <a:pt x="0" y="95250"/>
                </a:lnTo>
                <a:lnTo>
                  <a:pt x="0" y="107950"/>
                </a:lnTo>
                <a:lnTo>
                  <a:pt x="6350" y="120650"/>
                </a:lnTo>
                <a:lnTo>
                  <a:pt x="12700" y="127000"/>
                </a:lnTo>
                <a:lnTo>
                  <a:pt x="19050" y="139700"/>
                </a:lnTo>
                <a:lnTo>
                  <a:pt x="25400" y="152400"/>
                </a:lnTo>
                <a:lnTo>
                  <a:pt x="31750" y="165100"/>
                </a:lnTo>
                <a:lnTo>
                  <a:pt x="44450" y="177800"/>
                </a:lnTo>
                <a:lnTo>
                  <a:pt x="63500" y="190500"/>
                </a:lnTo>
                <a:lnTo>
                  <a:pt x="76200" y="196850"/>
                </a:lnTo>
                <a:lnTo>
                  <a:pt x="95250" y="203200"/>
                </a:lnTo>
                <a:lnTo>
                  <a:pt x="107950" y="209550"/>
                </a:lnTo>
                <a:lnTo>
                  <a:pt x="127000" y="215900"/>
                </a:lnTo>
                <a:lnTo>
                  <a:pt x="146050" y="222250"/>
                </a:lnTo>
                <a:lnTo>
                  <a:pt x="165100" y="222250"/>
                </a:lnTo>
                <a:lnTo>
                  <a:pt x="177800" y="228600"/>
                </a:lnTo>
                <a:lnTo>
                  <a:pt x="196850" y="228600"/>
                </a:lnTo>
                <a:lnTo>
                  <a:pt x="215900" y="228600"/>
                </a:lnTo>
                <a:lnTo>
                  <a:pt x="228600" y="222250"/>
                </a:lnTo>
                <a:lnTo>
                  <a:pt x="247650" y="222250"/>
                </a:lnTo>
                <a:lnTo>
                  <a:pt x="260350" y="215900"/>
                </a:lnTo>
                <a:lnTo>
                  <a:pt x="279400" y="209550"/>
                </a:lnTo>
                <a:lnTo>
                  <a:pt x="292100" y="203200"/>
                </a:lnTo>
                <a:lnTo>
                  <a:pt x="298450" y="196850"/>
                </a:lnTo>
                <a:lnTo>
                  <a:pt x="311150" y="190500"/>
                </a:lnTo>
                <a:lnTo>
                  <a:pt x="317500" y="177800"/>
                </a:lnTo>
                <a:lnTo>
                  <a:pt x="317500" y="171450"/>
                </a:lnTo>
                <a:lnTo>
                  <a:pt x="323850" y="152400"/>
                </a:lnTo>
                <a:lnTo>
                  <a:pt x="323850" y="139700"/>
                </a:lnTo>
                <a:lnTo>
                  <a:pt x="323850" y="127000"/>
                </a:lnTo>
                <a:lnTo>
                  <a:pt x="323850" y="127000"/>
                </a:lnTo>
                <a:lnTo>
                  <a:pt x="323850" y="114300"/>
                </a:lnTo>
                <a:lnTo>
                  <a:pt x="323850" y="1143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57" name="Freeform 6"/>
          <p:cNvSpPr/>
          <p:nvPr/>
        </p:nvSpPr>
        <p:spPr>
          <a:xfrm>
            <a:off x="2057400" y="476280"/>
            <a:ext cx="520560" cy="355680"/>
          </a:xfrm>
          <a:custGeom>
            <a:avLst/>
            <a:gdLst>
              <a:gd name="textAreaLeft" fmla="*/ 0 w 520560"/>
              <a:gd name="textAreaRight" fmla="*/ 520920 w 520560"/>
              <a:gd name="textAreaTop" fmla="*/ 0 h 355680"/>
              <a:gd name="textAreaBottom" fmla="*/ 356040 h 355680"/>
            </a:gdLst>
            <a:ahLst/>
            <a:rect l="textAreaLeft" t="textAreaTop" r="textAreaRight" b="textAreaBottom"/>
            <a:pathLst>
              <a:path w="520701" h="355601">
                <a:moveTo>
                  <a:pt x="0" y="0"/>
                </a:moveTo>
                <a:lnTo>
                  <a:pt x="0" y="0"/>
                </a:lnTo>
                <a:lnTo>
                  <a:pt x="0" y="0"/>
                </a:lnTo>
                <a:lnTo>
                  <a:pt x="0" y="0"/>
                </a:lnTo>
                <a:lnTo>
                  <a:pt x="6350" y="0"/>
                </a:lnTo>
                <a:lnTo>
                  <a:pt x="12700" y="0"/>
                </a:lnTo>
                <a:lnTo>
                  <a:pt x="12700" y="0"/>
                </a:lnTo>
                <a:lnTo>
                  <a:pt x="19050" y="0"/>
                </a:lnTo>
                <a:lnTo>
                  <a:pt x="19050" y="6350"/>
                </a:lnTo>
                <a:lnTo>
                  <a:pt x="25400" y="6350"/>
                </a:lnTo>
                <a:lnTo>
                  <a:pt x="31750" y="12700"/>
                </a:lnTo>
                <a:lnTo>
                  <a:pt x="38100" y="19050"/>
                </a:lnTo>
                <a:lnTo>
                  <a:pt x="38100" y="25400"/>
                </a:lnTo>
                <a:lnTo>
                  <a:pt x="44450" y="38100"/>
                </a:lnTo>
                <a:lnTo>
                  <a:pt x="50800" y="44450"/>
                </a:lnTo>
                <a:lnTo>
                  <a:pt x="57150" y="57150"/>
                </a:lnTo>
                <a:lnTo>
                  <a:pt x="63500" y="69850"/>
                </a:lnTo>
                <a:lnTo>
                  <a:pt x="69850" y="82550"/>
                </a:lnTo>
                <a:lnTo>
                  <a:pt x="76200" y="95250"/>
                </a:lnTo>
                <a:lnTo>
                  <a:pt x="82550" y="114300"/>
                </a:lnTo>
                <a:lnTo>
                  <a:pt x="88900" y="127000"/>
                </a:lnTo>
                <a:lnTo>
                  <a:pt x="95250" y="146050"/>
                </a:lnTo>
                <a:lnTo>
                  <a:pt x="101600" y="158750"/>
                </a:lnTo>
                <a:lnTo>
                  <a:pt x="107950" y="177800"/>
                </a:lnTo>
                <a:lnTo>
                  <a:pt x="114300" y="196850"/>
                </a:lnTo>
                <a:lnTo>
                  <a:pt x="127000" y="215900"/>
                </a:lnTo>
                <a:lnTo>
                  <a:pt x="133350" y="228600"/>
                </a:lnTo>
                <a:lnTo>
                  <a:pt x="139700" y="247650"/>
                </a:lnTo>
                <a:lnTo>
                  <a:pt x="146050" y="260350"/>
                </a:lnTo>
                <a:lnTo>
                  <a:pt x="158750" y="279400"/>
                </a:lnTo>
                <a:lnTo>
                  <a:pt x="165100" y="292100"/>
                </a:lnTo>
                <a:lnTo>
                  <a:pt x="171450" y="304800"/>
                </a:lnTo>
                <a:lnTo>
                  <a:pt x="177800" y="317500"/>
                </a:lnTo>
                <a:lnTo>
                  <a:pt x="184150" y="323850"/>
                </a:lnTo>
                <a:lnTo>
                  <a:pt x="190500" y="336550"/>
                </a:lnTo>
                <a:lnTo>
                  <a:pt x="196850" y="342900"/>
                </a:lnTo>
                <a:lnTo>
                  <a:pt x="196850" y="342900"/>
                </a:lnTo>
                <a:lnTo>
                  <a:pt x="203200" y="349250"/>
                </a:lnTo>
                <a:lnTo>
                  <a:pt x="203200" y="355600"/>
                </a:lnTo>
                <a:lnTo>
                  <a:pt x="203200" y="355600"/>
                </a:lnTo>
                <a:lnTo>
                  <a:pt x="203200" y="355600"/>
                </a:lnTo>
                <a:lnTo>
                  <a:pt x="203200" y="355600"/>
                </a:lnTo>
                <a:lnTo>
                  <a:pt x="203200" y="349250"/>
                </a:lnTo>
                <a:lnTo>
                  <a:pt x="196850" y="349250"/>
                </a:lnTo>
                <a:lnTo>
                  <a:pt x="196850" y="342900"/>
                </a:lnTo>
                <a:lnTo>
                  <a:pt x="190500" y="336550"/>
                </a:lnTo>
                <a:lnTo>
                  <a:pt x="184150" y="330200"/>
                </a:lnTo>
                <a:lnTo>
                  <a:pt x="177800" y="317500"/>
                </a:lnTo>
                <a:lnTo>
                  <a:pt x="177800" y="304800"/>
                </a:lnTo>
                <a:lnTo>
                  <a:pt x="171450" y="292100"/>
                </a:lnTo>
                <a:lnTo>
                  <a:pt x="165100" y="279400"/>
                </a:lnTo>
                <a:lnTo>
                  <a:pt x="158750" y="273050"/>
                </a:lnTo>
                <a:lnTo>
                  <a:pt x="158750" y="260350"/>
                </a:lnTo>
                <a:lnTo>
                  <a:pt x="152400" y="247650"/>
                </a:lnTo>
                <a:lnTo>
                  <a:pt x="152400" y="234950"/>
                </a:lnTo>
                <a:lnTo>
                  <a:pt x="152400" y="222250"/>
                </a:lnTo>
                <a:lnTo>
                  <a:pt x="152400" y="215900"/>
                </a:lnTo>
                <a:lnTo>
                  <a:pt x="152400" y="203200"/>
                </a:lnTo>
                <a:lnTo>
                  <a:pt x="152400" y="190500"/>
                </a:lnTo>
                <a:lnTo>
                  <a:pt x="158750" y="177800"/>
                </a:lnTo>
                <a:lnTo>
                  <a:pt x="165100" y="171450"/>
                </a:lnTo>
                <a:lnTo>
                  <a:pt x="171450" y="158750"/>
                </a:lnTo>
                <a:lnTo>
                  <a:pt x="177800" y="146050"/>
                </a:lnTo>
                <a:lnTo>
                  <a:pt x="184150" y="139700"/>
                </a:lnTo>
                <a:lnTo>
                  <a:pt x="196850" y="127000"/>
                </a:lnTo>
                <a:lnTo>
                  <a:pt x="209550" y="120650"/>
                </a:lnTo>
                <a:lnTo>
                  <a:pt x="228600" y="114300"/>
                </a:lnTo>
                <a:lnTo>
                  <a:pt x="241300" y="107950"/>
                </a:lnTo>
                <a:lnTo>
                  <a:pt x="260350" y="101600"/>
                </a:lnTo>
                <a:lnTo>
                  <a:pt x="273050" y="101600"/>
                </a:lnTo>
                <a:lnTo>
                  <a:pt x="292100" y="95250"/>
                </a:lnTo>
                <a:lnTo>
                  <a:pt x="311150" y="95250"/>
                </a:lnTo>
                <a:lnTo>
                  <a:pt x="330200" y="95250"/>
                </a:lnTo>
                <a:lnTo>
                  <a:pt x="349250" y="101600"/>
                </a:lnTo>
                <a:lnTo>
                  <a:pt x="368300" y="107950"/>
                </a:lnTo>
                <a:lnTo>
                  <a:pt x="381000" y="114300"/>
                </a:lnTo>
                <a:lnTo>
                  <a:pt x="400050" y="120650"/>
                </a:lnTo>
                <a:lnTo>
                  <a:pt x="412750" y="127000"/>
                </a:lnTo>
                <a:lnTo>
                  <a:pt x="425450" y="139700"/>
                </a:lnTo>
                <a:lnTo>
                  <a:pt x="444500" y="152400"/>
                </a:lnTo>
                <a:lnTo>
                  <a:pt x="450850" y="171450"/>
                </a:lnTo>
                <a:lnTo>
                  <a:pt x="463550" y="184150"/>
                </a:lnTo>
                <a:lnTo>
                  <a:pt x="469900" y="196850"/>
                </a:lnTo>
                <a:lnTo>
                  <a:pt x="476250" y="209550"/>
                </a:lnTo>
                <a:lnTo>
                  <a:pt x="488950" y="222250"/>
                </a:lnTo>
                <a:lnTo>
                  <a:pt x="495300" y="234950"/>
                </a:lnTo>
                <a:lnTo>
                  <a:pt x="501650" y="241300"/>
                </a:lnTo>
                <a:lnTo>
                  <a:pt x="508000" y="254000"/>
                </a:lnTo>
                <a:lnTo>
                  <a:pt x="508000" y="260350"/>
                </a:lnTo>
                <a:lnTo>
                  <a:pt x="514350" y="266700"/>
                </a:lnTo>
                <a:lnTo>
                  <a:pt x="514350" y="273050"/>
                </a:lnTo>
                <a:lnTo>
                  <a:pt x="520700" y="279400"/>
                </a:lnTo>
                <a:lnTo>
                  <a:pt x="520700" y="279400"/>
                </a:lnTo>
                <a:lnTo>
                  <a:pt x="520700" y="279400"/>
                </a:lnTo>
                <a:lnTo>
                  <a:pt x="520700" y="279400"/>
                </a:lnTo>
                <a:lnTo>
                  <a:pt x="520700" y="2794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58" name="Freeform 7"/>
          <p:cNvSpPr/>
          <p:nvPr/>
        </p:nvSpPr>
        <p:spPr>
          <a:xfrm>
            <a:off x="1314360" y="1111320"/>
            <a:ext cx="69840" cy="266760"/>
          </a:xfrm>
          <a:custGeom>
            <a:avLst/>
            <a:gdLst>
              <a:gd name="textAreaLeft" fmla="*/ 0 w 69840"/>
              <a:gd name="textAreaRight" fmla="*/ 70200 w 69840"/>
              <a:gd name="textAreaTop" fmla="*/ 0 h 266760"/>
              <a:gd name="textAreaBottom" fmla="*/ 267120 h 266760"/>
            </a:gdLst>
            <a:ahLst/>
            <a:rect l="textAreaLeft" t="textAreaTop" r="textAreaRight" b="textAreaBottom"/>
            <a:pathLst>
              <a:path w="69851" h="266701">
                <a:moveTo>
                  <a:pt x="0" y="0"/>
                </a:moveTo>
                <a:lnTo>
                  <a:pt x="0" y="0"/>
                </a:lnTo>
                <a:lnTo>
                  <a:pt x="0" y="6350"/>
                </a:lnTo>
                <a:lnTo>
                  <a:pt x="0" y="6350"/>
                </a:lnTo>
                <a:lnTo>
                  <a:pt x="0" y="6350"/>
                </a:lnTo>
                <a:lnTo>
                  <a:pt x="0" y="6350"/>
                </a:lnTo>
                <a:lnTo>
                  <a:pt x="0" y="6350"/>
                </a:lnTo>
                <a:lnTo>
                  <a:pt x="0" y="6350"/>
                </a:lnTo>
                <a:lnTo>
                  <a:pt x="0" y="6350"/>
                </a:lnTo>
                <a:lnTo>
                  <a:pt x="6350" y="12700"/>
                </a:lnTo>
                <a:lnTo>
                  <a:pt x="6350" y="12700"/>
                </a:lnTo>
                <a:lnTo>
                  <a:pt x="6350" y="19050"/>
                </a:lnTo>
                <a:lnTo>
                  <a:pt x="12700" y="25400"/>
                </a:lnTo>
                <a:lnTo>
                  <a:pt x="12700" y="31750"/>
                </a:lnTo>
                <a:lnTo>
                  <a:pt x="12700" y="38100"/>
                </a:lnTo>
                <a:lnTo>
                  <a:pt x="12700" y="50800"/>
                </a:lnTo>
                <a:lnTo>
                  <a:pt x="19050" y="57150"/>
                </a:lnTo>
                <a:lnTo>
                  <a:pt x="19050" y="69850"/>
                </a:lnTo>
                <a:lnTo>
                  <a:pt x="19050" y="82550"/>
                </a:lnTo>
                <a:lnTo>
                  <a:pt x="19050" y="95250"/>
                </a:lnTo>
                <a:lnTo>
                  <a:pt x="19050" y="107950"/>
                </a:lnTo>
                <a:lnTo>
                  <a:pt x="19050" y="120650"/>
                </a:lnTo>
                <a:lnTo>
                  <a:pt x="25400" y="133350"/>
                </a:lnTo>
                <a:lnTo>
                  <a:pt x="25400" y="152400"/>
                </a:lnTo>
                <a:lnTo>
                  <a:pt x="31750" y="165100"/>
                </a:lnTo>
                <a:lnTo>
                  <a:pt x="31750" y="177800"/>
                </a:lnTo>
                <a:lnTo>
                  <a:pt x="38100" y="190500"/>
                </a:lnTo>
                <a:lnTo>
                  <a:pt x="38100" y="203200"/>
                </a:lnTo>
                <a:lnTo>
                  <a:pt x="44450" y="215900"/>
                </a:lnTo>
                <a:lnTo>
                  <a:pt x="44450" y="228600"/>
                </a:lnTo>
                <a:lnTo>
                  <a:pt x="50800" y="241300"/>
                </a:lnTo>
                <a:lnTo>
                  <a:pt x="57150" y="247650"/>
                </a:lnTo>
                <a:lnTo>
                  <a:pt x="57150" y="254000"/>
                </a:lnTo>
                <a:lnTo>
                  <a:pt x="63500" y="260350"/>
                </a:lnTo>
                <a:lnTo>
                  <a:pt x="63500" y="260350"/>
                </a:lnTo>
                <a:lnTo>
                  <a:pt x="63500" y="266700"/>
                </a:lnTo>
                <a:lnTo>
                  <a:pt x="63500" y="266700"/>
                </a:lnTo>
                <a:lnTo>
                  <a:pt x="69850" y="266700"/>
                </a:lnTo>
                <a:lnTo>
                  <a:pt x="69850" y="266700"/>
                </a:lnTo>
                <a:lnTo>
                  <a:pt x="69850" y="260350"/>
                </a:lnTo>
                <a:lnTo>
                  <a:pt x="69850" y="2603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59" name="Freeform 8"/>
          <p:cNvSpPr/>
          <p:nvPr/>
        </p:nvSpPr>
        <p:spPr>
          <a:xfrm>
            <a:off x="1409760" y="1041480"/>
            <a:ext cx="260280" cy="298440"/>
          </a:xfrm>
          <a:custGeom>
            <a:avLst/>
            <a:gdLst>
              <a:gd name="textAreaLeft" fmla="*/ 0 w 260280"/>
              <a:gd name="textAreaRight" fmla="*/ 260640 w 260280"/>
              <a:gd name="textAreaTop" fmla="*/ 0 h 298440"/>
              <a:gd name="textAreaBottom" fmla="*/ 298800 h 298440"/>
            </a:gdLst>
            <a:ahLst/>
            <a:rect l="textAreaLeft" t="textAreaTop" r="textAreaRight" b="textAreaBottom"/>
            <a:pathLst>
              <a:path w="260351" h="298451">
                <a:moveTo>
                  <a:pt x="215900" y="57150"/>
                </a:moveTo>
                <a:lnTo>
                  <a:pt x="215900" y="57150"/>
                </a:lnTo>
                <a:lnTo>
                  <a:pt x="215900" y="50800"/>
                </a:lnTo>
                <a:lnTo>
                  <a:pt x="215900" y="50800"/>
                </a:lnTo>
                <a:lnTo>
                  <a:pt x="215900" y="50800"/>
                </a:lnTo>
                <a:lnTo>
                  <a:pt x="209550" y="50800"/>
                </a:lnTo>
                <a:lnTo>
                  <a:pt x="209550" y="44450"/>
                </a:lnTo>
                <a:lnTo>
                  <a:pt x="209550" y="44450"/>
                </a:lnTo>
                <a:lnTo>
                  <a:pt x="209550" y="38100"/>
                </a:lnTo>
                <a:lnTo>
                  <a:pt x="203200" y="38100"/>
                </a:lnTo>
                <a:lnTo>
                  <a:pt x="203200" y="31750"/>
                </a:lnTo>
                <a:lnTo>
                  <a:pt x="196850" y="25400"/>
                </a:lnTo>
                <a:lnTo>
                  <a:pt x="190500" y="19050"/>
                </a:lnTo>
                <a:lnTo>
                  <a:pt x="177800" y="19050"/>
                </a:lnTo>
                <a:lnTo>
                  <a:pt x="171450" y="12700"/>
                </a:lnTo>
                <a:lnTo>
                  <a:pt x="165100" y="6350"/>
                </a:lnTo>
                <a:lnTo>
                  <a:pt x="158750" y="6350"/>
                </a:lnTo>
                <a:lnTo>
                  <a:pt x="146050" y="6350"/>
                </a:lnTo>
                <a:lnTo>
                  <a:pt x="139700" y="0"/>
                </a:lnTo>
                <a:lnTo>
                  <a:pt x="133350" y="0"/>
                </a:lnTo>
                <a:lnTo>
                  <a:pt x="120650" y="0"/>
                </a:lnTo>
                <a:lnTo>
                  <a:pt x="114300" y="0"/>
                </a:lnTo>
                <a:lnTo>
                  <a:pt x="101600" y="0"/>
                </a:lnTo>
                <a:lnTo>
                  <a:pt x="95250" y="6350"/>
                </a:lnTo>
                <a:lnTo>
                  <a:pt x="82550" y="6350"/>
                </a:lnTo>
                <a:lnTo>
                  <a:pt x="69850" y="12700"/>
                </a:lnTo>
                <a:lnTo>
                  <a:pt x="63500" y="12700"/>
                </a:lnTo>
                <a:lnTo>
                  <a:pt x="50800" y="19050"/>
                </a:lnTo>
                <a:lnTo>
                  <a:pt x="44450" y="31750"/>
                </a:lnTo>
                <a:lnTo>
                  <a:pt x="31750" y="38100"/>
                </a:lnTo>
                <a:lnTo>
                  <a:pt x="25400" y="44450"/>
                </a:lnTo>
                <a:lnTo>
                  <a:pt x="19050" y="50800"/>
                </a:lnTo>
                <a:lnTo>
                  <a:pt x="19050" y="63500"/>
                </a:lnTo>
                <a:lnTo>
                  <a:pt x="12700" y="76200"/>
                </a:lnTo>
                <a:lnTo>
                  <a:pt x="6350" y="82550"/>
                </a:lnTo>
                <a:lnTo>
                  <a:pt x="6350" y="95250"/>
                </a:lnTo>
                <a:lnTo>
                  <a:pt x="0" y="107950"/>
                </a:lnTo>
                <a:lnTo>
                  <a:pt x="0" y="114300"/>
                </a:lnTo>
                <a:lnTo>
                  <a:pt x="0" y="127000"/>
                </a:lnTo>
                <a:lnTo>
                  <a:pt x="6350" y="139700"/>
                </a:lnTo>
                <a:lnTo>
                  <a:pt x="6350" y="152400"/>
                </a:lnTo>
                <a:lnTo>
                  <a:pt x="6350" y="165100"/>
                </a:lnTo>
                <a:lnTo>
                  <a:pt x="12700" y="184150"/>
                </a:lnTo>
                <a:lnTo>
                  <a:pt x="19050" y="190500"/>
                </a:lnTo>
                <a:lnTo>
                  <a:pt x="19050" y="209550"/>
                </a:lnTo>
                <a:lnTo>
                  <a:pt x="25400" y="222250"/>
                </a:lnTo>
                <a:lnTo>
                  <a:pt x="38100" y="234950"/>
                </a:lnTo>
                <a:lnTo>
                  <a:pt x="44450" y="247650"/>
                </a:lnTo>
                <a:lnTo>
                  <a:pt x="57150" y="254000"/>
                </a:lnTo>
                <a:lnTo>
                  <a:pt x="63500" y="266700"/>
                </a:lnTo>
                <a:lnTo>
                  <a:pt x="76200" y="273050"/>
                </a:lnTo>
                <a:lnTo>
                  <a:pt x="95250" y="279400"/>
                </a:lnTo>
                <a:lnTo>
                  <a:pt x="107950" y="285750"/>
                </a:lnTo>
                <a:lnTo>
                  <a:pt x="114300" y="292100"/>
                </a:lnTo>
                <a:lnTo>
                  <a:pt x="133350" y="298450"/>
                </a:lnTo>
                <a:lnTo>
                  <a:pt x="146050" y="298450"/>
                </a:lnTo>
                <a:lnTo>
                  <a:pt x="158750" y="298450"/>
                </a:lnTo>
                <a:lnTo>
                  <a:pt x="171450" y="298450"/>
                </a:lnTo>
                <a:lnTo>
                  <a:pt x="177800" y="298450"/>
                </a:lnTo>
                <a:lnTo>
                  <a:pt x="190500" y="298450"/>
                </a:lnTo>
                <a:lnTo>
                  <a:pt x="203200" y="298450"/>
                </a:lnTo>
                <a:lnTo>
                  <a:pt x="215900" y="292100"/>
                </a:lnTo>
                <a:lnTo>
                  <a:pt x="222250" y="285750"/>
                </a:lnTo>
                <a:lnTo>
                  <a:pt x="228600" y="279400"/>
                </a:lnTo>
                <a:lnTo>
                  <a:pt x="234950" y="273050"/>
                </a:lnTo>
                <a:lnTo>
                  <a:pt x="241300" y="260350"/>
                </a:lnTo>
                <a:lnTo>
                  <a:pt x="247650" y="254000"/>
                </a:lnTo>
                <a:lnTo>
                  <a:pt x="254000" y="247650"/>
                </a:lnTo>
                <a:lnTo>
                  <a:pt x="254000" y="228600"/>
                </a:lnTo>
                <a:lnTo>
                  <a:pt x="254000" y="222250"/>
                </a:lnTo>
                <a:lnTo>
                  <a:pt x="260350" y="209550"/>
                </a:lnTo>
                <a:lnTo>
                  <a:pt x="260350" y="196850"/>
                </a:lnTo>
                <a:lnTo>
                  <a:pt x="260350" y="184150"/>
                </a:lnTo>
                <a:lnTo>
                  <a:pt x="254000" y="171450"/>
                </a:lnTo>
                <a:lnTo>
                  <a:pt x="254000" y="158750"/>
                </a:lnTo>
                <a:lnTo>
                  <a:pt x="254000" y="146050"/>
                </a:lnTo>
                <a:lnTo>
                  <a:pt x="254000" y="139700"/>
                </a:lnTo>
                <a:lnTo>
                  <a:pt x="247650" y="127000"/>
                </a:lnTo>
                <a:lnTo>
                  <a:pt x="241300" y="114300"/>
                </a:lnTo>
                <a:lnTo>
                  <a:pt x="234950" y="107950"/>
                </a:lnTo>
                <a:lnTo>
                  <a:pt x="228600" y="95250"/>
                </a:lnTo>
                <a:lnTo>
                  <a:pt x="215900" y="88900"/>
                </a:lnTo>
                <a:lnTo>
                  <a:pt x="209550" y="76200"/>
                </a:lnTo>
                <a:lnTo>
                  <a:pt x="203200" y="69850"/>
                </a:lnTo>
                <a:lnTo>
                  <a:pt x="190500" y="63500"/>
                </a:lnTo>
                <a:lnTo>
                  <a:pt x="184150" y="50800"/>
                </a:lnTo>
                <a:lnTo>
                  <a:pt x="177800" y="50800"/>
                </a:lnTo>
                <a:lnTo>
                  <a:pt x="165100" y="44450"/>
                </a:lnTo>
                <a:lnTo>
                  <a:pt x="165100" y="44450"/>
                </a:lnTo>
                <a:lnTo>
                  <a:pt x="165100" y="38100"/>
                </a:lnTo>
                <a:lnTo>
                  <a:pt x="165100" y="381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60" name="Freeform 9"/>
          <p:cNvSpPr/>
          <p:nvPr/>
        </p:nvSpPr>
        <p:spPr>
          <a:xfrm>
            <a:off x="1663560" y="996840"/>
            <a:ext cx="63720" cy="139680"/>
          </a:xfrm>
          <a:custGeom>
            <a:avLst/>
            <a:gdLst>
              <a:gd name="textAreaLeft" fmla="*/ 0 w 63720"/>
              <a:gd name="textAreaRight" fmla="*/ 64080 w 63720"/>
              <a:gd name="textAreaTop" fmla="*/ 0 h 139680"/>
              <a:gd name="textAreaBottom" fmla="*/ 140040 h 139680"/>
            </a:gdLst>
            <a:ahLst/>
            <a:rect l="textAreaLeft" t="textAreaTop" r="textAreaRight" b="textAreaBottom"/>
            <a:pathLst>
              <a:path w="63501" h="139701">
                <a:moveTo>
                  <a:pt x="0" y="6350"/>
                </a:moveTo>
                <a:lnTo>
                  <a:pt x="0" y="6350"/>
                </a:lnTo>
                <a:lnTo>
                  <a:pt x="6350" y="6350"/>
                </a:lnTo>
                <a:lnTo>
                  <a:pt x="6350" y="6350"/>
                </a:lnTo>
                <a:lnTo>
                  <a:pt x="6350" y="0"/>
                </a:lnTo>
                <a:lnTo>
                  <a:pt x="6350" y="0"/>
                </a:lnTo>
                <a:lnTo>
                  <a:pt x="6350" y="0"/>
                </a:lnTo>
                <a:lnTo>
                  <a:pt x="6350" y="0"/>
                </a:lnTo>
                <a:lnTo>
                  <a:pt x="6350" y="0"/>
                </a:lnTo>
                <a:lnTo>
                  <a:pt x="12700" y="0"/>
                </a:lnTo>
                <a:lnTo>
                  <a:pt x="12700" y="0"/>
                </a:lnTo>
                <a:lnTo>
                  <a:pt x="12700" y="6350"/>
                </a:lnTo>
                <a:lnTo>
                  <a:pt x="19050" y="6350"/>
                </a:lnTo>
                <a:lnTo>
                  <a:pt x="19050" y="12700"/>
                </a:lnTo>
                <a:lnTo>
                  <a:pt x="25400" y="19050"/>
                </a:lnTo>
                <a:lnTo>
                  <a:pt x="25400" y="19050"/>
                </a:lnTo>
                <a:lnTo>
                  <a:pt x="31750" y="31750"/>
                </a:lnTo>
                <a:lnTo>
                  <a:pt x="38100" y="38100"/>
                </a:lnTo>
                <a:lnTo>
                  <a:pt x="38100" y="44450"/>
                </a:lnTo>
                <a:lnTo>
                  <a:pt x="44450" y="57150"/>
                </a:lnTo>
                <a:lnTo>
                  <a:pt x="44450" y="63500"/>
                </a:lnTo>
                <a:lnTo>
                  <a:pt x="50800" y="76200"/>
                </a:lnTo>
                <a:lnTo>
                  <a:pt x="50800" y="82550"/>
                </a:lnTo>
                <a:lnTo>
                  <a:pt x="50800" y="88900"/>
                </a:lnTo>
                <a:lnTo>
                  <a:pt x="57150" y="101600"/>
                </a:lnTo>
                <a:lnTo>
                  <a:pt x="57150" y="107950"/>
                </a:lnTo>
                <a:lnTo>
                  <a:pt x="63500" y="114300"/>
                </a:lnTo>
                <a:lnTo>
                  <a:pt x="63500" y="120650"/>
                </a:lnTo>
                <a:lnTo>
                  <a:pt x="63500" y="127000"/>
                </a:lnTo>
                <a:lnTo>
                  <a:pt x="63500" y="133350"/>
                </a:lnTo>
                <a:lnTo>
                  <a:pt x="63500" y="133350"/>
                </a:lnTo>
                <a:lnTo>
                  <a:pt x="63500" y="139700"/>
                </a:lnTo>
                <a:lnTo>
                  <a:pt x="63500" y="139700"/>
                </a:lnTo>
                <a:lnTo>
                  <a:pt x="63500" y="139700"/>
                </a:lnTo>
                <a:lnTo>
                  <a:pt x="63500" y="1397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61" name="Freeform 10"/>
          <p:cNvSpPr/>
          <p:nvPr/>
        </p:nvSpPr>
        <p:spPr>
          <a:xfrm>
            <a:off x="1650960" y="1028880"/>
            <a:ext cx="108000" cy="50760"/>
          </a:xfrm>
          <a:custGeom>
            <a:avLst/>
            <a:gdLst>
              <a:gd name="textAreaLeft" fmla="*/ 0 w 108000"/>
              <a:gd name="textAreaRight" fmla="*/ 108360 w 108000"/>
              <a:gd name="textAreaTop" fmla="*/ 0 h 50760"/>
              <a:gd name="textAreaBottom" fmla="*/ 51120 h 50760"/>
            </a:gdLst>
            <a:ahLst/>
            <a:rect l="textAreaLeft" t="textAreaTop" r="textAreaRight" b="textAreaBottom"/>
            <a:pathLst>
              <a:path w="107951" h="50801">
                <a:moveTo>
                  <a:pt x="0" y="50800"/>
                </a:moveTo>
                <a:lnTo>
                  <a:pt x="0" y="50800"/>
                </a:lnTo>
                <a:lnTo>
                  <a:pt x="0" y="50800"/>
                </a:lnTo>
                <a:lnTo>
                  <a:pt x="0" y="50800"/>
                </a:lnTo>
                <a:lnTo>
                  <a:pt x="0" y="50800"/>
                </a:lnTo>
                <a:lnTo>
                  <a:pt x="0" y="50800"/>
                </a:lnTo>
                <a:lnTo>
                  <a:pt x="0" y="50800"/>
                </a:lnTo>
                <a:lnTo>
                  <a:pt x="0" y="50800"/>
                </a:lnTo>
                <a:lnTo>
                  <a:pt x="6350" y="50800"/>
                </a:lnTo>
                <a:lnTo>
                  <a:pt x="6350" y="50800"/>
                </a:lnTo>
                <a:lnTo>
                  <a:pt x="12700" y="44450"/>
                </a:lnTo>
                <a:lnTo>
                  <a:pt x="12700" y="44450"/>
                </a:lnTo>
                <a:lnTo>
                  <a:pt x="19050" y="44450"/>
                </a:lnTo>
                <a:lnTo>
                  <a:pt x="25400" y="44450"/>
                </a:lnTo>
                <a:lnTo>
                  <a:pt x="38100" y="38100"/>
                </a:lnTo>
                <a:lnTo>
                  <a:pt x="44450" y="38100"/>
                </a:lnTo>
                <a:lnTo>
                  <a:pt x="57150" y="31750"/>
                </a:lnTo>
                <a:lnTo>
                  <a:pt x="63500" y="25400"/>
                </a:lnTo>
                <a:lnTo>
                  <a:pt x="69850" y="25400"/>
                </a:lnTo>
                <a:lnTo>
                  <a:pt x="82550" y="25400"/>
                </a:lnTo>
                <a:lnTo>
                  <a:pt x="88900" y="19050"/>
                </a:lnTo>
                <a:lnTo>
                  <a:pt x="95250" y="12700"/>
                </a:lnTo>
                <a:lnTo>
                  <a:pt x="101600" y="12700"/>
                </a:lnTo>
                <a:lnTo>
                  <a:pt x="101600" y="6350"/>
                </a:lnTo>
                <a:lnTo>
                  <a:pt x="101600" y="6350"/>
                </a:lnTo>
                <a:lnTo>
                  <a:pt x="107950" y="0"/>
                </a:lnTo>
                <a:lnTo>
                  <a:pt x="107950" y="0"/>
                </a:lnTo>
              </a:path>
            </a:pathLst>
          </a:custGeom>
          <a:noFill/>
          <a:ln w="38160">
            <a:solidFill>
              <a:srgbClr val="ff0000"/>
            </a:solidFill>
            <a:round/>
          </a:ln>
        </p:spPr>
        <p:style>
          <a:lnRef idx="0"/>
          <a:fillRef idx="0"/>
          <a:effectRef idx="0"/>
          <a:fontRef idx="minor"/>
        </p:style>
        <p:txBody>
          <a:bodyPr tIns="5400" bIns="5400" anchor="ctr">
            <a:noAutofit/>
          </a:bodyPr>
          <a:p>
            <a:endParaRPr b="0" lang="en-US" sz="1800" spc="-1" strike="noStrike">
              <a:solidFill>
                <a:srgbClr val="000000"/>
              </a:solidFill>
              <a:latin typeface="Verdana"/>
            </a:endParaRPr>
          </a:p>
        </p:txBody>
      </p:sp>
      <p:sp>
        <p:nvSpPr>
          <p:cNvPr id="62" name="Freeform 11"/>
          <p:cNvSpPr/>
          <p:nvPr/>
        </p:nvSpPr>
        <p:spPr>
          <a:xfrm>
            <a:off x="1758960" y="9777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1" h="1">
                <a:moveTo>
                  <a:pt x="0" y="0"/>
                </a:moveTo>
                <a:lnTo>
                  <a:pt x="0" y="0"/>
                </a:lnTo>
                <a:lnTo>
                  <a:pt x="0" y="0"/>
                </a:lnTo>
                <a:close/>
              </a:path>
            </a:pathLst>
          </a:custGeom>
          <a:noFill/>
          <a:ln w="38160">
            <a:solidFill>
              <a:srgbClr val="ff0000"/>
            </a:solidFill>
            <a:round/>
          </a:ln>
        </p:spPr>
        <p:style>
          <a:lnRef idx="0"/>
          <a:fillRef idx="0"/>
          <a:effectRef idx="0"/>
          <a:fontRef idx="minor"/>
        </p:style>
        <p:txBody>
          <a:bodyPr tIns="-45000" bIns="-45000" anchor="ctr">
            <a:noAutofit/>
          </a:bodyPr>
          <a:p>
            <a:endParaRPr b="0" lang="en-US" sz="1800" spc="-1" strike="noStrike">
              <a:solidFill>
                <a:srgbClr val="000000"/>
              </a:solidFill>
              <a:latin typeface="Verdana"/>
            </a:endParaRPr>
          </a:p>
        </p:txBody>
      </p:sp>
      <p:sp>
        <p:nvSpPr>
          <p:cNvPr id="63" name="Freeform 12"/>
          <p:cNvSpPr/>
          <p:nvPr/>
        </p:nvSpPr>
        <p:spPr>
          <a:xfrm>
            <a:off x="1758960" y="984240"/>
            <a:ext cx="133200" cy="127080"/>
          </a:xfrm>
          <a:custGeom>
            <a:avLst/>
            <a:gdLst>
              <a:gd name="textAreaLeft" fmla="*/ 0 w 133200"/>
              <a:gd name="textAreaRight" fmla="*/ 133560 w 133200"/>
              <a:gd name="textAreaTop" fmla="*/ 0 h 127080"/>
              <a:gd name="textAreaBottom" fmla="*/ 127440 h 127080"/>
            </a:gdLst>
            <a:ahLst/>
            <a:rect l="textAreaLeft" t="textAreaTop" r="textAreaRight" b="textAreaBottom"/>
            <a:pathLst>
              <a:path w="133351" h="127001">
                <a:moveTo>
                  <a:pt x="0" y="0"/>
                </a:moveTo>
                <a:lnTo>
                  <a:pt x="0" y="0"/>
                </a:lnTo>
                <a:lnTo>
                  <a:pt x="0" y="0"/>
                </a:lnTo>
                <a:lnTo>
                  <a:pt x="0" y="0"/>
                </a:lnTo>
                <a:lnTo>
                  <a:pt x="0" y="0"/>
                </a:lnTo>
                <a:lnTo>
                  <a:pt x="0" y="0"/>
                </a:lnTo>
                <a:lnTo>
                  <a:pt x="0" y="0"/>
                </a:lnTo>
                <a:lnTo>
                  <a:pt x="0" y="0"/>
                </a:lnTo>
                <a:lnTo>
                  <a:pt x="0" y="0"/>
                </a:lnTo>
                <a:lnTo>
                  <a:pt x="6350" y="6350"/>
                </a:lnTo>
                <a:lnTo>
                  <a:pt x="6350" y="12700"/>
                </a:lnTo>
                <a:lnTo>
                  <a:pt x="6350" y="25400"/>
                </a:lnTo>
                <a:lnTo>
                  <a:pt x="6350" y="31750"/>
                </a:lnTo>
                <a:lnTo>
                  <a:pt x="12700" y="44450"/>
                </a:lnTo>
                <a:lnTo>
                  <a:pt x="12700" y="57150"/>
                </a:lnTo>
                <a:lnTo>
                  <a:pt x="12700" y="69850"/>
                </a:lnTo>
                <a:lnTo>
                  <a:pt x="12700" y="76200"/>
                </a:lnTo>
                <a:lnTo>
                  <a:pt x="12700" y="88900"/>
                </a:lnTo>
                <a:lnTo>
                  <a:pt x="19050" y="95250"/>
                </a:lnTo>
                <a:lnTo>
                  <a:pt x="19050" y="107950"/>
                </a:lnTo>
                <a:lnTo>
                  <a:pt x="19050" y="107950"/>
                </a:lnTo>
                <a:lnTo>
                  <a:pt x="19050" y="114300"/>
                </a:lnTo>
                <a:lnTo>
                  <a:pt x="19050" y="120650"/>
                </a:lnTo>
                <a:lnTo>
                  <a:pt x="19050" y="120650"/>
                </a:lnTo>
                <a:lnTo>
                  <a:pt x="19050" y="120650"/>
                </a:lnTo>
                <a:lnTo>
                  <a:pt x="19050" y="127000"/>
                </a:lnTo>
                <a:lnTo>
                  <a:pt x="19050" y="127000"/>
                </a:lnTo>
                <a:lnTo>
                  <a:pt x="19050" y="120650"/>
                </a:lnTo>
                <a:lnTo>
                  <a:pt x="19050" y="120650"/>
                </a:lnTo>
                <a:lnTo>
                  <a:pt x="19050" y="120650"/>
                </a:lnTo>
                <a:lnTo>
                  <a:pt x="19050" y="114300"/>
                </a:lnTo>
                <a:lnTo>
                  <a:pt x="19050" y="107950"/>
                </a:lnTo>
                <a:lnTo>
                  <a:pt x="19050" y="101600"/>
                </a:lnTo>
                <a:lnTo>
                  <a:pt x="19050" y="95250"/>
                </a:lnTo>
                <a:lnTo>
                  <a:pt x="19050" y="82550"/>
                </a:lnTo>
                <a:lnTo>
                  <a:pt x="19050" y="76200"/>
                </a:lnTo>
                <a:lnTo>
                  <a:pt x="19050" y="63500"/>
                </a:lnTo>
                <a:lnTo>
                  <a:pt x="25400" y="57150"/>
                </a:lnTo>
                <a:lnTo>
                  <a:pt x="25400" y="50800"/>
                </a:lnTo>
                <a:lnTo>
                  <a:pt x="31750" y="44450"/>
                </a:lnTo>
                <a:lnTo>
                  <a:pt x="38100" y="38100"/>
                </a:lnTo>
                <a:lnTo>
                  <a:pt x="44450" y="31750"/>
                </a:lnTo>
                <a:lnTo>
                  <a:pt x="50800" y="31750"/>
                </a:lnTo>
                <a:lnTo>
                  <a:pt x="57150" y="25400"/>
                </a:lnTo>
                <a:lnTo>
                  <a:pt x="63500" y="31750"/>
                </a:lnTo>
                <a:lnTo>
                  <a:pt x="69850" y="31750"/>
                </a:lnTo>
                <a:lnTo>
                  <a:pt x="82550" y="31750"/>
                </a:lnTo>
                <a:lnTo>
                  <a:pt x="88900" y="38100"/>
                </a:lnTo>
                <a:lnTo>
                  <a:pt x="95250" y="44450"/>
                </a:lnTo>
                <a:lnTo>
                  <a:pt x="101600" y="57150"/>
                </a:lnTo>
                <a:lnTo>
                  <a:pt x="107950" y="63500"/>
                </a:lnTo>
                <a:lnTo>
                  <a:pt x="114300" y="69850"/>
                </a:lnTo>
                <a:lnTo>
                  <a:pt x="114300" y="76200"/>
                </a:lnTo>
                <a:lnTo>
                  <a:pt x="120650" y="82550"/>
                </a:lnTo>
                <a:lnTo>
                  <a:pt x="127000" y="95250"/>
                </a:lnTo>
                <a:lnTo>
                  <a:pt x="127000" y="101600"/>
                </a:lnTo>
                <a:lnTo>
                  <a:pt x="127000" y="107950"/>
                </a:lnTo>
                <a:lnTo>
                  <a:pt x="127000" y="107950"/>
                </a:lnTo>
                <a:lnTo>
                  <a:pt x="133350" y="107950"/>
                </a:lnTo>
                <a:lnTo>
                  <a:pt x="133350" y="1079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64" name="Freeform 13"/>
          <p:cNvSpPr/>
          <p:nvPr/>
        </p:nvSpPr>
        <p:spPr>
          <a:xfrm>
            <a:off x="2965320" y="1333440"/>
            <a:ext cx="889200" cy="615960"/>
          </a:xfrm>
          <a:custGeom>
            <a:avLst/>
            <a:gdLst>
              <a:gd name="textAreaLeft" fmla="*/ 0 w 889200"/>
              <a:gd name="textAreaRight" fmla="*/ 889560 w 889200"/>
              <a:gd name="textAreaTop" fmla="*/ 0 h 615960"/>
              <a:gd name="textAreaBottom" fmla="*/ 616320 h 615960"/>
            </a:gdLst>
            <a:ahLst/>
            <a:rect l="textAreaLeft" t="textAreaTop" r="textAreaRight" b="textAreaBottom"/>
            <a:pathLst>
              <a:path w="889001" h="615951">
                <a:moveTo>
                  <a:pt x="717550" y="95250"/>
                </a:moveTo>
                <a:lnTo>
                  <a:pt x="717550" y="95250"/>
                </a:lnTo>
                <a:lnTo>
                  <a:pt x="711200" y="88900"/>
                </a:lnTo>
                <a:lnTo>
                  <a:pt x="704850" y="76200"/>
                </a:lnTo>
                <a:lnTo>
                  <a:pt x="698500" y="69850"/>
                </a:lnTo>
                <a:lnTo>
                  <a:pt x="692150" y="63500"/>
                </a:lnTo>
                <a:lnTo>
                  <a:pt x="673100" y="50800"/>
                </a:lnTo>
                <a:lnTo>
                  <a:pt x="660400" y="44450"/>
                </a:lnTo>
                <a:lnTo>
                  <a:pt x="647700" y="38100"/>
                </a:lnTo>
                <a:lnTo>
                  <a:pt x="628650" y="25400"/>
                </a:lnTo>
                <a:lnTo>
                  <a:pt x="609600" y="19050"/>
                </a:lnTo>
                <a:lnTo>
                  <a:pt x="590550" y="19050"/>
                </a:lnTo>
                <a:lnTo>
                  <a:pt x="565150" y="12700"/>
                </a:lnTo>
                <a:lnTo>
                  <a:pt x="546100" y="6350"/>
                </a:lnTo>
                <a:lnTo>
                  <a:pt x="514350" y="0"/>
                </a:lnTo>
                <a:lnTo>
                  <a:pt x="488950" y="0"/>
                </a:lnTo>
                <a:lnTo>
                  <a:pt x="463550" y="6350"/>
                </a:lnTo>
                <a:lnTo>
                  <a:pt x="431800" y="6350"/>
                </a:lnTo>
                <a:lnTo>
                  <a:pt x="406400" y="6350"/>
                </a:lnTo>
                <a:lnTo>
                  <a:pt x="374650" y="19050"/>
                </a:lnTo>
                <a:lnTo>
                  <a:pt x="342900" y="25400"/>
                </a:lnTo>
                <a:lnTo>
                  <a:pt x="311150" y="31750"/>
                </a:lnTo>
                <a:lnTo>
                  <a:pt x="279400" y="44450"/>
                </a:lnTo>
                <a:lnTo>
                  <a:pt x="247650" y="57150"/>
                </a:lnTo>
                <a:lnTo>
                  <a:pt x="222250" y="69850"/>
                </a:lnTo>
                <a:lnTo>
                  <a:pt x="184150" y="88900"/>
                </a:lnTo>
                <a:lnTo>
                  <a:pt x="158750" y="107950"/>
                </a:lnTo>
                <a:lnTo>
                  <a:pt x="127000" y="120650"/>
                </a:lnTo>
                <a:lnTo>
                  <a:pt x="107950" y="139700"/>
                </a:lnTo>
                <a:lnTo>
                  <a:pt x="82550" y="165100"/>
                </a:lnTo>
                <a:lnTo>
                  <a:pt x="63500" y="184150"/>
                </a:lnTo>
                <a:lnTo>
                  <a:pt x="50800" y="203200"/>
                </a:lnTo>
                <a:lnTo>
                  <a:pt x="31750" y="228600"/>
                </a:lnTo>
                <a:lnTo>
                  <a:pt x="25400" y="247650"/>
                </a:lnTo>
                <a:lnTo>
                  <a:pt x="12700" y="273050"/>
                </a:lnTo>
                <a:lnTo>
                  <a:pt x="6350" y="304800"/>
                </a:lnTo>
                <a:lnTo>
                  <a:pt x="6350" y="330200"/>
                </a:lnTo>
                <a:lnTo>
                  <a:pt x="0" y="361950"/>
                </a:lnTo>
                <a:lnTo>
                  <a:pt x="6350" y="387350"/>
                </a:lnTo>
                <a:lnTo>
                  <a:pt x="12700" y="412750"/>
                </a:lnTo>
                <a:lnTo>
                  <a:pt x="19050" y="438150"/>
                </a:lnTo>
                <a:lnTo>
                  <a:pt x="31750" y="463550"/>
                </a:lnTo>
                <a:lnTo>
                  <a:pt x="38100" y="488950"/>
                </a:lnTo>
                <a:lnTo>
                  <a:pt x="57150" y="508000"/>
                </a:lnTo>
                <a:lnTo>
                  <a:pt x="82550" y="533400"/>
                </a:lnTo>
                <a:lnTo>
                  <a:pt x="107950" y="552450"/>
                </a:lnTo>
                <a:lnTo>
                  <a:pt x="133350" y="565150"/>
                </a:lnTo>
                <a:lnTo>
                  <a:pt x="165100" y="577850"/>
                </a:lnTo>
                <a:lnTo>
                  <a:pt x="196850" y="590550"/>
                </a:lnTo>
                <a:lnTo>
                  <a:pt x="228600" y="603250"/>
                </a:lnTo>
                <a:lnTo>
                  <a:pt x="273050" y="609600"/>
                </a:lnTo>
                <a:lnTo>
                  <a:pt x="304800" y="615950"/>
                </a:lnTo>
                <a:lnTo>
                  <a:pt x="349250" y="615950"/>
                </a:lnTo>
                <a:lnTo>
                  <a:pt x="387350" y="615950"/>
                </a:lnTo>
                <a:lnTo>
                  <a:pt x="431800" y="615950"/>
                </a:lnTo>
                <a:lnTo>
                  <a:pt x="469900" y="615950"/>
                </a:lnTo>
                <a:lnTo>
                  <a:pt x="514350" y="615950"/>
                </a:lnTo>
                <a:lnTo>
                  <a:pt x="552450" y="609600"/>
                </a:lnTo>
                <a:lnTo>
                  <a:pt x="596900" y="603250"/>
                </a:lnTo>
                <a:lnTo>
                  <a:pt x="628650" y="596900"/>
                </a:lnTo>
                <a:lnTo>
                  <a:pt x="660400" y="584200"/>
                </a:lnTo>
                <a:lnTo>
                  <a:pt x="692150" y="577850"/>
                </a:lnTo>
                <a:lnTo>
                  <a:pt x="723900" y="565150"/>
                </a:lnTo>
                <a:lnTo>
                  <a:pt x="749300" y="546100"/>
                </a:lnTo>
                <a:lnTo>
                  <a:pt x="774700" y="533400"/>
                </a:lnTo>
                <a:lnTo>
                  <a:pt x="793750" y="514350"/>
                </a:lnTo>
                <a:lnTo>
                  <a:pt x="819150" y="495300"/>
                </a:lnTo>
                <a:lnTo>
                  <a:pt x="838200" y="482600"/>
                </a:lnTo>
                <a:lnTo>
                  <a:pt x="844550" y="463550"/>
                </a:lnTo>
                <a:lnTo>
                  <a:pt x="863600" y="444500"/>
                </a:lnTo>
                <a:lnTo>
                  <a:pt x="869950" y="419100"/>
                </a:lnTo>
                <a:lnTo>
                  <a:pt x="882650" y="400050"/>
                </a:lnTo>
                <a:lnTo>
                  <a:pt x="889000" y="381000"/>
                </a:lnTo>
                <a:lnTo>
                  <a:pt x="889000" y="355600"/>
                </a:lnTo>
                <a:lnTo>
                  <a:pt x="889000" y="330200"/>
                </a:lnTo>
                <a:lnTo>
                  <a:pt x="889000" y="304800"/>
                </a:lnTo>
                <a:lnTo>
                  <a:pt x="889000" y="285750"/>
                </a:lnTo>
                <a:lnTo>
                  <a:pt x="882650" y="266700"/>
                </a:lnTo>
                <a:lnTo>
                  <a:pt x="876300" y="247650"/>
                </a:lnTo>
                <a:lnTo>
                  <a:pt x="869950" y="228600"/>
                </a:lnTo>
                <a:lnTo>
                  <a:pt x="863600" y="209550"/>
                </a:lnTo>
                <a:lnTo>
                  <a:pt x="850900" y="190500"/>
                </a:lnTo>
                <a:lnTo>
                  <a:pt x="844550" y="177800"/>
                </a:lnTo>
                <a:lnTo>
                  <a:pt x="838200" y="171450"/>
                </a:lnTo>
                <a:lnTo>
                  <a:pt x="831850" y="158750"/>
                </a:lnTo>
                <a:lnTo>
                  <a:pt x="831850" y="158750"/>
                </a:lnTo>
                <a:lnTo>
                  <a:pt x="825500" y="158750"/>
                </a:lnTo>
                <a:lnTo>
                  <a:pt x="825500" y="1587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65" name="Freeform 14"/>
          <p:cNvSpPr/>
          <p:nvPr/>
        </p:nvSpPr>
        <p:spPr>
          <a:xfrm>
            <a:off x="4597560" y="1378080"/>
            <a:ext cx="1060200" cy="558720"/>
          </a:xfrm>
          <a:custGeom>
            <a:avLst/>
            <a:gdLst>
              <a:gd name="textAreaLeft" fmla="*/ 0 w 1060200"/>
              <a:gd name="textAreaRight" fmla="*/ 1060560 w 1060200"/>
              <a:gd name="textAreaTop" fmla="*/ 0 h 558720"/>
              <a:gd name="textAreaBottom" fmla="*/ 559080 h 558720"/>
            </a:gdLst>
            <a:ahLst/>
            <a:rect l="textAreaLeft" t="textAreaTop" r="textAreaRight" b="textAreaBottom"/>
            <a:pathLst>
              <a:path w="1060451" h="558801">
                <a:moveTo>
                  <a:pt x="844550" y="107950"/>
                </a:moveTo>
                <a:lnTo>
                  <a:pt x="844550" y="107950"/>
                </a:lnTo>
                <a:lnTo>
                  <a:pt x="844550" y="107950"/>
                </a:lnTo>
                <a:lnTo>
                  <a:pt x="844550" y="101600"/>
                </a:lnTo>
                <a:lnTo>
                  <a:pt x="850900" y="95250"/>
                </a:lnTo>
                <a:lnTo>
                  <a:pt x="850900" y="88900"/>
                </a:lnTo>
                <a:lnTo>
                  <a:pt x="850900" y="82550"/>
                </a:lnTo>
                <a:lnTo>
                  <a:pt x="850900" y="76200"/>
                </a:lnTo>
                <a:lnTo>
                  <a:pt x="850900" y="69850"/>
                </a:lnTo>
                <a:lnTo>
                  <a:pt x="844550" y="63500"/>
                </a:lnTo>
                <a:lnTo>
                  <a:pt x="838200" y="57150"/>
                </a:lnTo>
                <a:lnTo>
                  <a:pt x="831850" y="50800"/>
                </a:lnTo>
                <a:lnTo>
                  <a:pt x="825500" y="44450"/>
                </a:lnTo>
                <a:lnTo>
                  <a:pt x="819150" y="38100"/>
                </a:lnTo>
                <a:lnTo>
                  <a:pt x="806450" y="31750"/>
                </a:lnTo>
                <a:lnTo>
                  <a:pt x="787400" y="25400"/>
                </a:lnTo>
                <a:lnTo>
                  <a:pt x="774700" y="19050"/>
                </a:lnTo>
                <a:lnTo>
                  <a:pt x="749300" y="12700"/>
                </a:lnTo>
                <a:lnTo>
                  <a:pt x="730250" y="12700"/>
                </a:lnTo>
                <a:lnTo>
                  <a:pt x="704850" y="6350"/>
                </a:lnTo>
                <a:lnTo>
                  <a:pt x="679450" y="6350"/>
                </a:lnTo>
                <a:lnTo>
                  <a:pt x="654050" y="6350"/>
                </a:lnTo>
                <a:lnTo>
                  <a:pt x="615950" y="6350"/>
                </a:lnTo>
                <a:lnTo>
                  <a:pt x="584200" y="0"/>
                </a:lnTo>
                <a:lnTo>
                  <a:pt x="546100" y="6350"/>
                </a:lnTo>
                <a:lnTo>
                  <a:pt x="514350" y="6350"/>
                </a:lnTo>
                <a:lnTo>
                  <a:pt x="476250" y="12700"/>
                </a:lnTo>
                <a:lnTo>
                  <a:pt x="431800" y="19050"/>
                </a:lnTo>
                <a:lnTo>
                  <a:pt x="393700" y="19050"/>
                </a:lnTo>
                <a:lnTo>
                  <a:pt x="355600" y="31750"/>
                </a:lnTo>
                <a:lnTo>
                  <a:pt x="304800" y="38100"/>
                </a:lnTo>
                <a:lnTo>
                  <a:pt x="266700" y="50800"/>
                </a:lnTo>
                <a:lnTo>
                  <a:pt x="228600" y="63500"/>
                </a:lnTo>
                <a:lnTo>
                  <a:pt x="196850" y="76200"/>
                </a:lnTo>
                <a:lnTo>
                  <a:pt x="165100" y="95250"/>
                </a:lnTo>
                <a:lnTo>
                  <a:pt x="127000" y="114300"/>
                </a:lnTo>
                <a:lnTo>
                  <a:pt x="101600" y="133350"/>
                </a:lnTo>
                <a:lnTo>
                  <a:pt x="69850" y="152400"/>
                </a:lnTo>
                <a:lnTo>
                  <a:pt x="50800" y="177800"/>
                </a:lnTo>
                <a:lnTo>
                  <a:pt x="31750" y="196850"/>
                </a:lnTo>
                <a:lnTo>
                  <a:pt x="19050" y="222250"/>
                </a:lnTo>
                <a:lnTo>
                  <a:pt x="6350" y="241300"/>
                </a:lnTo>
                <a:lnTo>
                  <a:pt x="0" y="260350"/>
                </a:lnTo>
                <a:lnTo>
                  <a:pt x="0" y="285750"/>
                </a:lnTo>
                <a:lnTo>
                  <a:pt x="0" y="304800"/>
                </a:lnTo>
                <a:lnTo>
                  <a:pt x="0" y="323850"/>
                </a:lnTo>
                <a:lnTo>
                  <a:pt x="12700" y="349250"/>
                </a:lnTo>
                <a:lnTo>
                  <a:pt x="19050" y="368300"/>
                </a:lnTo>
                <a:lnTo>
                  <a:pt x="31750" y="387350"/>
                </a:lnTo>
                <a:lnTo>
                  <a:pt x="50800" y="406400"/>
                </a:lnTo>
                <a:lnTo>
                  <a:pt x="69850" y="431800"/>
                </a:lnTo>
                <a:lnTo>
                  <a:pt x="88900" y="444500"/>
                </a:lnTo>
                <a:lnTo>
                  <a:pt x="114300" y="463550"/>
                </a:lnTo>
                <a:lnTo>
                  <a:pt x="146050" y="476250"/>
                </a:lnTo>
                <a:lnTo>
                  <a:pt x="177800" y="495300"/>
                </a:lnTo>
                <a:lnTo>
                  <a:pt x="209550" y="508000"/>
                </a:lnTo>
                <a:lnTo>
                  <a:pt x="247650" y="520700"/>
                </a:lnTo>
                <a:lnTo>
                  <a:pt x="285750" y="527050"/>
                </a:lnTo>
                <a:lnTo>
                  <a:pt x="323850" y="539750"/>
                </a:lnTo>
                <a:lnTo>
                  <a:pt x="361950" y="546100"/>
                </a:lnTo>
                <a:lnTo>
                  <a:pt x="400050" y="552450"/>
                </a:lnTo>
                <a:lnTo>
                  <a:pt x="450850" y="552450"/>
                </a:lnTo>
                <a:lnTo>
                  <a:pt x="488950" y="558800"/>
                </a:lnTo>
                <a:lnTo>
                  <a:pt x="533400" y="558800"/>
                </a:lnTo>
                <a:lnTo>
                  <a:pt x="577850" y="558800"/>
                </a:lnTo>
                <a:lnTo>
                  <a:pt x="615950" y="558800"/>
                </a:lnTo>
                <a:lnTo>
                  <a:pt x="647700" y="552450"/>
                </a:lnTo>
                <a:lnTo>
                  <a:pt x="685800" y="546100"/>
                </a:lnTo>
                <a:lnTo>
                  <a:pt x="723900" y="539750"/>
                </a:lnTo>
                <a:lnTo>
                  <a:pt x="755650" y="533400"/>
                </a:lnTo>
                <a:lnTo>
                  <a:pt x="787400" y="520700"/>
                </a:lnTo>
                <a:lnTo>
                  <a:pt x="819150" y="508000"/>
                </a:lnTo>
                <a:lnTo>
                  <a:pt x="857250" y="501650"/>
                </a:lnTo>
                <a:lnTo>
                  <a:pt x="882650" y="482600"/>
                </a:lnTo>
                <a:lnTo>
                  <a:pt x="914400" y="469900"/>
                </a:lnTo>
                <a:lnTo>
                  <a:pt x="939800" y="457200"/>
                </a:lnTo>
                <a:lnTo>
                  <a:pt x="965200" y="444500"/>
                </a:lnTo>
                <a:lnTo>
                  <a:pt x="984250" y="425450"/>
                </a:lnTo>
                <a:lnTo>
                  <a:pt x="1009650" y="406400"/>
                </a:lnTo>
                <a:lnTo>
                  <a:pt x="1022350" y="387350"/>
                </a:lnTo>
                <a:lnTo>
                  <a:pt x="1035050" y="368300"/>
                </a:lnTo>
                <a:lnTo>
                  <a:pt x="1047750" y="349250"/>
                </a:lnTo>
                <a:lnTo>
                  <a:pt x="1054100" y="330200"/>
                </a:lnTo>
                <a:lnTo>
                  <a:pt x="1060450" y="311150"/>
                </a:lnTo>
                <a:lnTo>
                  <a:pt x="1060450" y="285750"/>
                </a:lnTo>
                <a:lnTo>
                  <a:pt x="1060450" y="266700"/>
                </a:lnTo>
                <a:lnTo>
                  <a:pt x="1054100" y="247650"/>
                </a:lnTo>
                <a:lnTo>
                  <a:pt x="1041400" y="228600"/>
                </a:lnTo>
                <a:lnTo>
                  <a:pt x="1028700" y="215900"/>
                </a:lnTo>
                <a:lnTo>
                  <a:pt x="1022350" y="203200"/>
                </a:lnTo>
                <a:lnTo>
                  <a:pt x="1003300" y="190500"/>
                </a:lnTo>
                <a:lnTo>
                  <a:pt x="1003300" y="190500"/>
                </a:lnTo>
                <a:lnTo>
                  <a:pt x="990600" y="184150"/>
                </a:lnTo>
                <a:lnTo>
                  <a:pt x="990600" y="1841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66" name="Freeform 15"/>
          <p:cNvSpPr/>
          <p:nvPr/>
        </p:nvSpPr>
        <p:spPr>
          <a:xfrm>
            <a:off x="1200240" y="3422520"/>
            <a:ext cx="457200" cy="381240"/>
          </a:xfrm>
          <a:custGeom>
            <a:avLst/>
            <a:gdLst>
              <a:gd name="textAreaLeft" fmla="*/ 0 w 457200"/>
              <a:gd name="textAreaRight" fmla="*/ 457560 w 457200"/>
              <a:gd name="textAreaTop" fmla="*/ 0 h 381240"/>
              <a:gd name="textAreaBottom" fmla="*/ 381600 h 381240"/>
            </a:gdLst>
            <a:ahLst/>
            <a:rect l="textAreaLeft" t="textAreaTop" r="textAreaRight" b="textAreaBottom"/>
            <a:pathLst>
              <a:path w="457201" h="381001">
                <a:moveTo>
                  <a:pt x="247650" y="0"/>
                </a:moveTo>
                <a:lnTo>
                  <a:pt x="247650" y="0"/>
                </a:lnTo>
                <a:lnTo>
                  <a:pt x="247650" y="0"/>
                </a:lnTo>
                <a:lnTo>
                  <a:pt x="247650" y="0"/>
                </a:lnTo>
                <a:lnTo>
                  <a:pt x="247650" y="0"/>
                </a:lnTo>
                <a:lnTo>
                  <a:pt x="247650" y="0"/>
                </a:lnTo>
                <a:lnTo>
                  <a:pt x="247650" y="0"/>
                </a:lnTo>
                <a:lnTo>
                  <a:pt x="247650" y="0"/>
                </a:lnTo>
                <a:lnTo>
                  <a:pt x="247650" y="0"/>
                </a:lnTo>
                <a:lnTo>
                  <a:pt x="247650" y="0"/>
                </a:lnTo>
                <a:lnTo>
                  <a:pt x="247650" y="6350"/>
                </a:lnTo>
                <a:lnTo>
                  <a:pt x="247650" y="6350"/>
                </a:lnTo>
                <a:lnTo>
                  <a:pt x="241300" y="6350"/>
                </a:lnTo>
                <a:lnTo>
                  <a:pt x="241300" y="6350"/>
                </a:lnTo>
                <a:lnTo>
                  <a:pt x="234950" y="12700"/>
                </a:lnTo>
                <a:lnTo>
                  <a:pt x="228600" y="12700"/>
                </a:lnTo>
                <a:lnTo>
                  <a:pt x="222250" y="19050"/>
                </a:lnTo>
                <a:lnTo>
                  <a:pt x="209550" y="25400"/>
                </a:lnTo>
                <a:lnTo>
                  <a:pt x="196850" y="31750"/>
                </a:lnTo>
                <a:lnTo>
                  <a:pt x="190500" y="38100"/>
                </a:lnTo>
                <a:lnTo>
                  <a:pt x="177800" y="44450"/>
                </a:lnTo>
                <a:lnTo>
                  <a:pt x="165100" y="57150"/>
                </a:lnTo>
                <a:lnTo>
                  <a:pt x="152400" y="69850"/>
                </a:lnTo>
                <a:lnTo>
                  <a:pt x="133350" y="76200"/>
                </a:lnTo>
                <a:lnTo>
                  <a:pt x="127000" y="88900"/>
                </a:lnTo>
                <a:lnTo>
                  <a:pt x="114300" y="101600"/>
                </a:lnTo>
                <a:lnTo>
                  <a:pt x="101600" y="107950"/>
                </a:lnTo>
                <a:lnTo>
                  <a:pt x="88900" y="120650"/>
                </a:lnTo>
                <a:lnTo>
                  <a:pt x="76200" y="133350"/>
                </a:lnTo>
                <a:lnTo>
                  <a:pt x="63500" y="146050"/>
                </a:lnTo>
                <a:lnTo>
                  <a:pt x="50800" y="158750"/>
                </a:lnTo>
                <a:lnTo>
                  <a:pt x="38100" y="171450"/>
                </a:lnTo>
                <a:lnTo>
                  <a:pt x="31750" y="184150"/>
                </a:lnTo>
                <a:lnTo>
                  <a:pt x="25400" y="196850"/>
                </a:lnTo>
                <a:lnTo>
                  <a:pt x="19050" y="209550"/>
                </a:lnTo>
                <a:lnTo>
                  <a:pt x="12700" y="215900"/>
                </a:lnTo>
                <a:lnTo>
                  <a:pt x="6350" y="228600"/>
                </a:lnTo>
                <a:lnTo>
                  <a:pt x="6350" y="234950"/>
                </a:lnTo>
                <a:lnTo>
                  <a:pt x="6350" y="247650"/>
                </a:lnTo>
                <a:lnTo>
                  <a:pt x="0" y="254000"/>
                </a:lnTo>
                <a:lnTo>
                  <a:pt x="6350" y="260350"/>
                </a:lnTo>
                <a:lnTo>
                  <a:pt x="6350" y="266700"/>
                </a:lnTo>
                <a:lnTo>
                  <a:pt x="6350" y="273050"/>
                </a:lnTo>
                <a:lnTo>
                  <a:pt x="12700" y="279400"/>
                </a:lnTo>
                <a:lnTo>
                  <a:pt x="19050" y="285750"/>
                </a:lnTo>
                <a:lnTo>
                  <a:pt x="25400" y="292100"/>
                </a:lnTo>
                <a:lnTo>
                  <a:pt x="38100" y="292100"/>
                </a:lnTo>
                <a:lnTo>
                  <a:pt x="44450" y="292100"/>
                </a:lnTo>
                <a:lnTo>
                  <a:pt x="57150" y="298450"/>
                </a:lnTo>
                <a:lnTo>
                  <a:pt x="69850" y="298450"/>
                </a:lnTo>
                <a:lnTo>
                  <a:pt x="82550" y="298450"/>
                </a:lnTo>
                <a:lnTo>
                  <a:pt x="95250" y="298450"/>
                </a:lnTo>
                <a:lnTo>
                  <a:pt x="114300" y="298450"/>
                </a:lnTo>
                <a:lnTo>
                  <a:pt x="127000" y="298450"/>
                </a:lnTo>
                <a:lnTo>
                  <a:pt x="139700" y="298450"/>
                </a:lnTo>
                <a:lnTo>
                  <a:pt x="158750" y="292100"/>
                </a:lnTo>
                <a:lnTo>
                  <a:pt x="177800" y="292100"/>
                </a:lnTo>
                <a:lnTo>
                  <a:pt x="196850" y="285750"/>
                </a:lnTo>
                <a:lnTo>
                  <a:pt x="215900" y="285750"/>
                </a:lnTo>
                <a:lnTo>
                  <a:pt x="241300" y="279400"/>
                </a:lnTo>
                <a:lnTo>
                  <a:pt x="260350" y="279400"/>
                </a:lnTo>
                <a:lnTo>
                  <a:pt x="279400" y="273050"/>
                </a:lnTo>
                <a:lnTo>
                  <a:pt x="298450" y="273050"/>
                </a:lnTo>
                <a:lnTo>
                  <a:pt x="317500" y="273050"/>
                </a:lnTo>
                <a:lnTo>
                  <a:pt x="330200" y="273050"/>
                </a:lnTo>
                <a:lnTo>
                  <a:pt x="349250" y="266700"/>
                </a:lnTo>
                <a:lnTo>
                  <a:pt x="368300" y="266700"/>
                </a:lnTo>
                <a:lnTo>
                  <a:pt x="374650" y="266700"/>
                </a:lnTo>
                <a:lnTo>
                  <a:pt x="387350" y="266700"/>
                </a:lnTo>
                <a:lnTo>
                  <a:pt x="393700" y="266700"/>
                </a:lnTo>
                <a:lnTo>
                  <a:pt x="400050" y="266700"/>
                </a:lnTo>
                <a:lnTo>
                  <a:pt x="406400" y="266700"/>
                </a:lnTo>
                <a:lnTo>
                  <a:pt x="406400" y="266700"/>
                </a:lnTo>
                <a:lnTo>
                  <a:pt x="406400" y="266700"/>
                </a:lnTo>
                <a:lnTo>
                  <a:pt x="412750" y="266700"/>
                </a:lnTo>
                <a:lnTo>
                  <a:pt x="412750" y="266700"/>
                </a:lnTo>
                <a:lnTo>
                  <a:pt x="406400" y="266700"/>
                </a:lnTo>
                <a:lnTo>
                  <a:pt x="406400" y="260350"/>
                </a:lnTo>
                <a:lnTo>
                  <a:pt x="406400" y="260350"/>
                </a:lnTo>
                <a:lnTo>
                  <a:pt x="406400" y="260350"/>
                </a:lnTo>
                <a:lnTo>
                  <a:pt x="400050" y="254000"/>
                </a:lnTo>
                <a:lnTo>
                  <a:pt x="400050" y="254000"/>
                </a:lnTo>
                <a:lnTo>
                  <a:pt x="393700" y="247650"/>
                </a:lnTo>
                <a:lnTo>
                  <a:pt x="387350" y="241300"/>
                </a:lnTo>
                <a:lnTo>
                  <a:pt x="381000" y="241300"/>
                </a:lnTo>
                <a:lnTo>
                  <a:pt x="374650" y="234950"/>
                </a:lnTo>
                <a:lnTo>
                  <a:pt x="368300" y="228600"/>
                </a:lnTo>
                <a:lnTo>
                  <a:pt x="361950" y="228600"/>
                </a:lnTo>
                <a:lnTo>
                  <a:pt x="349250" y="222250"/>
                </a:lnTo>
                <a:lnTo>
                  <a:pt x="336550" y="215900"/>
                </a:lnTo>
                <a:lnTo>
                  <a:pt x="323850" y="209550"/>
                </a:lnTo>
                <a:lnTo>
                  <a:pt x="317500" y="209550"/>
                </a:lnTo>
                <a:lnTo>
                  <a:pt x="304800" y="203200"/>
                </a:lnTo>
                <a:lnTo>
                  <a:pt x="298450" y="196850"/>
                </a:lnTo>
                <a:lnTo>
                  <a:pt x="285750" y="190500"/>
                </a:lnTo>
                <a:lnTo>
                  <a:pt x="273050" y="190500"/>
                </a:lnTo>
                <a:lnTo>
                  <a:pt x="266700" y="184150"/>
                </a:lnTo>
                <a:lnTo>
                  <a:pt x="260350" y="177800"/>
                </a:lnTo>
                <a:lnTo>
                  <a:pt x="254000" y="177800"/>
                </a:lnTo>
                <a:lnTo>
                  <a:pt x="254000" y="177800"/>
                </a:lnTo>
                <a:lnTo>
                  <a:pt x="247650" y="177800"/>
                </a:lnTo>
                <a:lnTo>
                  <a:pt x="247650" y="171450"/>
                </a:lnTo>
                <a:lnTo>
                  <a:pt x="247650" y="171450"/>
                </a:lnTo>
                <a:lnTo>
                  <a:pt x="247650" y="171450"/>
                </a:lnTo>
                <a:lnTo>
                  <a:pt x="247650" y="171450"/>
                </a:lnTo>
                <a:lnTo>
                  <a:pt x="247650" y="171450"/>
                </a:lnTo>
                <a:lnTo>
                  <a:pt x="254000" y="177800"/>
                </a:lnTo>
                <a:lnTo>
                  <a:pt x="260350" y="177800"/>
                </a:lnTo>
                <a:lnTo>
                  <a:pt x="266700" y="177800"/>
                </a:lnTo>
                <a:lnTo>
                  <a:pt x="273050" y="184150"/>
                </a:lnTo>
                <a:lnTo>
                  <a:pt x="279400" y="184150"/>
                </a:lnTo>
                <a:lnTo>
                  <a:pt x="285750" y="190500"/>
                </a:lnTo>
                <a:lnTo>
                  <a:pt x="298450" y="196850"/>
                </a:lnTo>
                <a:lnTo>
                  <a:pt x="311150" y="196850"/>
                </a:lnTo>
                <a:lnTo>
                  <a:pt x="323850" y="203200"/>
                </a:lnTo>
                <a:lnTo>
                  <a:pt x="336550" y="209550"/>
                </a:lnTo>
                <a:lnTo>
                  <a:pt x="349250" y="215900"/>
                </a:lnTo>
                <a:lnTo>
                  <a:pt x="361950" y="222250"/>
                </a:lnTo>
                <a:lnTo>
                  <a:pt x="374650" y="222250"/>
                </a:lnTo>
                <a:lnTo>
                  <a:pt x="387350" y="228600"/>
                </a:lnTo>
                <a:lnTo>
                  <a:pt x="400050" y="234950"/>
                </a:lnTo>
                <a:lnTo>
                  <a:pt x="412750" y="241300"/>
                </a:lnTo>
                <a:lnTo>
                  <a:pt x="419100" y="241300"/>
                </a:lnTo>
                <a:lnTo>
                  <a:pt x="431800" y="247650"/>
                </a:lnTo>
                <a:lnTo>
                  <a:pt x="438150" y="247650"/>
                </a:lnTo>
                <a:lnTo>
                  <a:pt x="444500" y="254000"/>
                </a:lnTo>
                <a:lnTo>
                  <a:pt x="450850" y="254000"/>
                </a:lnTo>
                <a:lnTo>
                  <a:pt x="450850" y="254000"/>
                </a:lnTo>
                <a:lnTo>
                  <a:pt x="450850" y="254000"/>
                </a:lnTo>
                <a:lnTo>
                  <a:pt x="457200" y="254000"/>
                </a:lnTo>
                <a:lnTo>
                  <a:pt x="457200" y="254000"/>
                </a:lnTo>
                <a:lnTo>
                  <a:pt x="457200" y="254000"/>
                </a:lnTo>
                <a:lnTo>
                  <a:pt x="457200" y="254000"/>
                </a:lnTo>
                <a:lnTo>
                  <a:pt x="457200" y="254000"/>
                </a:lnTo>
                <a:lnTo>
                  <a:pt x="457200" y="254000"/>
                </a:lnTo>
                <a:lnTo>
                  <a:pt x="457200" y="254000"/>
                </a:lnTo>
                <a:lnTo>
                  <a:pt x="450850" y="254000"/>
                </a:lnTo>
                <a:lnTo>
                  <a:pt x="450850" y="254000"/>
                </a:lnTo>
                <a:lnTo>
                  <a:pt x="450850" y="254000"/>
                </a:lnTo>
                <a:lnTo>
                  <a:pt x="450850" y="254000"/>
                </a:lnTo>
                <a:lnTo>
                  <a:pt x="444500" y="254000"/>
                </a:lnTo>
                <a:lnTo>
                  <a:pt x="444500" y="254000"/>
                </a:lnTo>
                <a:lnTo>
                  <a:pt x="438150" y="260350"/>
                </a:lnTo>
                <a:lnTo>
                  <a:pt x="438150" y="260350"/>
                </a:lnTo>
                <a:lnTo>
                  <a:pt x="431800" y="266700"/>
                </a:lnTo>
                <a:lnTo>
                  <a:pt x="425450" y="266700"/>
                </a:lnTo>
                <a:lnTo>
                  <a:pt x="419100" y="273050"/>
                </a:lnTo>
                <a:lnTo>
                  <a:pt x="419100" y="285750"/>
                </a:lnTo>
                <a:lnTo>
                  <a:pt x="406400" y="292100"/>
                </a:lnTo>
                <a:lnTo>
                  <a:pt x="400050" y="292100"/>
                </a:lnTo>
                <a:lnTo>
                  <a:pt x="387350" y="304800"/>
                </a:lnTo>
                <a:lnTo>
                  <a:pt x="381000" y="311150"/>
                </a:lnTo>
                <a:lnTo>
                  <a:pt x="368300" y="317500"/>
                </a:lnTo>
                <a:lnTo>
                  <a:pt x="361950" y="323850"/>
                </a:lnTo>
                <a:lnTo>
                  <a:pt x="349250" y="336550"/>
                </a:lnTo>
                <a:lnTo>
                  <a:pt x="342900" y="342900"/>
                </a:lnTo>
                <a:lnTo>
                  <a:pt x="336550" y="349250"/>
                </a:lnTo>
                <a:lnTo>
                  <a:pt x="330200" y="355600"/>
                </a:lnTo>
                <a:lnTo>
                  <a:pt x="323850" y="361950"/>
                </a:lnTo>
                <a:lnTo>
                  <a:pt x="323850" y="368300"/>
                </a:lnTo>
                <a:lnTo>
                  <a:pt x="317500" y="374650"/>
                </a:lnTo>
                <a:lnTo>
                  <a:pt x="317500" y="374650"/>
                </a:lnTo>
                <a:lnTo>
                  <a:pt x="317500" y="374650"/>
                </a:lnTo>
                <a:lnTo>
                  <a:pt x="317500" y="381000"/>
                </a:lnTo>
                <a:lnTo>
                  <a:pt x="317500" y="381000"/>
                </a:lnTo>
                <a:lnTo>
                  <a:pt x="317500" y="381000"/>
                </a:lnTo>
                <a:lnTo>
                  <a:pt x="317500" y="381000"/>
                </a:lnTo>
                <a:lnTo>
                  <a:pt x="317500" y="381000"/>
                </a:lnTo>
                <a:lnTo>
                  <a:pt x="323850" y="374650"/>
                </a:lnTo>
                <a:lnTo>
                  <a:pt x="323850" y="3746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67" name="Freeform 16"/>
          <p:cNvSpPr/>
          <p:nvPr/>
        </p:nvSpPr>
        <p:spPr>
          <a:xfrm>
            <a:off x="1765440" y="3613320"/>
            <a:ext cx="44280" cy="196560"/>
          </a:xfrm>
          <a:custGeom>
            <a:avLst/>
            <a:gdLst>
              <a:gd name="textAreaLeft" fmla="*/ 0 w 44280"/>
              <a:gd name="textAreaRight" fmla="*/ 44640 w 44280"/>
              <a:gd name="textAreaTop" fmla="*/ 0 h 196560"/>
              <a:gd name="textAreaBottom" fmla="*/ 196920 h 196560"/>
            </a:gdLst>
            <a:ahLst/>
            <a:rect l="textAreaLeft" t="textAreaTop" r="textAreaRight" b="textAreaBottom"/>
            <a:pathLst>
              <a:path w="44451" h="196851">
                <a:moveTo>
                  <a:pt x="0" y="0"/>
                </a:moveTo>
                <a:lnTo>
                  <a:pt x="0" y="0"/>
                </a:lnTo>
                <a:lnTo>
                  <a:pt x="0" y="6350"/>
                </a:lnTo>
                <a:lnTo>
                  <a:pt x="0" y="6350"/>
                </a:lnTo>
                <a:lnTo>
                  <a:pt x="0" y="6350"/>
                </a:lnTo>
                <a:lnTo>
                  <a:pt x="0" y="6350"/>
                </a:lnTo>
                <a:lnTo>
                  <a:pt x="0" y="6350"/>
                </a:lnTo>
                <a:lnTo>
                  <a:pt x="0" y="12700"/>
                </a:lnTo>
                <a:lnTo>
                  <a:pt x="0" y="12700"/>
                </a:lnTo>
                <a:lnTo>
                  <a:pt x="0" y="19050"/>
                </a:lnTo>
                <a:lnTo>
                  <a:pt x="6350" y="25400"/>
                </a:lnTo>
                <a:lnTo>
                  <a:pt x="6350" y="31750"/>
                </a:lnTo>
                <a:lnTo>
                  <a:pt x="6350" y="31750"/>
                </a:lnTo>
                <a:lnTo>
                  <a:pt x="6350" y="38100"/>
                </a:lnTo>
                <a:lnTo>
                  <a:pt x="6350" y="50800"/>
                </a:lnTo>
                <a:lnTo>
                  <a:pt x="6350" y="57150"/>
                </a:lnTo>
                <a:lnTo>
                  <a:pt x="6350" y="63500"/>
                </a:lnTo>
                <a:lnTo>
                  <a:pt x="12700" y="69850"/>
                </a:lnTo>
                <a:lnTo>
                  <a:pt x="12700" y="82550"/>
                </a:lnTo>
                <a:lnTo>
                  <a:pt x="12700" y="88900"/>
                </a:lnTo>
                <a:lnTo>
                  <a:pt x="19050" y="101600"/>
                </a:lnTo>
                <a:lnTo>
                  <a:pt x="19050" y="107950"/>
                </a:lnTo>
                <a:lnTo>
                  <a:pt x="19050" y="120650"/>
                </a:lnTo>
                <a:lnTo>
                  <a:pt x="25400" y="133350"/>
                </a:lnTo>
                <a:lnTo>
                  <a:pt x="25400" y="139700"/>
                </a:lnTo>
                <a:lnTo>
                  <a:pt x="31750" y="152400"/>
                </a:lnTo>
                <a:lnTo>
                  <a:pt x="31750" y="158750"/>
                </a:lnTo>
                <a:lnTo>
                  <a:pt x="31750" y="165100"/>
                </a:lnTo>
                <a:lnTo>
                  <a:pt x="38100" y="177800"/>
                </a:lnTo>
                <a:lnTo>
                  <a:pt x="38100" y="184150"/>
                </a:lnTo>
                <a:lnTo>
                  <a:pt x="38100" y="184150"/>
                </a:lnTo>
                <a:lnTo>
                  <a:pt x="44450" y="190500"/>
                </a:lnTo>
                <a:lnTo>
                  <a:pt x="44450" y="196850"/>
                </a:lnTo>
                <a:lnTo>
                  <a:pt x="44450" y="196850"/>
                </a:lnTo>
                <a:lnTo>
                  <a:pt x="44450" y="196850"/>
                </a:lnTo>
                <a:lnTo>
                  <a:pt x="44450" y="196850"/>
                </a:lnTo>
                <a:lnTo>
                  <a:pt x="44450" y="196850"/>
                </a:lnTo>
                <a:lnTo>
                  <a:pt x="44450" y="196850"/>
                </a:lnTo>
                <a:lnTo>
                  <a:pt x="44450" y="190500"/>
                </a:lnTo>
                <a:lnTo>
                  <a:pt x="44450" y="190500"/>
                </a:lnTo>
                <a:lnTo>
                  <a:pt x="44450" y="190500"/>
                </a:lnTo>
                <a:lnTo>
                  <a:pt x="44450" y="184150"/>
                </a:lnTo>
                <a:lnTo>
                  <a:pt x="44450" y="1841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68" name="Freeform 17"/>
          <p:cNvSpPr/>
          <p:nvPr/>
        </p:nvSpPr>
        <p:spPr>
          <a:xfrm>
            <a:off x="1790640" y="3645000"/>
            <a:ext cx="196920" cy="50760"/>
          </a:xfrm>
          <a:custGeom>
            <a:avLst/>
            <a:gdLst>
              <a:gd name="textAreaLeft" fmla="*/ 0 w 196920"/>
              <a:gd name="textAreaRight" fmla="*/ 197280 w 196920"/>
              <a:gd name="textAreaTop" fmla="*/ 0 h 50760"/>
              <a:gd name="textAreaBottom" fmla="*/ 51120 h 50760"/>
            </a:gdLst>
            <a:ahLst/>
            <a:rect l="textAreaLeft" t="textAreaTop" r="textAreaRight" b="textAreaBottom"/>
            <a:pathLst>
              <a:path w="196851" h="50801">
                <a:moveTo>
                  <a:pt x="0" y="50800"/>
                </a:moveTo>
                <a:lnTo>
                  <a:pt x="0" y="50800"/>
                </a:lnTo>
                <a:lnTo>
                  <a:pt x="0" y="50800"/>
                </a:lnTo>
                <a:lnTo>
                  <a:pt x="0" y="50800"/>
                </a:lnTo>
                <a:lnTo>
                  <a:pt x="0" y="50800"/>
                </a:lnTo>
                <a:lnTo>
                  <a:pt x="0" y="50800"/>
                </a:lnTo>
                <a:lnTo>
                  <a:pt x="0" y="44450"/>
                </a:lnTo>
                <a:lnTo>
                  <a:pt x="6350" y="44450"/>
                </a:lnTo>
                <a:lnTo>
                  <a:pt x="6350" y="38100"/>
                </a:lnTo>
                <a:lnTo>
                  <a:pt x="6350" y="31750"/>
                </a:lnTo>
                <a:lnTo>
                  <a:pt x="12700" y="31750"/>
                </a:lnTo>
                <a:lnTo>
                  <a:pt x="12700" y="25400"/>
                </a:lnTo>
                <a:lnTo>
                  <a:pt x="19050" y="19050"/>
                </a:lnTo>
                <a:lnTo>
                  <a:pt x="19050" y="19050"/>
                </a:lnTo>
                <a:lnTo>
                  <a:pt x="25400" y="12700"/>
                </a:lnTo>
                <a:lnTo>
                  <a:pt x="31750" y="6350"/>
                </a:lnTo>
                <a:lnTo>
                  <a:pt x="38100" y="6350"/>
                </a:lnTo>
                <a:lnTo>
                  <a:pt x="44450" y="0"/>
                </a:lnTo>
                <a:lnTo>
                  <a:pt x="57150" y="0"/>
                </a:lnTo>
                <a:lnTo>
                  <a:pt x="63500" y="0"/>
                </a:lnTo>
                <a:lnTo>
                  <a:pt x="69850" y="0"/>
                </a:lnTo>
                <a:lnTo>
                  <a:pt x="82550" y="0"/>
                </a:lnTo>
                <a:lnTo>
                  <a:pt x="88900" y="0"/>
                </a:lnTo>
                <a:lnTo>
                  <a:pt x="101600" y="0"/>
                </a:lnTo>
                <a:lnTo>
                  <a:pt x="114300" y="0"/>
                </a:lnTo>
                <a:lnTo>
                  <a:pt x="120650" y="0"/>
                </a:lnTo>
                <a:lnTo>
                  <a:pt x="133350" y="6350"/>
                </a:lnTo>
                <a:lnTo>
                  <a:pt x="139700" y="6350"/>
                </a:lnTo>
                <a:lnTo>
                  <a:pt x="152400" y="12700"/>
                </a:lnTo>
                <a:lnTo>
                  <a:pt x="158750" y="12700"/>
                </a:lnTo>
                <a:lnTo>
                  <a:pt x="165100" y="19050"/>
                </a:lnTo>
                <a:lnTo>
                  <a:pt x="171450" y="19050"/>
                </a:lnTo>
                <a:lnTo>
                  <a:pt x="177800" y="19050"/>
                </a:lnTo>
                <a:lnTo>
                  <a:pt x="184150" y="19050"/>
                </a:lnTo>
                <a:lnTo>
                  <a:pt x="190500" y="25400"/>
                </a:lnTo>
                <a:lnTo>
                  <a:pt x="190500" y="25400"/>
                </a:lnTo>
                <a:lnTo>
                  <a:pt x="196850" y="25400"/>
                </a:lnTo>
                <a:lnTo>
                  <a:pt x="196850" y="25400"/>
                </a:lnTo>
                <a:lnTo>
                  <a:pt x="196850" y="25400"/>
                </a:lnTo>
                <a:lnTo>
                  <a:pt x="196850" y="25400"/>
                </a:lnTo>
                <a:lnTo>
                  <a:pt x="196850" y="25400"/>
                </a:lnTo>
              </a:path>
            </a:pathLst>
          </a:custGeom>
          <a:noFill/>
          <a:ln w="38160">
            <a:solidFill>
              <a:srgbClr val="ff0000"/>
            </a:solidFill>
            <a:round/>
          </a:ln>
        </p:spPr>
        <p:style>
          <a:lnRef idx="0"/>
          <a:fillRef idx="0"/>
          <a:effectRef idx="0"/>
          <a:fontRef idx="minor"/>
        </p:style>
        <p:txBody>
          <a:bodyPr tIns="5400" bIns="5400" anchor="ctr">
            <a:noAutofit/>
          </a:bodyPr>
          <a:p>
            <a:endParaRPr b="0" lang="en-US" sz="1800" spc="-1" strike="noStrike">
              <a:solidFill>
                <a:srgbClr val="000000"/>
              </a:solidFill>
              <a:latin typeface="Verdana"/>
            </a:endParaRPr>
          </a:p>
        </p:txBody>
      </p:sp>
      <p:sp>
        <p:nvSpPr>
          <p:cNvPr id="69" name="Freeform 18"/>
          <p:cNvSpPr/>
          <p:nvPr/>
        </p:nvSpPr>
        <p:spPr>
          <a:xfrm>
            <a:off x="2025720" y="3613320"/>
            <a:ext cx="228600" cy="228600"/>
          </a:xfrm>
          <a:custGeom>
            <a:avLst/>
            <a:gdLst>
              <a:gd name="textAreaLeft" fmla="*/ 0 w 228600"/>
              <a:gd name="textAreaRight" fmla="*/ 228960 w 228600"/>
              <a:gd name="textAreaTop" fmla="*/ 0 h 228600"/>
              <a:gd name="textAreaBottom" fmla="*/ 228960 h 228600"/>
            </a:gdLst>
            <a:ahLst/>
            <a:rect l="textAreaLeft" t="textAreaTop" r="textAreaRight" b="textAreaBottom"/>
            <a:pathLst>
              <a:path w="228601" h="228601">
                <a:moveTo>
                  <a:pt x="0" y="139700"/>
                </a:moveTo>
                <a:lnTo>
                  <a:pt x="0" y="139700"/>
                </a:lnTo>
                <a:lnTo>
                  <a:pt x="0" y="139700"/>
                </a:lnTo>
                <a:lnTo>
                  <a:pt x="0" y="139700"/>
                </a:lnTo>
                <a:lnTo>
                  <a:pt x="0" y="139700"/>
                </a:lnTo>
                <a:lnTo>
                  <a:pt x="0" y="139700"/>
                </a:lnTo>
                <a:lnTo>
                  <a:pt x="0" y="139700"/>
                </a:lnTo>
                <a:lnTo>
                  <a:pt x="0" y="139700"/>
                </a:lnTo>
                <a:lnTo>
                  <a:pt x="6350" y="139700"/>
                </a:lnTo>
                <a:lnTo>
                  <a:pt x="6350" y="139700"/>
                </a:lnTo>
                <a:lnTo>
                  <a:pt x="12700" y="139700"/>
                </a:lnTo>
                <a:lnTo>
                  <a:pt x="19050" y="133350"/>
                </a:lnTo>
                <a:lnTo>
                  <a:pt x="25400" y="133350"/>
                </a:lnTo>
                <a:lnTo>
                  <a:pt x="38100" y="127000"/>
                </a:lnTo>
                <a:lnTo>
                  <a:pt x="50800" y="127000"/>
                </a:lnTo>
                <a:lnTo>
                  <a:pt x="63500" y="120650"/>
                </a:lnTo>
                <a:lnTo>
                  <a:pt x="76200" y="114300"/>
                </a:lnTo>
                <a:lnTo>
                  <a:pt x="88900" y="114300"/>
                </a:lnTo>
                <a:lnTo>
                  <a:pt x="101600" y="107950"/>
                </a:lnTo>
                <a:lnTo>
                  <a:pt x="114300" y="107950"/>
                </a:lnTo>
                <a:lnTo>
                  <a:pt x="127000" y="107950"/>
                </a:lnTo>
                <a:lnTo>
                  <a:pt x="139700" y="107950"/>
                </a:lnTo>
                <a:lnTo>
                  <a:pt x="152400" y="101600"/>
                </a:lnTo>
                <a:lnTo>
                  <a:pt x="158750" y="101600"/>
                </a:lnTo>
                <a:lnTo>
                  <a:pt x="165100" y="101600"/>
                </a:lnTo>
                <a:lnTo>
                  <a:pt x="171450" y="101600"/>
                </a:lnTo>
                <a:lnTo>
                  <a:pt x="177800" y="101600"/>
                </a:lnTo>
                <a:lnTo>
                  <a:pt x="184150" y="95250"/>
                </a:lnTo>
                <a:lnTo>
                  <a:pt x="184150" y="95250"/>
                </a:lnTo>
                <a:lnTo>
                  <a:pt x="184150" y="95250"/>
                </a:lnTo>
                <a:lnTo>
                  <a:pt x="190500" y="88900"/>
                </a:lnTo>
                <a:lnTo>
                  <a:pt x="190500" y="82550"/>
                </a:lnTo>
                <a:lnTo>
                  <a:pt x="184150" y="82550"/>
                </a:lnTo>
                <a:lnTo>
                  <a:pt x="184150" y="76200"/>
                </a:lnTo>
                <a:lnTo>
                  <a:pt x="184150" y="69850"/>
                </a:lnTo>
                <a:lnTo>
                  <a:pt x="177800" y="63500"/>
                </a:lnTo>
                <a:lnTo>
                  <a:pt x="177800" y="63500"/>
                </a:lnTo>
                <a:lnTo>
                  <a:pt x="171450" y="57150"/>
                </a:lnTo>
                <a:lnTo>
                  <a:pt x="171450" y="50800"/>
                </a:lnTo>
                <a:lnTo>
                  <a:pt x="165100" y="44450"/>
                </a:lnTo>
                <a:lnTo>
                  <a:pt x="165100" y="38100"/>
                </a:lnTo>
                <a:lnTo>
                  <a:pt x="158750" y="31750"/>
                </a:lnTo>
                <a:lnTo>
                  <a:pt x="158750" y="25400"/>
                </a:lnTo>
                <a:lnTo>
                  <a:pt x="152400" y="19050"/>
                </a:lnTo>
                <a:lnTo>
                  <a:pt x="146050" y="12700"/>
                </a:lnTo>
                <a:lnTo>
                  <a:pt x="146050" y="12700"/>
                </a:lnTo>
                <a:lnTo>
                  <a:pt x="139700" y="6350"/>
                </a:lnTo>
                <a:lnTo>
                  <a:pt x="133350" y="6350"/>
                </a:lnTo>
                <a:lnTo>
                  <a:pt x="127000" y="6350"/>
                </a:lnTo>
                <a:lnTo>
                  <a:pt x="120650" y="6350"/>
                </a:lnTo>
                <a:lnTo>
                  <a:pt x="114300" y="0"/>
                </a:lnTo>
                <a:lnTo>
                  <a:pt x="114300" y="6350"/>
                </a:lnTo>
                <a:lnTo>
                  <a:pt x="107950" y="6350"/>
                </a:lnTo>
                <a:lnTo>
                  <a:pt x="101600" y="6350"/>
                </a:lnTo>
                <a:lnTo>
                  <a:pt x="95250" y="12700"/>
                </a:lnTo>
                <a:lnTo>
                  <a:pt x="82550" y="19050"/>
                </a:lnTo>
                <a:lnTo>
                  <a:pt x="76200" y="25400"/>
                </a:lnTo>
                <a:lnTo>
                  <a:pt x="69850" y="31750"/>
                </a:lnTo>
                <a:lnTo>
                  <a:pt x="69850" y="44450"/>
                </a:lnTo>
                <a:lnTo>
                  <a:pt x="63500" y="50800"/>
                </a:lnTo>
                <a:lnTo>
                  <a:pt x="50800" y="63500"/>
                </a:lnTo>
                <a:lnTo>
                  <a:pt x="50800" y="76200"/>
                </a:lnTo>
                <a:lnTo>
                  <a:pt x="44450" y="88900"/>
                </a:lnTo>
                <a:lnTo>
                  <a:pt x="44450" y="101600"/>
                </a:lnTo>
                <a:lnTo>
                  <a:pt x="44450" y="114300"/>
                </a:lnTo>
                <a:lnTo>
                  <a:pt x="44450" y="127000"/>
                </a:lnTo>
                <a:lnTo>
                  <a:pt x="44450" y="139700"/>
                </a:lnTo>
                <a:lnTo>
                  <a:pt x="50800" y="146050"/>
                </a:lnTo>
                <a:lnTo>
                  <a:pt x="57150" y="165100"/>
                </a:lnTo>
                <a:lnTo>
                  <a:pt x="63500" y="171450"/>
                </a:lnTo>
                <a:lnTo>
                  <a:pt x="69850" y="184150"/>
                </a:lnTo>
                <a:lnTo>
                  <a:pt x="76200" y="190500"/>
                </a:lnTo>
                <a:lnTo>
                  <a:pt x="88900" y="196850"/>
                </a:lnTo>
                <a:lnTo>
                  <a:pt x="95250" y="203200"/>
                </a:lnTo>
                <a:lnTo>
                  <a:pt x="107950" y="209550"/>
                </a:lnTo>
                <a:lnTo>
                  <a:pt x="114300" y="215900"/>
                </a:lnTo>
                <a:lnTo>
                  <a:pt x="127000" y="222250"/>
                </a:lnTo>
                <a:lnTo>
                  <a:pt x="139700" y="228600"/>
                </a:lnTo>
                <a:lnTo>
                  <a:pt x="152400" y="228600"/>
                </a:lnTo>
                <a:lnTo>
                  <a:pt x="165100" y="228600"/>
                </a:lnTo>
                <a:lnTo>
                  <a:pt x="171450" y="228600"/>
                </a:lnTo>
                <a:lnTo>
                  <a:pt x="184150" y="228600"/>
                </a:lnTo>
                <a:lnTo>
                  <a:pt x="190500" y="228600"/>
                </a:lnTo>
                <a:lnTo>
                  <a:pt x="203200" y="228600"/>
                </a:lnTo>
                <a:lnTo>
                  <a:pt x="209550" y="222250"/>
                </a:lnTo>
                <a:lnTo>
                  <a:pt x="215900" y="215900"/>
                </a:lnTo>
                <a:lnTo>
                  <a:pt x="215900" y="215900"/>
                </a:lnTo>
                <a:lnTo>
                  <a:pt x="228600" y="209550"/>
                </a:lnTo>
                <a:lnTo>
                  <a:pt x="228600" y="2095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70" name="Freeform 19"/>
          <p:cNvSpPr/>
          <p:nvPr/>
        </p:nvSpPr>
        <p:spPr>
          <a:xfrm>
            <a:off x="2286000" y="3638520"/>
            <a:ext cx="209520" cy="311040"/>
          </a:xfrm>
          <a:custGeom>
            <a:avLst/>
            <a:gdLst>
              <a:gd name="textAreaLeft" fmla="*/ 0 w 209520"/>
              <a:gd name="textAreaRight" fmla="*/ 209880 w 209520"/>
              <a:gd name="textAreaTop" fmla="*/ 0 h 311040"/>
              <a:gd name="textAreaBottom" fmla="*/ 311400 h 311040"/>
            </a:gdLst>
            <a:ahLst/>
            <a:rect l="textAreaLeft" t="textAreaTop" r="textAreaRight" b="textAreaBottom"/>
            <a:pathLst>
              <a:path w="209551" h="311151">
                <a:moveTo>
                  <a:pt x="152400" y="57150"/>
                </a:moveTo>
                <a:lnTo>
                  <a:pt x="152400" y="57150"/>
                </a:lnTo>
                <a:lnTo>
                  <a:pt x="158750" y="57150"/>
                </a:lnTo>
                <a:lnTo>
                  <a:pt x="158750" y="57150"/>
                </a:lnTo>
                <a:lnTo>
                  <a:pt x="165100" y="50800"/>
                </a:lnTo>
                <a:lnTo>
                  <a:pt x="165100" y="44450"/>
                </a:lnTo>
                <a:lnTo>
                  <a:pt x="171450" y="44450"/>
                </a:lnTo>
                <a:lnTo>
                  <a:pt x="171450" y="38100"/>
                </a:lnTo>
                <a:lnTo>
                  <a:pt x="171450" y="38100"/>
                </a:lnTo>
                <a:lnTo>
                  <a:pt x="165100" y="31750"/>
                </a:lnTo>
                <a:lnTo>
                  <a:pt x="165100" y="25400"/>
                </a:lnTo>
                <a:lnTo>
                  <a:pt x="158750" y="19050"/>
                </a:lnTo>
                <a:lnTo>
                  <a:pt x="152400" y="19050"/>
                </a:lnTo>
                <a:lnTo>
                  <a:pt x="139700" y="12700"/>
                </a:lnTo>
                <a:lnTo>
                  <a:pt x="133350" y="6350"/>
                </a:lnTo>
                <a:lnTo>
                  <a:pt x="127000" y="6350"/>
                </a:lnTo>
                <a:lnTo>
                  <a:pt x="114300" y="0"/>
                </a:lnTo>
                <a:lnTo>
                  <a:pt x="101600" y="0"/>
                </a:lnTo>
                <a:lnTo>
                  <a:pt x="95250" y="0"/>
                </a:lnTo>
                <a:lnTo>
                  <a:pt x="82550" y="0"/>
                </a:lnTo>
                <a:lnTo>
                  <a:pt x="69850" y="0"/>
                </a:lnTo>
                <a:lnTo>
                  <a:pt x="63500" y="0"/>
                </a:lnTo>
                <a:lnTo>
                  <a:pt x="50800" y="6350"/>
                </a:lnTo>
                <a:lnTo>
                  <a:pt x="44450" y="6350"/>
                </a:lnTo>
                <a:lnTo>
                  <a:pt x="38100" y="12700"/>
                </a:lnTo>
                <a:lnTo>
                  <a:pt x="31750" y="19050"/>
                </a:lnTo>
                <a:lnTo>
                  <a:pt x="25400" y="31750"/>
                </a:lnTo>
                <a:lnTo>
                  <a:pt x="19050" y="38100"/>
                </a:lnTo>
                <a:lnTo>
                  <a:pt x="12700" y="50800"/>
                </a:lnTo>
                <a:lnTo>
                  <a:pt x="12700" y="57150"/>
                </a:lnTo>
                <a:lnTo>
                  <a:pt x="12700" y="76200"/>
                </a:lnTo>
                <a:lnTo>
                  <a:pt x="12700" y="82550"/>
                </a:lnTo>
                <a:lnTo>
                  <a:pt x="19050" y="101600"/>
                </a:lnTo>
                <a:lnTo>
                  <a:pt x="19050" y="107950"/>
                </a:lnTo>
                <a:lnTo>
                  <a:pt x="25400" y="120650"/>
                </a:lnTo>
                <a:lnTo>
                  <a:pt x="38100" y="133350"/>
                </a:lnTo>
                <a:lnTo>
                  <a:pt x="44450" y="139700"/>
                </a:lnTo>
                <a:lnTo>
                  <a:pt x="50800" y="146050"/>
                </a:lnTo>
                <a:lnTo>
                  <a:pt x="63500" y="152400"/>
                </a:lnTo>
                <a:lnTo>
                  <a:pt x="69850" y="158750"/>
                </a:lnTo>
                <a:lnTo>
                  <a:pt x="88900" y="158750"/>
                </a:lnTo>
                <a:lnTo>
                  <a:pt x="95250" y="158750"/>
                </a:lnTo>
                <a:lnTo>
                  <a:pt x="107950" y="158750"/>
                </a:lnTo>
                <a:lnTo>
                  <a:pt x="120650" y="152400"/>
                </a:lnTo>
                <a:lnTo>
                  <a:pt x="127000" y="152400"/>
                </a:lnTo>
                <a:lnTo>
                  <a:pt x="139700" y="146050"/>
                </a:lnTo>
                <a:lnTo>
                  <a:pt x="146050" y="139700"/>
                </a:lnTo>
                <a:lnTo>
                  <a:pt x="152400" y="133350"/>
                </a:lnTo>
                <a:lnTo>
                  <a:pt x="158750" y="127000"/>
                </a:lnTo>
                <a:lnTo>
                  <a:pt x="165100" y="120650"/>
                </a:lnTo>
                <a:lnTo>
                  <a:pt x="165100" y="107950"/>
                </a:lnTo>
                <a:lnTo>
                  <a:pt x="171450" y="101600"/>
                </a:lnTo>
                <a:lnTo>
                  <a:pt x="171450" y="95250"/>
                </a:lnTo>
                <a:lnTo>
                  <a:pt x="171450" y="88900"/>
                </a:lnTo>
                <a:lnTo>
                  <a:pt x="171450" y="82550"/>
                </a:lnTo>
                <a:lnTo>
                  <a:pt x="171450" y="82550"/>
                </a:lnTo>
                <a:lnTo>
                  <a:pt x="171450" y="76200"/>
                </a:lnTo>
                <a:lnTo>
                  <a:pt x="171450" y="76200"/>
                </a:lnTo>
                <a:lnTo>
                  <a:pt x="171450" y="69850"/>
                </a:lnTo>
                <a:lnTo>
                  <a:pt x="171450" y="69850"/>
                </a:lnTo>
                <a:lnTo>
                  <a:pt x="171450" y="69850"/>
                </a:lnTo>
                <a:lnTo>
                  <a:pt x="171450" y="76200"/>
                </a:lnTo>
                <a:lnTo>
                  <a:pt x="177800" y="76200"/>
                </a:lnTo>
                <a:lnTo>
                  <a:pt x="177800" y="82550"/>
                </a:lnTo>
                <a:lnTo>
                  <a:pt x="177800" y="88900"/>
                </a:lnTo>
                <a:lnTo>
                  <a:pt x="184150" y="95250"/>
                </a:lnTo>
                <a:lnTo>
                  <a:pt x="190500" y="107950"/>
                </a:lnTo>
                <a:lnTo>
                  <a:pt x="190500" y="114300"/>
                </a:lnTo>
                <a:lnTo>
                  <a:pt x="190500" y="127000"/>
                </a:lnTo>
                <a:lnTo>
                  <a:pt x="196850" y="139700"/>
                </a:lnTo>
                <a:lnTo>
                  <a:pt x="196850" y="158750"/>
                </a:lnTo>
                <a:lnTo>
                  <a:pt x="203200" y="171450"/>
                </a:lnTo>
                <a:lnTo>
                  <a:pt x="203200" y="184150"/>
                </a:lnTo>
                <a:lnTo>
                  <a:pt x="209550" y="196850"/>
                </a:lnTo>
                <a:lnTo>
                  <a:pt x="209550" y="215900"/>
                </a:lnTo>
                <a:lnTo>
                  <a:pt x="209550" y="228600"/>
                </a:lnTo>
                <a:lnTo>
                  <a:pt x="209550" y="241300"/>
                </a:lnTo>
                <a:lnTo>
                  <a:pt x="203200" y="254000"/>
                </a:lnTo>
                <a:lnTo>
                  <a:pt x="203200" y="266700"/>
                </a:lnTo>
                <a:lnTo>
                  <a:pt x="196850" y="273050"/>
                </a:lnTo>
                <a:lnTo>
                  <a:pt x="190500" y="285750"/>
                </a:lnTo>
                <a:lnTo>
                  <a:pt x="184150" y="292100"/>
                </a:lnTo>
                <a:lnTo>
                  <a:pt x="171450" y="298450"/>
                </a:lnTo>
                <a:lnTo>
                  <a:pt x="158750" y="298450"/>
                </a:lnTo>
                <a:lnTo>
                  <a:pt x="146050" y="304800"/>
                </a:lnTo>
                <a:lnTo>
                  <a:pt x="133350" y="311150"/>
                </a:lnTo>
                <a:lnTo>
                  <a:pt x="120650" y="311150"/>
                </a:lnTo>
                <a:lnTo>
                  <a:pt x="101600" y="311150"/>
                </a:lnTo>
                <a:lnTo>
                  <a:pt x="88900" y="311150"/>
                </a:lnTo>
                <a:lnTo>
                  <a:pt x="69850" y="311150"/>
                </a:lnTo>
                <a:lnTo>
                  <a:pt x="57150" y="304800"/>
                </a:lnTo>
                <a:lnTo>
                  <a:pt x="44450" y="298450"/>
                </a:lnTo>
                <a:lnTo>
                  <a:pt x="31750" y="298450"/>
                </a:lnTo>
                <a:lnTo>
                  <a:pt x="19050" y="292100"/>
                </a:lnTo>
                <a:lnTo>
                  <a:pt x="12700" y="285750"/>
                </a:lnTo>
                <a:lnTo>
                  <a:pt x="6350" y="279400"/>
                </a:lnTo>
                <a:lnTo>
                  <a:pt x="0" y="273050"/>
                </a:lnTo>
                <a:lnTo>
                  <a:pt x="0" y="273050"/>
                </a:lnTo>
                <a:lnTo>
                  <a:pt x="0" y="266700"/>
                </a:lnTo>
                <a:lnTo>
                  <a:pt x="0" y="2667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71" name="Freeform 20"/>
          <p:cNvSpPr/>
          <p:nvPr/>
        </p:nvSpPr>
        <p:spPr>
          <a:xfrm>
            <a:off x="2565360" y="3651120"/>
            <a:ext cx="19080" cy="196920"/>
          </a:xfrm>
          <a:custGeom>
            <a:avLst/>
            <a:gdLst>
              <a:gd name="textAreaLeft" fmla="*/ 0 w 19080"/>
              <a:gd name="textAreaRight" fmla="*/ 19440 w 19080"/>
              <a:gd name="textAreaTop" fmla="*/ 0 h 196920"/>
              <a:gd name="textAreaBottom" fmla="*/ 197280 h 196920"/>
            </a:gdLst>
            <a:ahLst/>
            <a:rect l="textAreaLeft" t="textAreaTop" r="textAreaRight" b="textAreaBottom"/>
            <a:pathLst>
              <a:path w="19051" h="196851">
                <a:moveTo>
                  <a:pt x="0" y="0"/>
                </a:moveTo>
                <a:lnTo>
                  <a:pt x="0" y="6350"/>
                </a:lnTo>
                <a:lnTo>
                  <a:pt x="0" y="6350"/>
                </a:lnTo>
                <a:lnTo>
                  <a:pt x="0" y="6350"/>
                </a:lnTo>
                <a:lnTo>
                  <a:pt x="0" y="6350"/>
                </a:lnTo>
                <a:lnTo>
                  <a:pt x="0" y="12700"/>
                </a:lnTo>
                <a:lnTo>
                  <a:pt x="0" y="12700"/>
                </a:lnTo>
                <a:lnTo>
                  <a:pt x="6350" y="25400"/>
                </a:lnTo>
                <a:lnTo>
                  <a:pt x="6350" y="31750"/>
                </a:lnTo>
                <a:lnTo>
                  <a:pt x="6350" y="38100"/>
                </a:lnTo>
                <a:lnTo>
                  <a:pt x="6350" y="44450"/>
                </a:lnTo>
                <a:lnTo>
                  <a:pt x="6350" y="63500"/>
                </a:lnTo>
                <a:lnTo>
                  <a:pt x="6350" y="69850"/>
                </a:lnTo>
                <a:lnTo>
                  <a:pt x="6350" y="88900"/>
                </a:lnTo>
                <a:lnTo>
                  <a:pt x="6350" y="101600"/>
                </a:lnTo>
                <a:lnTo>
                  <a:pt x="6350" y="114300"/>
                </a:lnTo>
                <a:lnTo>
                  <a:pt x="6350" y="127000"/>
                </a:lnTo>
                <a:lnTo>
                  <a:pt x="12700" y="139700"/>
                </a:lnTo>
                <a:lnTo>
                  <a:pt x="12700" y="152400"/>
                </a:lnTo>
                <a:lnTo>
                  <a:pt x="12700" y="165100"/>
                </a:lnTo>
                <a:lnTo>
                  <a:pt x="19050" y="171450"/>
                </a:lnTo>
                <a:lnTo>
                  <a:pt x="19050" y="184150"/>
                </a:lnTo>
                <a:lnTo>
                  <a:pt x="19050" y="190500"/>
                </a:lnTo>
                <a:lnTo>
                  <a:pt x="19050" y="190500"/>
                </a:lnTo>
                <a:lnTo>
                  <a:pt x="19050" y="196850"/>
                </a:lnTo>
                <a:lnTo>
                  <a:pt x="19050" y="196850"/>
                </a:lnTo>
                <a:lnTo>
                  <a:pt x="19050" y="190500"/>
                </a:lnTo>
                <a:lnTo>
                  <a:pt x="19050" y="190500"/>
                </a:lnTo>
                <a:lnTo>
                  <a:pt x="19050" y="184150"/>
                </a:lnTo>
                <a:lnTo>
                  <a:pt x="19050" y="184150"/>
                </a:lnTo>
                <a:lnTo>
                  <a:pt x="19050" y="177800"/>
                </a:lnTo>
                <a:lnTo>
                  <a:pt x="19050" y="1778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72" name="Freeform 21"/>
          <p:cNvSpPr/>
          <p:nvPr/>
        </p:nvSpPr>
        <p:spPr>
          <a:xfrm>
            <a:off x="2565360" y="3594240"/>
            <a:ext cx="12600" cy="6120"/>
          </a:xfrm>
          <a:custGeom>
            <a:avLst/>
            <a:gdLst>
              <a:gd name="textAreaLeft" fmla="*/ 0 w 12600"/>
              <a:gd name="textAreaRight" fmla="*/ 12960 w 12600"/>
              <a:gd name="textAreaTop" fmla="*/ 0 h 6120"/>
              <a:gd name="textAreaBottom" fmla="*/ 6480 h 6120"/>
            </a:gdLst>
            <a:ahLst/>
            <a:rect l="textAreaLeft" t="textAreaTop" r="textAreaRight" b="textAreaBottom"/>
            <a:pathLst>
              <a:path w="12701" h="6351">
                <a:moveTo>
                  <a:pt x="0" y="6350"/>
                </a:moveTo>
                <a:lnTo>
                  <a:pt x="0" y="6350"/>
                </a:lnTo>
                <a:lnTo>
                  <a:pt x="0" y="6350"/>
                </a:lnTo>
                <a:lnTo>
                  <a:pt x="0" y="0"/>
                </a:lnTo>
                <a:lnTo>
                  <a:pt x="0" y="0"/>
                </a:lnTo>
                <a:lnTo>
                  <a:pt x="0" y="0"/>
                </a:lnTo>
                <a:lnTo>
                  <a:pt x="6350" y="6350"/>
                </a:lnTo>
                <a:lnTo>
                  <a:pt x="6350" y="6350"/>
                </a:lnTo>
                <a:lnTo>
                  <a:pt x="6350" y="6350"/>
                </a:lnTo>
                <a:lnTo>
                  <a:pt x="6350" y="6350"/>
                </a:lnTo>
                <a:lnTo>
                  <a:pt x="6350" y="6350"/>
                </a:lnTo>
                <a:lnTo>
                  <a:pt x="12700" y="6350"/>
                </a:lnTo>
                <a:lnTo>
                  <a:pt x="12700" y="6350"/>
                </a:lnTo>
              </a:path>
            </a:pathLst>
          </a:custGeom>
          <a:noFill/>
          <a:ln w="38160">
            <a:solidFill>
              <a:srgbClr val="ff0000"/>
            </a:solidFill>
            <a:round/>
          </a:ln>
        </p:spPr>
        <p:style>
          <a:lnRef idx="0"/>
          <a:fillRef idx="0"/>
          <a:effectRef idx="0"/>
          <a:fontRef idx="minor"/>
        </p:style>
        <p:txBody>
          <a:bodyPr tIns="-39240" bIns="-39240" anchor="ctr">
            <a:noAutofit/>
          </a:bodyPr>
          <a:p>
            <a:endParaRPr b="0" lang="en-US" sz="1800" spc="-1" strike="noStrike">
              <a:solidFill>
                <a:srgbClr val="000000"/>
              </a:solidFill>
              <a:latin typeface="Verdana"/>
            </a:endParaRPr>
          </a:p>
        </p:txBody>
      </p:sp>
      <p:sp>
        <p:nvSpPr>
          <p:cNvPr id="73" name="Freeform 22"/>
          <p:cNvSpPr/>
          <p:nvPr/>
        </p:nvSpPr>
        <p:spPr>
          <a:xfrm>
            <a:off x="2654280" y="3651120"/>
            <a:ext cx="190440" cy="209520"/>
          </a:xfrm>
          <a:custGeom>
            <a:avLst/>
            <a:gdLst>
              <a:gd name="textAreaLeft" fmla="*/ 0 w 190440"/>
              <a:gd name="textAreaRight" fmla="*/ 190800 w 190440"/>
              <a:gd name="textAreaTop" fmla="*/ 0 h 209520"/>
              <a:gd name="textAreaBottom" fmla="*/ 209880 h 209520"/>
            </a:gdLst>
            <a:ahLst/>
            <a:rect l="textAreaLeft" t="textAreaTop" r="textAreaRight" b="textAreaBottom"/>
            <a:pathLst>
              <a:path w="190501" h="209551">
                <a:moveTo>
                  <a:pt x="152400" y="50800"/>
                </a:moveTo>
                <a:lnTo>
                  <a:pt x="152400" y="50800"/>
                </a:lnTo>
                <a:lnTo>
                  <a:pt x="152400" y="50800"/>
                </a:lnTo>
                <a:lnTo>
                  <a:pt x="152400" y="44450"/>
                </a:lnTo>
                <a:lnTo>
                  <a:pt x="152400" y="44450"/>
                </a:lnTo>
                <a:lnTo>
                  <a:pt x="152400" y="38100"/>
                </a:lnTo>
                <a:lnTo>
                  <a:pt x="152400" y="31750"/>
                </a:lnTo>
                <a:lnTo>
                  <a:pt x="146050" y="25400"/>
                </a:lnTo>
                <a:lnTo>
                  <a:pt x="139700" y="19050"/>
                </a:lnTo>
                <a:lnTo>
                  <a:pt x="127000" y="12700"/>
                </a:lnTo>
                <a:lnTo>
                  <a:pt x="114300" y="6350"/>
                </a:lnTo>
                <a:lnTo>
                  <a:pt x="107950" y="6350"/>
                </a:lnTo>
                <a:lnTo>
                  <a:pt x="95250" y="0"/>
                </a:lnTo>
                <a:lnTo>
                  <a:pt x="82550" y="0"/>
                </a:lnTo>
                <a:lnTo>
                  <a:pt x="69850" y="0"/>
                </a:lnTo>
                <a:lnTo>
                  <a:pt x="57150" y="0"/>
                </a:lnTo>
                <a:lnTo>
                  <a:pt x="44450" y="6350"/>
                </a:lnTo>
                <a:lnTo>
                  <a:pt x="31750" y="6350"/>
                </a:lnTo>
                <a:lnTo>
                  <a:pt x="25400" y="12700"/>
                </a:lnTo>
                <a:lnTo>
                  <a:pt x="12700" y="25400"/>
                </a:lnTo>
                <a:lnTo>
                  <a:pt x="12700" y="38100"/>
                </a:lnTo>
                <a:lnTo>
                  <a:pt x="6350" y="44450"/>
                </a:lnTo>
                <a:lnTo>
                  <a:pt x="0" y="57150"/>
                </a:lnTo>
                <a:lnTo>
                  <a:pt x="0" y="69850"/>
                </a:lnTo>
                <a:lnTo>
                  <a:pt x="0" y="88900"/>
                </a:lnTo>
                <a:lnTo>
                  <a:pt x="0" y="101600"/>
                </a:lnTo>
                <a:lnTo>
                  <a:pt x="6350" y="120650"/>
                </a:lnTo>
                <a:lnTo>
                  <a:pt x="12700" y="133350"/>
                </a:lnTo>
                <a:lnTo>
                  <a:pt x="12700" y="146050"/>
                </a:lnTo>
                <a:lnTo>
                  <a:pt x="25400" y="165100"/>
                </a:lnTo>
                <a:lnTo>
                  <a:pt x="38100" y="177800"/>
                </a:lnTo>
                <a:lnTo>
                  <a:pt x="50800" y="184150"/>
                </a:lnTo>
                <a:lnTo>
                  <a:pt x="63500" y="190500"/>
                </a:lnTo>
                <a:lnTo>
                  <a:pt x="76200" y="203200"/>
                </a:lnTo>
                <a:lnTo>
                  <a:pt x="95250" y="203200"/>
                </a:lnTo>
                <a:lnTo>
                  <a:pt x="114300" y="209550"/>
                </a:lnTo>
                <a:lnTo>
                  <a:pt x="127000" y="209550"/>
                </a:lnTo>
                <a:lnTo>
                  <a:pt x="146050" y="203200"/>
                </a:lnTo>
                <a:lnTo>
                  <a:pt x="152400" y="196850"/>
                </a:lnTo>
                <a:lnTo>
                  <a:pt x="165100" y="190500"/>
                </a:lnTo>
                <a:lnTo>
                  <a:pt x="177800" y="184150"/>
                </a:lnTo>
                <a:lnTo>
                  <a:pt x="184150" y="177800"/>
                </a:lnTo>
                <a:lnTo>
                  <a:pt x="190500" y="171450"/>
                </a:lnTo>
                <a:lnTo>
                  <a:pt x="190500" y="158750"/>
                </a:lnTo>
                <a:lnTo>
                  <a:pt x="190500" y="146050"/>
                </a:lnTo>
                <a:lnTo>
                  <a:pt x="190500" y="133350"/>
                </a:lnTo>
                <a:lnTo>
                  <a:pt x="190500" y="120650"/>
                </a:lnTo>
                <a:lnTo>
                  <a:pt x="190500" y="107950"/>
                </a:lnTo>
                <a:lnTo>
                  <a:pt x="184150" y="95250"/>
                </a:lnTo>
                <a:lnTo>
                  <a:pt x="184150" y="88900"/>
                </a:lnTo>
                <a:lnTo>
                  <a:pt x="184150" y="88900"/>
                </a:lnTo>
                <a:lnTo>
                  <a:pt x="184150" y="76200"/>
                </a:lnTo>
                <a:lnTo>
                  <a:pt x="184150" y="762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74" name="Freeform 23"/>
          <p:cNvSpPr/>
          <p:nvPr/>
        </p:nvSpPr>
        <p:spPr>
          <a:xfrm>
            <a:off x="2870280" y="3676680"/>
            <a:ext cx="317520" cy="190440"/>
          </a:xfrm>
          <a:custGeom>
            <a:avLst/>
            <a:gdLst>
              <a:gd name="textAreaLeft" fmla="*/ 0 w 317520"/>
              <a:gd name="textAreaRight" fmla="*/ 317520 w 317520"/>
              <a:gd name="textAreaTop" fmla="*/ 0 h 190440"/>
              <a:gd name="textAreaBottom" fmla="*/ 190800 h 190440"/>
            </a:gdLst>
            <a:ahLst/>
            <a:rect l="textAreaLeft" t="textAreaTop" r="textAreaRight" b="textAreaBottom"/>
            <a:pathLst>
              <a:path w="317501" h="190501">
                <a:moveTo>
                  <a:pt x="0" y="0"/>
                </a:moveTo>
                <a:lnTo>
                  <a:pt x="0" y="0"/>
                </a:lnTo>
                <a:lnTo>
                  <a:pt x="0" y="6350"/>
                </a:lnTo>
                <a:lnTo>
                  <a:pt x="6350" y="6350"/>
                </a:lnTo>
                <a:lnTo>
                  <a:pt x="6350" y="6350"/>
                </a:lnTo>
                <a:lnTo>
                  <a:pt x="12700" y="12700"/>
                </a:lnTo>
                <a:lnTo>
                  <a:pt x="12700" y="19050"/>
                </a:lnTo>
                <a:lnTo>
                  <a:pt x="19050" y="25400"/>
                </a:lnTo>
                <a:lnTo>
                  <a:pt x="25400" y="31750"/>
                </a:lnTo>
                <a:lnTo>
                  <a:pt x="25400" y="44450"/>
                </a:lnTo>
                <a:lnTo>
                  <a:pt x="31750" y="57150"/>
                </a:lnTo>
                <a:lnTo>
                  <a:pt x="31750" y="69850"/>
                </a:lnTo>
                <a:lnTo>
                  <a:pt x="38100" y="88900"/>
                </a:lnTo>
                <a:lnTo>
                  <a:pt x="44450" y="101600"/>
                </a:lnTo>
                <a:lnTo>
                  <a:pt x="50800" y="120650"/>
                </a:lnTo>
                <a:lnTo>
                  <a:pt x="57150" y="127000"/>
                </a:lnTo>
                <a:lnTo>
                  <a:pt x="63500" y="146050"/>
                </a:lnTo>
                <a:lnTo>
                  <a:pt x="69850" y="152400"/>
                </a:lnTo>
                <a:lnTo>
                  <a:pt x="76200" y="165100"/>
                </a:lnTo>
                <a:lnTo>
                  <a:pt x="76200" y="171450"/>
                </a:lnTo>
                <a:lnTo>
                  <a:pt x="82550" y="177800"/>
                </a:lnTo>
                <a:lnTo>
                  <a:pt x="82550" y="177800"/>
                </a:lnTo>
                <a:lnTo>
                  <a:pt x="82550" y="184150"/>
                </a:lnTo>
                <a:lnTo>
                  <a:pt x="82550" y="184150"/>
                </a:lnTo>
                <a:lnTo>
                  <a:pt x="82550" y="184150"/>
                </a:lnTo>
                <a:lnTo>
                  <a:pt x="82550" y="177800"/>
                </a:lnTo>
                <a:lnTo>
                  <a:pt x="82550" y="171450"/>
                </a:lnTo>
                <a:lnTo>
                  <a:pt x="76200" y="165100"/>
                </a:lnTo>
                <a:lnTo>
                  <a:pt x="76200" y="152400"/>
                </a:lnTo>
                <a:lnTo>
                  <a:pt x="69850" y="146050"/>
                </a:lnTo>
                <a:lnTo>
                  <a:pt x="69850" y="127000"/>
                </a:lnTo>
                <a:lnTo>
                  <a:pt x="63500" y="120650"/>
                </a:lnTo>
                <a:lnTo>
                  <a:pt x="63500" y="101600"/>
                </a:lnTo>
                <a:lnTo>
                  <a:pt x="63500" y="88900"/>
                </a:lnTo>
                <a:lnTo>
                  <a:pt x="63500" y="76200"/>
                </a:lnTo>
                <a:lnTo>
                  <a:pt x="63500" y="63500"/>
                </a:lnTo>
                <a:lnTo>
                  <a:pt x="69850" y="50800"/>
                </a:lnTo>
                <a:lnTo>
                  <a:pt x="76200" y="38100"/>
                </a:lnTo>
                <a:lnTo>
                  <a:pt x="82550" y="31750"/>
                </a:lnTo>
                <a:lnTo>
                  <a:pt x="95250" y="19050"/>
                </a:lnTo>
                <a:lnTo>
                  <a:pt x="107950" y="12700"/>
                </a:lnTo>
                <a:lnTo>
                  <a:pt x="120650" y="6350"/>
                </a:lnTo>
                <a:lnTo>
                  <a:pt x="133350" y="6350"/>
                </a:lnTo>
                <a:lnTo>
                  <a:pt x="152400" y="6350"/>
                </a:lnTo>
                <a:lnTo>
                  <a:pt x="171450" y="6350"/>
                </a:lnTo>
                <a:lnTo>
                  <a:pt x="184150" y="12700"/>
                </a:lnTo>
                <a:lnTo>
                  <a:pt x="203200" y="19050"/>
                </a:lnTo>
                <a:lnTo>
                  <a:pt x="222250" y="31750"/>
                </a:lnTo>
                <a:lnTo>
                  <a:pt x="234950" y="50800"/>
                </a:lnTo>
                <a:lnTo>
                  <a:pt x="247650" y="63500"/>
                </a:lnTo>
                <a:lnTo>
                  <a:pt x="266700" y="82550"/>
                </a:lnTo>
                <a:lnTo>
                  <a:pt x="273050" y="95250"/>
                </a:lnTo>
                <a:lnTo>
                  <a:pt x="285750" y="114300"/>
                </a:lnTo>
                <a:lnTo>
                  <a:pt x="298450" y="133350"/>
                </a:lnTo>
                <a:lnTo>
                  <a:pt x="304800" y="158750"/>
                </a:lnTo>
                <a:lnTo>
                  <a:pt x="311150" y="177800"/>
                </a:lnTo>
                <a:lnTo>
                  <a:pt x="311150" y="177800"/>
                </a:lnTo>
                <a:lnTo>
                  <a:pt x="317500" y="190500"/>
                </a:lnTo>
                <a:lnTo>
                  <a:pt x="317500" y="1905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75" name="Freeform 24"/>
          <p:cNvSpPr/>
          <p:nvPr/>
        </p:nvSpPr>
        <p:spPr>
          <a:xfrm>
            <a:off x="2178000" y="3987720"/>
            <a:ext cx="1670040" cy="387360"/>
          </a:xfrm>
          <a:custGeom>
            <a:avLst/>
            <a:gdLst>
              <a:gd name="textAreaLeft" fmla="*/ 0 w 1670040"/>
              <a:gd name="textAreaRight" fmla="*/ 1670400 w 1670040"/>
              <a:gd name="textAreaTop" fmla="*/ 0 h 387360"/>
              <a:gd name="textAreaBottom" fmla="*/ 387720 h 387360"/>
            </a:gdLst>
            <a:ahLst/>
            <a:rect l="textAreaLeft" t="textAreaTop" r="textAreaRight" b="textAreaBottom"/>
            <a:pathLst>
              <a:path w="1670051" h="387351">
                <a:moveTo>
                  <a:pt x="1574800" y="50800"/>
                </a:moveTo>
                <a:lnTo>
                  <a:pt x="1574800" y="50800"/>
                </a:lnTo>
                <a:lnTo>
                  <a:pt x="1568450" y="50800"/>
                </a:lnTo>
                <a:lnTo>
                  <a:pt x="1568450" y="50800"/>
                </a:lnTo>
                <a:lnTo>
                  <a:pt x="1562100" y="44450"/>
                </a:lnTo>
                <a:lnTo>
                  <a:pt x="1555750" y="44450"/>
                </a:lnTo>
                <a:lnTo>
                  <a:pt x="1549400" y="38100"/>
                </a:lnTo>
                <a:lnTo>
                  <a:pt x="1536700" y="38100"/>
                </a:lnTo>
                <a:lnTo>
                  <a:pt x="1530350" y="38100"/>
                </a:lnTo>
                <a:lnTo>
                  <a:pt x="1524000" y="31750"/>
                </a:lnTo>
                <a:lnTo>
                  <a:pt x="1511300" y="31750"/>
                </a:lnTo>
                <a:lnTo>
                  <a:pt x="1498600" y="31750"/>
                </a:lnTo>
                <a:lnTo>
                  <a:pt x="1485900" y="25400"/>
                </a:lnTo>
                <a:lnTo>
                  <a:pt x="1466850" y="25400"/>
                </a:lnTo>
                <a:lnTo>
                  <a:pt x="1441450" y="25400"/>
                </a:lnTo>
                <a:lnTo>
                  <a:pt x="1422400" y="25400"/>
                </a:lnTo>
                <a:lnTo>
                  <a:pt x="1403350" y="19050"/>
                </a:lnTo>
                <a:lnTo>
                  <a:pt x="1377950" y="19050"/>
                </a:lnTo>
                <a:lnTo>
                  <a:pt x="1352550" y="19050"/>
                </a:lnTo>
                <a:lnTo>
                  <a:pt x="1327150" y="12700"/>
                </a:lnTo>
                <a:lnTo>
                  <a:pt x="1301750" y="12700"/>
                </a:lnTo>
                <a:lnTo>
                  <a:pt x="1276350" y="12700"/>
                </a:lnTo>
                <a:lnTo>
                  <a:pt x="1250950" y="12700"/>
                </a:lnTo>
                <a:lnTo>
                  <a:pt x="1225550" y="6350"/>
                </a:lnTo>
                <a:lnTo>
                  <a:pt x="1193800" y="6350"/>
                </a:lnTo>
                <a:lnTo>
                  <a:pt x="1162050" y="6350"/>
                </a:lnTo>
                <a:lnTo>
                  <a:pt x="1136650" y="6350"/>
                </a:lnTo>
                <a:lnTo>
                  <a:pt x="1104900" y="6350"/>
                </a:lnTo>
                <a:lnTo>
                  <a:pt x="1073150" y="0"/>
                </a:lnTo>
                <a:lnTo>
                  <a:pt x="1041400" y="0"/>
                </a:lnTo>
                <a:lnTo>
                  <a:pt x="1009650" y="0"/>
                </a:lnTo>
                <a:lnTo>
                  <a:pt x="971550" y="0"/>
                </a:lnTo>
                <a:lnTo>
                  <a:pt x="933450" y="0"/>
                </a:lnTo>
                <a:lnTo>
                  <a:pt x="901700" y="0"/>
                </a:lnTo>
                <a:lnTo>
                  <a:pt x="869950" y="0"/>
                </a:lnTo>
                <a:lnTo>
                  <a:pt x="831850" y="0"/>
                </a:lnTo>
                <a:lnTo>
                  <a:pt x="800100" y="0"/>
                </a:lnTo>
                <a:lnTo>
                  <a:pt x="768350" y="0"/>
                </a:lnTo>
                <a:lnTo>
                  <a:pt x="730250" y="6350"/>
                </a:lnTo>
                <a:lnTo>
                  <a:pt x="692150" y="6350"/>
                </a:lnTo>
                <a:lnTo>
                  <a:pt x="660400" y="6350"/>
                </a:lnTo>
                <a:lnTo>
                  <a:pt x="628650" y="6350"/>
                </a:lnTo>
                <a:lnTo>
                  <a:pt x="596900" y="6350"/>
                </a:lnTo>
                <a:lnTo>
                  <a:pt x="565150" y="6350"/>
                </a:lnTo>
                <a:lnTo>
                  <a:pt x="533400" y="12700"/>
                </a:lnTo>
                <a:lnTo>
                  <a:pt x="501650" y="12700"/>
                </a:lnTo>
                <a:lnTo>
                  <a:pt x="476250" y="12700"/>
                </a:lnTo>
                <a:lnTo>
                  <a:pt x="438150" y="12700"/>
                </a:lnTo>
                <a:lnTo>
                  <a:pt x="412750" y="19050"/>
                </a:lnTo>
                <a:lnTo>
                  <a:pt x="387350" y="19050"/>
                </a:lnTo>
                <a:lnTo>
                  <a:pt x="355600" y="25400"/>
                </a:lnTo>
                <a:lnTo>
                  <a:pt x="323850" y="25400"/>
                </a:lnTo>
                <a:lnTo>
                  <a:pt x="298450" y="25400"/>
                </a:lnTo>
                <a:lnTo>
                  <a:pt x="273050" y="31750"/>
                </a:lnTo>
                <a:lnTo>
                  <a:pt x="247650" y="38100"/>
                </a:lnTo>
                <a:lnTo>
                  <a:pt x="215900" y="44450"/>
                </a:lnTo>
                <a:lnTo>
                  <a:pt x="196850" y="50800"/>
                </a:lnTo>
                <a:lnTo>
                  <a:pt x="171450" y="57150"/>
                </a:lnTo>
                <a:lnTo>
                  <a:pt x="152400" y="69850"/>
                </a:lnTo>
                <a:lnTo>
                  <a:pt x="133350" y="76200"/>
                </a:lnTo>
                <a:lnTo>
                  <a:pt x="114300" y="88900"/>
                </a:lnTo>
                <a:lnTo>
                  <a:pt x="95250" y="95250"/>
                </a:lnTo>
                <a:lnTo>
                  <a:pt x="82550" y="107950"/>
                </a:lnTo>
                <a:lnTo>
                  <a:pt x="63500" y="120650"/>
                </a:lnTo>
                <a:lnTo>
                  <a:pt x="50800" y="133350"/>
                </a:lnTo>
                <a:lnTo>
                  <a:pt x="38100" y="146050"/>
                </a:lnTo>
                <a:lnTo>
                  <a:pt x="31750" y="165100"/>
                </a:lnTo>
                <a:lnTo>
                  <a:pt x="19050" y="177800"/>
                </a:lnTo>
                <a:lnTo>
                  <a:pt x="12700" y="190500"/>
                </a:lnTo>
                <a:lnTo>
                  <a:pt x="6350" y="209550"/>
                </a:lnTo>
                <a:lnTo>
                  <a:pt x="0" y="222250"/>
                </a:lnTo>
                <a:lnTo>
                  <a:pt x="0" y="234950"/>
                </a:lnTo>
                <a:lnTo>
                  <a:pt x="0" y="247650"/>
                </a:lnTo>
                <a:lnTo>
                  <a:pt x="6350" y="254000"/>
                </a:lnTo>
                <a:lnTo>
                  <a:pt x="6350" y="266700"/>
                </a:lnTo>
                <a:lnTo>
                  <a:pt x="19050" y="279400"/>
                </a:lnTo>
                <a:lnTo>
                  <a:pt x="25400" y="285750"/>
                </a:lnTo>
                <a:lnTo>
                  <a:pt x="38100" y="292100"/>
                </a:lnTo>
                <a:lnTo>
                  <a:pt x="50800" y="298450"/>
                </a:lnTo>
                <a:lnTo>
                  <a:pt x="63500" y="304800"/>
                </a:lnTo>
                <a:lnTo>
                  <a:pt x="82550" y="311150"/>
                </a:lnTo>
                <a:lnTo>
                  <a:pt x="101600" y="317500"/>
                </a:lnTo>
                <a:lnTo>
                  <a:pt x="120650" y="317500"/>
                </a:lnTo>
                <a:lnTo>
                  <a:pt x="139700" y="323850"/>
                </a:lnTo>
                <a:lnTo>
                  <a:pt x="165100" y="330200"/>
                </a:lnTo>
                <a:lnTo>
                  <a:pt x="184150" y="330200"/>
                </a:lnTo>
                <a:lnTo>
                  <a:pt x="209550" y="330200"/>
                </a:lnTo>
                <a:lnTo>
                  <a:pt x="234950" y="336550"/>
                </a:lnTo>
                <a:lnTo>
                  <a:pt x="254000" y="336550"/>
                </a:lnTo>
                <a:lnTo>
                  <a:pt x="285750" y="336550"/>
                </a:lnTo>
                <a:lnTo>
                  <a:pt x="311150" y="336550"/>
                </a:lnTo>
                <a:lnTo>
                  <a:pt x="336550" y="342900"/>
                </a:lnTo>
                <a:lnTo>
                  <a:pt x="361950" y="342900"/>
                </a:lnTo>
                <a:lnTo>
                  <a:pt x="387350" y="342900"/>
                </a:lnTo>
                <a:lnTo>
                  <a:pt x="412750" y="342900"/>
                </a:lnTo>
                <a:lnTo>
                  <a:pt x="444500" y="349250"/>
                </a:lnTo>
                <a:lnTo>
                  <a:pt x="469900" y="349250"/>
                </a:lnTo>
                <a:lnTo>
                  <a:pt x="495300" y="349250"/>
                </a:lnTo>
                <a:lnTo>
                  <a:pt x="533400" y="349250"/>
                </a:lnTo>
                <a:lnTo>
                  <a:pt x="558800" y="349250"/>
                </a:lnTo>
                <a:lnTo>
                  <a:pt x="584200" y="355600"/>
                </a:lnTo>
                <a:lnTo>
                  <a:pt x="609600" y="355600"/>
                </a:lnTo>
                <a:lnTo>
                  <a:pt x="641350" y="355600"/>
                </a:lnTo>
                <a:lnTo>
                  <a:pt x="673100" y="361950"/>
                </a:lnTo>
                <a:lnTo>
                  <a:pt x="698500" y="361950"/>
                </a:lnTo>
                <a:lnTo>
                  <a:pt x="723900" y="361950"/>
                </a:lnTo>
                <a:lnTo>
                  <a:pt x="749300" y="361950"/>
                </a:lnTo>
                <a:lnTo>
                  <a:pt x="774700" y="361950"/>
                </a:lnTo>
                <a:lnTo>
                  <a:pt x="806450" y="361950"/>
                </a:lnTo>
                <a:lnTo>
                  <a:pt x="831850" y="361950"/>
                </a:lnTo>
                <a:lnTo>
                  <a:pt x="863600" y="368300"/>
                </a:lnTo>
                <a:lnTo>
                  <a:pt x="889000" y="368300"/>
                </a:lnTo>
                <a:lnTo>
                  <a:pt x="914400" y="368300"/>
                </a:lnTo>
                <a:lnTo>
                  <a:pt x="946150" y="374650"/>
                </a:lnTo>
                <a:lnTo>
                  <a:pt x="971550" y="374650"/>
                </a:lnTo>
                <a:lnTo>
                  <a:pt x="996950" y="374650"/>
                </a:lnTo>
                <a:lnTo>
                  <a:pt x="1022350" y="381000"/>
                </a:lnTo>
                <a:lnTo>
                  <a:pt x="1054100" y="381000"/>
                </a:lnTo>
                <a:lnTo>
                  <a:pt x="1079500" y="381000"/>
                </a:lnTo>
                <a:lnTo>
                  <a:pt x="1104900" y="381000"/>
                </a:lnTo>
                <a:lnTo>
                  <a:pt x="1130300" y="381000"/>
                </a:lnTo>
                <a:lnTo>
                  <a:pt x="1155700" y="381000"/>
                </a:lnTo>
                <a:lnTo>
                  <a:pt x="1187450" y="381000"/>
                </a:lnTo>
                <a:lnTo>
                  <a:pt x="1206500" y="381000"/>
                </a:lnTo>
                <a:lnTo>
                  <a:pt x="1238250" y="381000"/>
                </a:lnTo>
                <a:lnTo>
                  <a:pt x="1263650" y="387350"/>
                </a:lnTo>
                <a:lnTo>
                  <a:pt x="1295400" y="387350"/>
                </a:lnTo>
                <a:lnTo>
                  <a:pt x="1314450" y="387350"/>
                </a:lnTo>
                <a:lnTo>
                  <a:pt x="1346200" y="387350"/>
                </a:lnTo>
                <a:lnTo>
                  <a:pt x="1371600" y="387350"/>
                </a:lnTo>
                <a:lnTo>
                  <a:pt x="1397000" y="381000"/>
                </a:lnTo>
                <a:lnTo>
                  <a:pt x="1422400" y="381000"/>
                </a:lnTo>
                <a:lnTo>
                  <a:pt x="1447800" y="381000"/>
                </a:lnTo>
                <a:lnTo>
                  <a:pt x="1473200" y="381000"/>
                </a:lnTo>
                <a:lnTo>
                  <a:pt x="1498600" y="374650"/>
                </a:lnTo>
                <a:lnTo>
                  <a:pt x="1524000" y="374650"/>
                </a:lnTo>
                <a:lnTo>
                  <a:pt x="1543050" y="374650"/>
                </a:lnTo>
                <a:lnTo>
                  <a:pt x="1562100" y="368300"/>
                </a:lnTo>
                <a:lnTo>
                  <a:pt x="1581150" y="368300"/>
                </a:lnTo>
                <a:lnTo>
                  <a:pt x="1606550" y="361950"/>
                </a:lnTo>
                <a:lnTo>
                  <a:pt x="1619250" y="361950"/>
                </a:lnTo>
                <a:lnTo>
                  <a:pt x="1631950" y="355600"/>
                </a:lnTo>
                <a:lnTo>
                  <a:pt x="1644650" y="349250"/>
                </a:lnTo>
                <a:lnTo>
                  <a:pt x="1657350" y="342900"/>
                </a:lnTo>
                <a:lnTo>
                  <a:pt x="1663700" y="336550"/>
                </a:lnTo>
                <a:lnTo>
                  <a:pt x="1670050" y="323850"/>
                </a:lnTo>
                <a:lnTo>
                  <a:pt x="1670050" y="311150"/>
                </a:lnTo>
                <a:lnTo>
                  <a:pt x="1670050" y="298450"/>
                </a:lnTo>
                <a:lnTo>
                  <a:pt x="1670050" y="285750"/>
                </a:lnTo>
                <a:lnTo>
                  <a:pt x="1663700" y="273050"/>
                </a:lnTo>
                <a:lnTo>
                  <a:pt x="1657350" y="254000"/>
                </a:lnTo>
                <a:lnTo>
                  <a:pt x="1644650" y="241300"/>
                </a:lnTo>
                <a:lnTo>
                  <a:pt x="1631950" y="222250"/>
                </a:lnTo>
                <a:lnTo>
                  <a:pt x="1625600" y="203200"/>
                </a:lnTo>
                <a:lnTo>
                  <a:pt x="1606550" y="184150"/>
                </a:lnTo>
                <a:lnTo>
                  <a:pt x="1593850" y="165100"/>
                </a:lnTo>
                <a:lnTo>
                  <a:pt x="1574800" y="152400"/>
                </a:lnTo>
                <a:lnTo>
                  <a:pt x="1555750" y="133350"/>
                </a:lnTo>
                <a:lnTo>
                  <a:pt x="1536700" y="107950"/>
                </a:lnTo>
                <a:lnTo>
                  <a:pt x="1511300" y="95250"/>
                </a:lnTo>
                <a:lnTo>
                  <a:pt x="1485900" y="76200"/>
                </a:lnTo>
                <a:lnTo>
                  <a:pt x="1454150" y="57150"/>
                </a:lnTo>
                <a:lnTo>
                  <a:pt x="1422400" y="38100"/>
                </a:lnTo>
                <a:lnTo>
                  <a:pt x="1384300" y="25400"/>
                </a:lnTo>
                <a:lnTo>
                  <a:pt x="1384300" y="25400"/>
                </a:lnTo>
                <a:lnTo>
                  <a:pt x="1352550" y="12700"/>
                </a:lnTo>
                <a:lnTo>
                  <a:pt x="1352550" y="127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76" name="Freeform 25"/>
          <p:cNvSpPr/>
          <p:nvPr/>
        </p:nvSpPr>
        <p:spPr>
          <a:xfrm>
            <a:off x="2476440" y="4635360"/>
            <a:ext cx="609840" cy="32040"/>
          </a:xfrm>
          <a:custGeom>
            <a:avLst/>
            <a:gdLst>
              <a:gd name="textAreaLeft" fmla="*/ 0 w 609840"/>
              <a:gd name="textAreaRight" fmla="*/ 610200 w 609840"/>
              <a:gd name="textAreaTop" fmla="*/ 0 h 32040"/>
              <a:gd name="textAreaBottom" fmla="*/ 32400 h 32040"/>
            </a:gdLst>
            <a:ahLst/>
            <a:rect l="textAreaLeft" t="textAreaTop" r="textAreaRight" b="textAreaBottom"/>
            <a:pathLst>
              <a:path w="609601" h="31751">
                <a:moveTo>
                  <a:pt x="0" y="31750"/>
                </a:moveTo>
                <a:lnTo>
                  <a:pt x="0" y="31750"/>
                </a:lnTo>
                <a:lnTo>
                  <a:pt x="0" y="31750"/>
                </a:lnTo>
                <a:lnTo>
                  <a:pt x="6350" y="31750"/>
                </a:lnTo>
                <a:lnTo>
                  <a:pt x="12700" y="31750"/>
                </a:lnTo>
                <a:lnTo>
                  <a:pt x="12700" y="31750"/>
                </a:lnTo>
                <a:lnTo>
                  <a:pt x="12700" y="31750"/>
                </a:lnTo>
                <a:lnTo>
                  <a:pt x="12700" y="31750"/>
                </a:lnTo>
                <a:lnTo>
                  <a:pt x="12700" y="31750"/>
                </a:lnTo>
                <a:lnTo>
                  <a:pt x="12700" y="31750"/>
                </a:lnTo>
                <a:lnTo>
                  <a:pt x="12700" y="31750"/>
                </a:lnTo>
                <a:lnTo>
                  <a:pt x="19050" y="31750"/>
                </a:lnTo>
                <a:lnTo>
                  <a:pt x="19050" y="31750"/>
                </a:lnTo>
                <a:lnTo>
                  <a:pt x="25400" y="31750"/>
                </a:lnTo>
                <a:lnTo>
                  <a:pt x="31750" y="25400"/>
                </a:lnTo>
                <a:lnTo>
                  <a:pt x="38100" y="25400"/>
                </a:lnTo>
                <a:lnTo>
                  <a:pt x="44450" y="25400"/>
                </a:lnTo>
                <a:lnTo>
                  <a:pt x="50800" y="25400"/>
                </a:lnTo>
                <a:lnTo>
                  <a:pt x="57150" y="25400"/>
                </a:lnTo>
                <a:lnTo>
                  <a:pt x="69850" y="19050"/>
                </a:lnTo>
                <a:lnTo>
                  <a:pt x="76200" y="19050"/>
                </a:lnTo>
                <a:lnTo>
                  <a:pt x="88900" y="12700"/>
                </a:lnTo>
                <a:lnTo>
                  <a:pt x="95250" y="12700"/>
                </a:lnTo>
                <a:lnTo>
                  <a:pt x="107950" y="6350"/>
                </a:lnTo>
                <a:lnTo>
                  <a:pt x="120650" y="6350"/>
                </a:lnTo>
                <a:lnTo>
                  <a:pt x="133350" y="6350"/>
                </a:lnTo>
                <a:lnTo>
                  <a:pt x="146050" y="6350"/>
                </a:lnTo>
                <a:lnTo>
                  <a:pt x="158750" y="6350"/>
                </a:lnTo>
                <a:lnTo>
                  <a:pt x="171450" y="0"/>
                </a:lnTo>
                <a:lnTo>
                  <a:pt x="184150" y="0"/>
                </a:lnTo>
                <a:lnTo>
                  <a:pt x="196850" y="0"/>
                </a:lnTo>
                <a:lnTo>
                  <a:pt x="209550" y="0"/>
                </a:lnTo>
                <a:lnTo>
                  <a:pt x="222250" y="0"/>
                </a:lnTo>
                <a:lnTo>
                  <a:pt x="234950" y="0"/>
                </a:lnTo>
                <a:lnTo>
                  <a:pt x="254000" y="0"/>
                </a:lnTo>
                <a:lnTo>
                  <a:pt x="266700" y="0"/>
                </a:lnTo>
                <a:lnTo>
                  <a:pt x="285750" y="0"/>
                </a:lnTo>
                <a:lnTo>
                  <a:pt x="298450" y="0"/>
                </a:lnTo>
                <a:lnTo>
                  <a:pt x="311150" y="0"/>
                </a:lnTo>
                <a:lnTo>
                  <a:pt x="330200" y="0"/>
                </a:lnTo>
                <a:lnTo>
                  <a:pt x="342900" y="0"/>
                </a:lnTo>
                <a:lnTo>
                  <a:pt x="361950" y="0"/>
                </a:lnTo>
                <a:lnTo>
                  <a:pt x="381000" y="0"/>
                </a:lnTo>
                <a:lnTo>
                  <a:pt x="400050" y="0"/>
                </a:lnTo>
                <a:lnTo>
                  <a:pt x="419100" y="0"/>
                </a:lnTo>
                <a:lnTo>
                  <a:pt x="431800" y="6350"/>
                </a:lnTo>
                <a:lnTo>
                  <a:pt x="450850" y="6350"/>
                </a:lnTo>
                <a:lnTo>
                  <a:pt x="469900" y="6350"/>
                </a:lnTo>
                <a:lnTo>
                  <a:pt x="488950" y="6350"/>
                </a:lnTo>
                <a:lnTo>
                  <a:pt x="508000" y="12700"/>
                </a:lnTo>
                <a:lnTo>
                  <a:pt x="520700" y="12700"/>
                </a:lnTo>
                <a:lnTo>
                  <a:pt x="533400" y="19050"/>
                </a:lnTo>
                <a:lnTo>
                  <a:pt x="546100" y="19050"/>
                </a:lnTo>
                <a:lnTo>
                  <a:pt x="558800" y="19050"/>
                </a:lnTo>
                <a:lnTo>
                  <a:pt x="571500" y="25400"/>
                </a:lnTo>
                <a:lnTo>
                  <a:pt x="577850" y="25400"/>
                </a:lnTo>
                <a:lnTo>
                  <a:pt x="584200" y="25400"/>
                </a:lnTo>
                <a:lnTo>
                  <a:pt x="590550" y="25400"/>
                </a:lnTo>
                <a:lnTo>
                  <a:pt x="590550" y="31750"/>
                </a:lnTo>
                <a:lnTo>
                  <a:pt x="590550" y="31750"/>
                </a:lnTo>
                <a:lnTo>
                  <a:pt x="596900" y="31750"/>
                </a:lnTo>
                <a:lnTo>
                  <a:pt x="596900" y="31750"/>
                </a:lnTo>
                <a:lnTo>
                  <a:pt x="596900" y="31750"/>
                </a:lnTo>
                <a:lnTo>
                  <a:pt x="596900" y="31750"/>
                </a:lnTo>
                <a:lnTo>
                  <a:pt x="596900" y="31750"/>
                </a:lnTo>
                <a:lnTo>
                  <a:pt x="596900" y="31750"/>
                </a:lnTo>
                <a:lnTo>
                  <a:pt x="596900" y="31750"/>
                </a:lnTo>
                <a:lnTo>
                  <a:pt x="596900" y="31750"/>
                </a:lnTo>
                <a:lnTo>
                  <a:pt x="596900" y="31750"/>
                </a:lnTo>
                <a:lnTo>
                  <a:pt x="596900" y="31750"/>
                </a:lnTo>
                <a:lnTo>
                  <a:pt x="603250" y="31750"/>
                </a:lnTo>
                <a:lnTo>
                  <a:pt x="603250" y="31750"/>
                </a:lnTo>
                <a:lnTo>
                  <a:pt x="603250" y="31750"/>
                </a:lnTo>
                <a:lnTo>
                  <a:pt x="603250" y="31750"/>
                </a:lnTo>
                <a:lnTo>
                  <a:pt x="609600" y="31750"/>
                </a:lnTo>
                <a:lnTo>
                  <a:pt x="609600" y="31750"/>
                </a:lnTo>
              </a:path>
            </a:pathLst>
          </a:custGeom>
          <a:noFill/>
          <a:ln w="38160">
            <a:solidFill>
              <a:srgbClr val="ff0000"/>
            </a:solidFill>
            <a:round/>
          </a:ln>
        </p:spPr>
        <p:style>
          <a:lnRef idx="0"/>
          <a:fillRef idx="0"/>
          <a:effectRef idx="0"/>
          <a:fontRef idx="minor"/>
        </p:style>
        <p:txBody>
          <a:bodyPr tIns="-13320" bIns="-13320" anchor="ctr">
            <a:noAutofit/>
          </a:bodyPr>
          <a:p>
            <a:endParaRPr b="0" lang="en-US" sz="1800" spc="-1" strike="noStrike">
              <a:solidFill>
                <a:srgbClr val="000000"/>
              </a:solidFill>
              <a:latin typeface="Verdana"/>
            </a:endParaRPr>
          </a:p>
        </p:txBody>
      </p:sp>
      <p:sp>
        <p:nvSpPr>
          <p:cNvPr id="77" name="Freeform 26"/>
          <p:cNvSpPr/>
          <p:nvPr/>
        </p:nvSpPr>
        <p:spPr>
          <a:xfrm>
            <a:off x="3340080" y="4648320"/>
            <a:ext cx="787320" cy="95040"/>
          </a:xfrm>
          <a:custGeom>
            <a:avLst/>
            <a:gdLst>
              <a:gd name="textAreaLeft" fmla="*/ 0 w 787320"/>
              <a:gd name="textAreaRight" fmla="*/ 787680 w 787320"/>
              <a:gd name="textAreaTop" fmla="*/ 0 h 95040"/>
              <a:gd name="textAreaBottom" fmla="*/ 95400 h 95040"/>
            </a:gdLst>
            <a:ahLst/>
            <a:rect l="textAreaLeft" t="textAreaTop" r="textAreaRight" b="textAreaBottom"/>
            <a:pathLst>
              <a:path w="787401" h="95251">
                <a:moveTo>
                  <a:pt x="0" y="0"/>
                </a:moveTo>
                <a:lnTo>
                  <a:pt x="0" y="0"/>
                </a:lnTo>
                <a:lnTo>
                  <a:pt x="0" y="6350"/>
                </a:lnTo>
                <a:lnTo>
                  <a:pt x="0" y="6350"/>
                </a:lnTo>
                <a:lnTo>
                  <a:pt x="0" y="6350"/>
                </a:lnTo>
                <a:lnTo>
                  <a:pt x="0" y="6350"/>
                </a:lnTo>
                <a:lnTo>
                  <a:pt x="6350" y="6350"/>
                </a:lnTo>
                <a:lnTo>
                  <a:pt x="6350" y="6350"/>
                </a:lnTo>
                <a:lnTo>
                  <a:pt x="6350" y="6350"/>
                </a:lnTo>
                <a:lnTo>
                  <a:pt x="12700" y="6350"/>
                </a:lnTo>
                <a:lnTo>
                  <a:pt x="19050" y="6350"/>
                </a:lnTo>
                <a:lnTo>
                  <a:pt x="25400" y="6350"/>
                </a:lnTo>
                <a:lnTo>
                  <a:pt x="31750" y="6350"/>
                </a:lnTo>
                <a:lnTo>
                  <a:pt x="38100" y="6350"/>
                </a:lnTo>
                <a:lnTo>
                  <a:pt x="50800" y="6350"/>
                </a:lnTo>
                <a:lnTo>
                  <a:pt x="57150" y="6350"/>
                </a:lnTo>
                <a:lnTo>
                  <a:pt x="69850" y="6350"/>
                </a:lnTo>
                <a:lnTo>
                  <a:pt x="82550" y="6350"/>
                </a:lnTo>
                <a:lnTo>
                  <a:pt x="88900" y="6350"/>
                </a:lnTo>
                <a:lnTo>
                  <a:pt x="101600" y="6350"/>
                </a:lnTo>
                <a:lnTo>
                  <a:pt x="107950" y="6350"/>
                </a:lnTo>
                <a:lnTo>
                  <a:pt x="120650" y="6350"/>
                </a:lnTo>
                <a:lnTo>
                  <a:pt x="133350" y="6350"/>
                </a:lnTo>
                <a:lnTo>
                  <a:pt x="139700" y="6350"/>
                </a:lnTo>
                <a:lnTo>
                  <a:pt x="152400" y="6350"/>
                </a:lnTo>
                <a:lnTo>
                  <a:pt x="165100" y="6350"/>
                </a:lnTo>
                <a:lnTo>
                  <a:pt x="177800" y="6350"/>
                </a:lnTo>
                <a:lnTo>
                  <a:pt x="184150" y="6350"/>
                </a:lnTo>
                <a:lnTo>
                  <a:pt x="196850" y="6350"/>
                </a:lnTo>
                <a:lnTo>
                  <a:pt x="215900" y="6350"/>
                </a:lnTo>
                <a:lnTo>
                  <a:pt x="228600" y="12700"/>
                </a:lnTo>
                <a:lnTo>
                  <a:pt x="241300" y="12700"/>
                </a:lnTo>
                <a:lnTo>
                  <a:pt x="254000" y="12700"/>
                </a:lnTo>
                <a:lnTo>
                  <a:pt x="273050" y="12700"/>
                </a:lnTo>
                <a:lnTo>
                  <a:pt x="285750" y="12700"/>
                </a:lnTo>
                <a:lnTo>
                  <a:pt x="304800" y="12700"/>
                </a:lnTo>
                <a:lnTo>
                  <a:pt x="317500" y="12700"/>
                </a:lnTo>
                <a:lnTo>
                  <a:pt x="336550" y="19050"/>
                </a:lnTo>
                <a:lnTo>
                  <a:pt x="355600" y="19050"/>
                </a:lnTo>
                <a:lnTo>
                  <a:pt x="374650" y="19050"/>
                </a:lnTo>
                <a:lnTo>
                  <a:pt x="393700" y="25400"/>
                </a:lnTo>
                <a:lnTo>
                  <a:pt x="419100" y="25400"/>
                </a:lnTo>
                <a:lnTo>
                  <a:pt x="438150" y="25400"/>
                </a:lnTo>
                <a:lnTo>
                  <a:pt x="463550" y="31750"/>
                </a:lnTo>
                <a:lnTo>
                  <a:pt x="482600" y="31750"/>
                </a:lnTo>
                <a:lnTo>
                  <a:pt x="508000" y="38100"/>
                </a:lnTo>
                <a:lnTo>
                  <a:pt x="527050" y="38100"/>
                </a:lnTo>
                <a:lnTo>
                  <a:pt x="546100" y="44450"/>
                </a:lnTo>
                <a:lnTo>
                  <a:pt x="571500" y="44450"/>
                </a:lnTo>
                <a:lnTo>
                  <a:pt x="590550" y="50800"/>
                </a:lnTo>
                <a:lnTo>
                  <a:pt x="609600" y="50800"/>
                </a:lnTo>
                <a:lnTo>
                  <a:pt x="635000" y="57150"/>
                </a:lnTo>
                <a:lnTo>
                  <a:pt x="654050" y="57150"/>
                </a:lnTo>
                <a:lnTo>
                  <a:pt x="673100" y="63500"/>
                </a:lnTo>
                <a:lnTo>
                  <a:pt x="685800" y="63500"/>
                </a:lnTo>
                <a:lnTo>
                  <a:pt x="704850" y="69850"/>
                </a:lnTo>
                <a:lnTo>
                  <a:pt x="711200" y="69850"/>
                </a:lnTo>
                <a:lnTo>
                  <a:pt x="723900" y="76200"/>
                </a:lnTo>
                <a:lnTo>
                  <a:pt x="736600" y="76200"/>
                </a:lnTo>
                <a:lnTo>
                  <a:pt x="749300" y="76200"/>
                </a:lnTo>
                <a:lnTo>
                  <a:pt x="755650" y="82550"/>
                </a:lnTo>
                <a:lnTo>
                  <a:pt x="762000" y="82550"/>
                </a:lnTo>
                <a:lnTo>
                  <a:pt x="768350" y="82550"/>
                </a:lnTo>
                <a:lnTo>
                  <a:pt x="768350" y="82550"/>
                </a:lnTo>
                <a:lnTo>
                  <a:pt x="774700" y="82550"/>
                </a:lnTo>
                <a:lnTo>
                  <a:pt x="781050" y="82550"/>
                </a:lnTo>
                <a:lnTo>
                  <a:pt x="781050" y="88900"/>
                </a:lnTo>
                <a:lnTo>
                  <a:pt x="781050" y="88900"/>
                </a:lnTo>
                <a:lnTo>
                  <a:pt x="787400" y="88900"/>
                </a:lnTo>
                <a:lnTo>
                  <a:pt x="787400" y="88900"/>
                </a:lnTo>
                <a:lnTo>
                  <a:pt x="787400" y="88900"/>
                </a:lnTo>
                <a:lnTo>
                  <a:pt x="781050" y="88900"/>
                </a:lnTo>
                <a:lnTo>
                  <a:pt x="781050" y="88900"/>
                </a:lnTo>
                <a:lnTo>
                  <a:pt x="781050" y="88900"/>
                </a:lnTo>
                <a:lnTo>
                  <a:pt x="781050" y="95250"/>
                </a:lnTo>
                <a:lnTo>
                  <a:pt x="781050" y="952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78" name="Freeform 27"/>
          <p:cNvSpPr/>
          <p:nvPr/>
        </p:nvSpPr>
        <p:spPr>
          <a:xfrm>
            <a:off x="812880" y="5022720"/>
            <a:ext cx="374400" cy="25560"/>
          </a:xfrm>
          <a:custGeom>
            <a:avLst/>
            <a:gdLst>
              <a:gd name="textAreaLeft" fmla="*/ 0 w 374400"/>
              <a:gd name="textAreaRight" fmla="*/ 374760 w 374400"/>
              <a:gd name="textAreaTop" fmla="*/ 0 h 25560"/>
              <a:gd name="textAreaBottom" fmla="*/ 25920 h 25560"/>
            </a:gdLst>
            <a:ahLst/>
            <a:rect l="textAreaLeft" t="textAreaTop" r="textAreaRight" b="textAreaBottom"/>
            <a:pathLst>
              <a:path w="374651" h="25401">
                <a:moveTo>
                  <a:pt x="0" y="25400"/>
                </a:moveTo>
                <a:lnTo>
                  <a:pt x="0" y="25400"/>
                </a:lnTo>
                <a:lnTo>
                  <a:pt x="0" y="25400"/>
                </a:lnTo>
                <a:lnTo>
                  <a:pt x="0" y="25400"/>
                </a:lnTo>
                <a:lnTo>
                  <a:pt x="0" y="25400"/>
                </a:lnTo>
                <a:lnTo>
                  <a:pt x="0" y="25400"/>
                </a:lnTo>
                <a:lnTo>
                  <a:pt x="6350" y="25400"/>
                </a:lnTo>
                <a:lnTo>
                  <a:pt x="6350" y="25400"/>
                </a:lnTo>
                <a:lnTo>
                  <a:pt x="12700" y="25400"/>
                </a:lnTo>
                <a:lnTo>
                  <a:pt x="12700" y="25400"/>
                </a:lnTo>
                <a:lnTo>
                  <a:pt x="19050" y="25400"/>
                </a:lnTo>
                <a:lnTo>
                  <a:pt x="25400" y="25400"/>
                </a:lnTo>
                <a:lnTo>
                  <a:pt x="31750" y="25400"/>
                </a:lnTo>
                <a:lnTo>
                  <a:pt x="44450" y="25400"/>
                </a:lnTo>
                <a:lnTo>
                  <a:pt x="50800" y="25400"/>
                </a:lnTo>
                <a:lnTo>
                  <a:pt x="57150" y="25400"/>
                </a:lnTo>
                <a:lnTo>
                  <a:pt x="69850" y="25400"/>
                </a:lnTo>
                <a:lnTo>
                  <a:pt x="76200" y="19050"/>
                </a:lnTo>
                <a:lnTo>
                  <a:pt x="88900" y="19050"/>
                </a:lnTo>
                <a:lnTo>
                  <a:pt x="101600" y="19050"/>
                </a:lnTo>
                <a:lnTo>
                  <a:pt x="114300" y="19050"/>
                </a:lnTo>
                <a:lnTo>
                  <a:pt x="133350" y="19050"/>
                </a:lnTo>
                <a:lnTo>
                  <a:pt x="139700" y="12700"/>
                </a:lnTo>
                <a:lnTo>
                  <a:pt x="158750" y="12700"/>
                </a:lnTo>
                <a:lnTo>
                  <a:pt x="171450" y="12700"/>
                </a:lnTo>
                <a:lnTo>
                  <a:pt x="184150" y="12700"/>
                </a:lnTo>
                <a:lnTo>
                  <a:pt x="203200" y="6350"/>
                </a:lnTo>
                <a:lnTo>
                  <a:pt x="215900" y="6350"/>
                </a:lnTo>
                <a:lnTo>
                  <a:pt x="234950" y="6350"/>
                </a:lnTo>
                <a:lnTo>
                  <a:pt x="247650" y="6350"/>
                </a:lnTo>
                <a:lnTo>
                  <a:pt x="266700" y="0"/>
                </a:lnTo>
                <a:lnTo>
                  <a:pt x="279400" y="0"/>
                </a:lnTo>
                <a:lnTo>
                  <a:pt x="292100" y="0"/>
                </a:lnTo>
                <a:lnTo>
                  <a:pt x="304800" y="0"/>
                </a:lnTo>
                <a:lnTo>
                  <a:pt x="317500" y="0"/>
                </a:lnTo>
                <a:lnTo>
                  <a:pt x="330200" y="0"/>
                </a:lnTo>
                <a:lnTo>
                  <a:pt x="336550" y="0"/>
                </a:lnTo>
                <a:lnTo>
                  <a:pt x="349250" y="0"/>
                </a:lnTo>
                <a:lnTo>
                  <a:pt x="355600" y="0"/>
                </a:lnTo>
                <a:lnTo>
                  <a:pt x="361950" y="0"/>
                </a:lnTo>
                <a:lnTo>
                  <a:pt x="368300" y="0"/>
                </a:lnTo>
                <a:lnTo>
                  <a:pt x="368300" y="0"/>
                </a:lnTo>
                <a:lnTo>
                  <a:pt x="374650" y="0"/>
                </a:lnTo>
                <a:lnTo>
                  <a:pt x="374650" y="0"/>
                </a:lnTo>
                <a:lnTo>
                  <a:pt x="374650" y="0"/>
                </a:lnTo>
                <a:lnTo>
                  <a:pt x="374650" y="0"/>
                </a:lnTo>
                <a:lnTo>
                  <a:pt x="374650" y="0"/>
                </a:lnTo>
                <a:lnTo>
                  <a:pt x="374650" y="0"/>
                </a:lnTo>
                <a:lnTo>
                  <a:pt x="374650" y="0"/>
                </a:lnTo>
                <a:lnTo>
                  <a:pt x="374650" y="0"/>
                </a:lnTo>
                <a:lnTo>
                  <a:pt x="374650" y="0"/>
                </a:lnTo>
                <a:lnTo>
                  <a:pt x="374650" y="6350"/>
                </a:lnTo>
                <a:lnTo>
                  <a:pt x="374650" y="6350"/>
                </a:lnTo>
                <a:lnTo>
                  <a:pt x="374650" y="6350"/>
                </a:lnTo>
                <a:lnTo>
                  <a:pt x="374650" y="6350"/>
                </a:lnTo>
              </a:path>
            </a:pathLst>
          </a:custGeom>
          <a:noFill/>
          <a:ln w="38160">
            <a:solidFill>
              <a:srgbClr val="ff0000"/>
            </a:solidFill>
            <a:round/>
          </a:ln>
        </p:spPr>
        <p:style>
          <a:lnRef idx="0"/>
          <a:fillRef idx="0"/>
          <a:effectRef idx="0"/>
          <a:fontRef idx="minor"/>
        </p:style>
        <p:txBody>
          <a:bodyPr tIns="-19800" bIns="-19800" anchor="ctr">
            <a:noAutofit/>
          </a:bodyPr>
          <a:p>
            <a:endParaRPr b="0" lang="en-US" sz="1800" spc="-1" strike="noStrike">
              <a:solidFill>
                <a:srgbClr val="000000"/>
              </a:solidFill>
              <a:latin typeface="Verdana"/>
            </a:endParaRPr>
          </a:p>
        </p:txBody>
      </p:sp>
      <p:sp>
        <p:nvSpPr>
          <p:cNvPr id="79" name="Freeform 28"/>
          <p:cNvSpPr/>
          <p:nvPr/>
        </p:nvSpPr>
        <p:spPr>
          <a:xfrm>
            <a:off x="2324160" y="5035680"/>
            <a:ext cx="1111320" cy="114120"/>
          </a:xfrm>
          <a:custGeom>
            <a:avLst/>
            <a:gdLst>
              <a:gd name="textAreaLeft" fmla="*/ 0 w 1111320"/>
              <a:gd name="textAreaRight" fmla="*/ 1111680 w 1111320"/>
              <a:gd name="textAreaTop" fmla="*/ 0 h 114120"/>
              <a:gd name="textAreaBottom" fmla="*/ 114480 h 114120"/>
            </a:gdLst>
            <a:ahLst/>
            <a:rect l="textAreaLeft" t="textAreaTop" r="textAreaRight" b="textAreaBottom"/>
            <a:pathLst>
              <a:path w="1111251" h="114301">
                <a:moveTo>
                  <a:pt x="6350" y="0"/>
                </a:moveTo>
                <a:lnTo>
                  <a:pt x="6350" y="0"/>
                </a:lnTo>
                <a:lnTo>
                  <a:pt x="0" y="0"/>
                </a:lnTo>
                <a:lnTo>
                  <a:pt x="0" y="0"/>
                </a:lnTo>
                <a:lnTo>
                  <a:pt x="0" y="0"/>
                </a:lnTo>
                <a:lnTo>
                  <a:pt x="0" y="0"/>
                </a:lnTo>
                <a:lnTo>
                  <a:pt x="6350" y="0"/>
                </a:lnTo>
                <a:lnTo>
                  <a:pt x="6350" y="0"/>
                </a:lnTo>
                <a:lnTo>
                  <a:pt x="6350" y="0"/>
                </a:lnTo>
                <a:lnTo>
                  <a:pt x="6350" y="0"/>
                </a:lnTo>
                <a:lnTo>
                  <a:pt x="12700" y="0"/>
                </a:lnTo>
                <a:lnTo>
                  <a:pt x="12700" y="0"/>
                </a:lnTo>
                <a:lnTo>
                  <a:pt x="25400" y="6350"/>
                </a:lnTo>
                <a:lnTo>
                  <a:pt x="31750" y="6350"/>
                </a:lnTo>
                <a:lnTo>
                  <a:pt x="44450" y="6350"/>
                </a:lnTo>
                <a:lnTo>
                  <a:pt x="57150" y="12700"/>
                </a:lnTo>
                <a:lnTo>
                  <a:pt x="69850" y="12700"/>
                </a:lnTo>
                <a:lnTo>
                  <a:pt x="82550" y="12700"/>
                </a:lnTo>
                <a:lnTo>
                  <a:pt x="101600" y="12700"/>
                </a:lnTo>
                <a:lnTo>
                  <a:pt x="120650" y="12700"/>
                </a:lnTo>
                <a:lnTo>
                  <a:pt x="139700" y="19050"/>
                </a:lnTo>
                <a:lnTo>
                  <a:pt x="152400" y="19050"/>
                </a:lnTo>
                <a:lnTo>
                  <a:pt x="177800" y="19050"/>
                </a:lnTo>
                <a:lnTo>
                  <a:pt x="196850" y="19050"/>
                </a:lnTo>
                <a:lnTo>
                  <a:pt x="222250" y="19050"/>
                </a:lnTo>
                <a:lnTo>
                  <a:pt x="247650" y="19050"/>
                </a:lnTo>
                <a:lnTo>
                  <a:pt x="273050" y="19050"/>
                </a:lnTo>
                <a:lnTo>
                  <a:pt x="298450" y="19050"/>
                </a:lnTo>
                <a:lnTo>
                  <a:pt x="323850" y="25400"/>
                </a:lnTo>
                <a:lnTo>
                  <a:pt x="349250" y="25400"/>
                </a:lnTo>
                <a:lnTo>
                  <a:pt x="381000" y="25400"/>
                </a:lnTo>
                <a:lnTo>
                  <a:pt x="406400" y="25400"/>
                </a:lnTo>
                <a:lnTo>
                  <a:pt x="431800" y="31750"/>
                </a:lnTo>
                <a:lnTo>
                  <a:pt x="463550" y="31750"/>
                </a:lnTo>
                <a:lnTo>
                  <a:pt x="488950" y="31750"/>
                </a:lnTo>
                <a:lnTo>
                  <a:pt x="520700" y="38100"/>
                </a:lnTo>
                <a:lnTo>
                  <a:pt x="552450" y="38100"/>
                </a:lnTo>
                <a:lnTo>
                  <a:pt x="590550" y="44450"/>
                </a:lnTo>
                <a:lnTo>
                  <a:pt x="628650" y="44450"/>
                </a:lnTo>
                <a:lnTo>
                  <a:pt x="666750" y="50800"/>
                </a:lnTo>
                <a:lnTo>
                  <a:pt x="704850" y="57150"/>
                </a:lnTo>
                <a:lnTo>
                  <a:pt x="749300" y="57150"/>
                </a:lnTo>
                <a:lnTo>
                  <a:pt x="787400" y="63500"/>
                </a:lnTo>
                <a:lnTo>
                  <a:pt x="831850" y="69850"/>
                </a:lnTo>
                <a:lnTo>
                  <a:pt x="869950" y="76200"/>
                </a:lnTo>
                <a:lnTo>
                  <a:pt x="914400" y="82550"/>
                </a:lnTo>
                <a:lnTo>
                  <a:pt x="946150" y="82550"/>
                </a:lnTo>
                <a:lnTo>
                  <a:pt x="977900" y="88900"/>
                </a:lnTo>
                <a:lnTo>
                  <a:pt x="1009650" y="95250"/>
                </a:lnTo>
                <a:lnTo>
                  <a:pt x="1035050" y="95250"/>
                </a:lnTo>
                <a:lnTo>
                  <a:pt x="1054100" y="101600"/>
                </a:lnTo>
                <a:lnTo>
                  <a:pt x="1066800" y="101600"/>
                </a:lnTo>
                <a:lnTo>
                  <a:pt x="1079500" y="107950"/>
                </a:lnTo>
                <a:lnTo>
                  <a:pt x="1092200" y="107950"/>
                </a:lnTo>
                <a:lnTo>
                  <a:pt x="1098550" y="107950"/>
                </a:lnTo>
                <a:lnTo>
                  <a:pt x="1104900" y="114300"/>
                </a:lnTo>
                <a:lnTo>
                  <a:pt x="1104900" y="114300"/>
                </a:lnTo>
                <a:lnTo>
                  <a:pt x="1104900" y="114300"/>
                </a:lnTo>
                <a:lnTo>
                  <a:pt x="1111250" y="114300"/>
                </a:lnTo>
                <a:lnTo>
                  <a:pt x="1111250" y="1143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gtEl>
                                        <p:attrNameLst>
                                          <p:attrName>style.visibility</p:attrName>
                                        </p:attrNameLst>
                                      </p:cBhvr>
                                      <p:to>
                                        <p:strVal val="visible"/>
                                      </p:to>
                                    </p:set>
                                    <p:animEffect filter="wipe(left)" transition="in">
                                      <p:cBhvr additive="repl">
                                        <p:cTn id="7" dur="500"/>
                                        <p:tgtEl>
                                          <p:spTgt spid="46"/>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8"/>
                                        </p:tgtEl>
                                        <p:attrNameLst>
                                          <p:attrName>style.visibility</p:attrName>
                                        </p:attrNameLst>
                                      </p:cBhvr>
                                      <p:to>
                                        <p:strVal val="visible"/>
                                      </p:to>
                                    </p:set>
                                    <p:animEffect filter="wipe(left)" transition="in">
                                      <p:cBhvr additive="repl">
                                        <p:cTn id="11" dur="500"/>
                                        <p:tgtEl>
                                          <p:spTgt spid="48"/>
                                        </p:tgtEl>
                                      </p:cBhvr>
                                    </p:animEffect>
                                  </p:childTnLst>
                                </p:cTn>
                              </p:par>
                              <p:par>
                                <p:cTn id="12" nodeType="withEffect" fill="hold" presetClass="entr" presetID="22" presetSubtype="8">
                                  <p:stCondLst>
                                    <p:cond delay="0"/>
                                  </p:stCondLst>
                                  <p:childTnLst>
                                    <p:set>
                                      <p:cBhvr>
                                        <p:cTn id="13" dur="1" fill="hold">
                                          <p:stCondLst>
                                            <p:cond delay="0"/>
                                          </p:stCondLst>
                                        </p:cTn>
                                        <p:tgtEl>
                                          <p:spTgt spid="49"/>
                                        </p:tgtEl>
                                        <p:attrNameLst>
                                          <p:attrName>style.visibility</p:attrName>
                                        </p:attrNameLst>
                                      </p:cBhvr>
                                      <p:to>
                                        <p:strVal val="visible"/>
                                      </p:to>
                                    </p:set>
                                    <p:animEffect filter="wipe(left)" transition="in">
                                      <p:cBhvr additive="repl">
                                        <p:cTn id="14" dur="500"/>
                                        <p:tgtEl>
                                          <p:spTgt spid="4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47"/>
                                        </p:tgtEl>
                                        <p:attrNameLst>
                                          <p:attrName>style.visibility</p:attrName>
                                        </p:attrNameLst>
                                      </p:cBhvr>
                                      <p:to>
                                        <p:strVal val="visible"/>
                                      </p:to>
                                    </p:set>
                                    <p:animEffect filter="wipe(left)" transition="in">
                                      <p:cBhvr additive="repl">
                                        <p:cTn id="19" dur="500"/>
                                        <p:tgtEl>
                                          <p:spTgt spid="47"/>
                                        </p:tgtEl>
                                      </p:cBhvr>
                                    </p:animEffect>
                                  </p:childTnLst>
                                </p:cTn>
                              </p:par>
                            </p:childTnLst>
                          </p:cTn>
                        </p:par>
                        <p:par>
                          <p:cTn id="20" nodeType="afterEffect" fill="hold">
                            <p:stCondLst>
                              <p:cond delay="500"/>
                            </p:stCondLst>
                            <p:childTnLst>
                              <p:par>
                                <p:cTn id="21" nodeType="afterEffect" fill="hold" presetClass="entr" presetID="22" presetSubtype="1">
                                  <p:stCondLst>
                                    <p:cond delay="0"/>
                                  </p:stCondLst>
                                  <p:childTnLst>
                                    <p:set>
                                      <p:cBhvr>
                                        <p:cTn id="22" dur="1" fill="hold">
                                          <p:stCondLst>
                                            <p:cond delay="0"/>
                                          </p:stCondLst>
                                        </p:cTn>
                                        <p:tgtEl>
                                          <p:spTgt spid="50"/>
                                        </p:tgtEl>
                                        <p:attrNameLst>
                                          <p:attrName>style.visibility</p:attrName>
                                        </p:attrNameLst>
                                      </p:cBhvr>
                                      <p:to>
                                        <p:strVal val="visible"/>
                                      </p:to>
                                    </p:set>
                                    <p:animEffect filter="wipe(up)" transition="in">
                                      <p:cBhvr additive="repl">
                                        <p:cTn id="23" dur="500"/>
                                        <p:tgtEl>
                                          <p:spTgt spid="50"/>
                                        </p:tgtEl>
                                      </p:cBhvr>
                                    </p:animEffect>
                                  </p:childTnLst>
                                </p:cTn>
                              </p:par>
                            </p:childTnLst>
                          </p:cTn>
                        </p:par>
                        <p:par>
                          <p:cTn id="24" nodeType="afterEffect" fill="hold">
                            <p:stCondLst>
                              <p:cond delay="1000"/>
                            </p:stCondLst>
                            <p:childTnLst>
                              <p:par>
                                <p:cTn id="25" nodeType="afterEffect" fill="hold" presetClass="entr" presetID="22" presetSubtype="1">
                                  <p:stCondLst>
                                    <p:cond delay="0"/>
                                  </p:stCondLst>
                                  <p:childTnLst>
                                    <p:set>
                                      <p:cBhvr>
                                        <p:cTn id="26" dur="1" fill="hold">
                                          <p:stCondLst>
                                            <p:cond delay="0"/>
                                          </p:stCondLst>
                                        </p:cTn>
                                        <p:tgtEl>
                                          <p:spTgt spid="51"/>
                                        </p:tgtEl>
                                        <p:attrNameLst>
                                          <p:attrName>style.visibility</p:attrName>
                                        </p:attrNameLst>
                                      </p:cBhvr>
                                      <p:to>
                                        <p:strVal val="visible"/>
                                      </p:to>
                                    </p:set>
                                    <p:animEffect filter="wipe(up)" transition="in">
                                      <p:cBhvr additive="repl">
                                        <p:cTn id="2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6" descr="44236.JPG"/>
          <p:cNvPicPr/>
          <p:nvPr/>
        </p:nvPicPr>
        <p:blipFill>
          <a:blip r:embed="rId1"/>
          <a:stretch/>
        </p:blipFill>
        <p:spPr>
          <a:xfrm>
            <a:off x="533520" y="2438280"/>
            <a:ext cx="1676160" cy="1108080"/>
          </a:xfrm>
          <a:prstGeom prst="rect">
            <a:avLst/>
          </a:prstGeom>
          <a:ln w="0">
            <a:noFill/>
          </a:ln>
        </p:spPr>
      </p:pic>
      <p:sp>
        <p:nvSpPr>
          <p:cNvPr id="81" name="Text Box 3"/>
          <p:cNvSpPr/>
          <p:nvPr/>
        </p:nvSpPr>
        <p:spPr>
          <a:xfrm>
            <a:off x="533520" y="1370160"/>
            <a:ext cx="8076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Verdana"/>
              </a:rPr>
              <a:t>Setting is the </a:t>
            </a:r>
            <a:r>
              <a:rPr b="1" lang="en-US" sz="2400" spc="-1" strike="noStrike" u="sng">
                <a:solidFill>
                  <a:srgbClr val="00b0f0"/>
                </a:solidFill>
                <a:uFillTx/>
                <a:latin typeface="Verdana"/>
              </a:rPr>
              <a:t>time and place of a story</a:t>
            </a:r>
            <a:r>
              <a:rPr b="1" lang="en-US" sz="2400" spc="-1" strike="noStrike">
                <a:solidFill>
                  <a:srgbClr val="00b0f0"/>
                </a:solidFill>
                <a:latin typeface="Verdana"/>
              </a:rPr>
              <a:t>. </a:t>
            </a:r>
            <a:endParaRPr b="0" lang="en-US" sz="2400" spc="-1" strike="noStrike">
              <a:solidFill>
                <a:srgbClr val="000000"/>
              </a:solidFill>
              <a:latin typeface="Verdana"/>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Verdana"/>
              </a:rPr>
              <a:t>Setting can include the:</a:t>
            </a:r>
            <a:endParaRPr b="0" lang="en-US" sz="2400" spc="-1" strike="noStrike">
              <a:solidFill>
                <a:srgbClr val="000000"/>
              </a:solidFill>
              <a:latin typeface="Verdana"/>
            </a:endParaRPr>
          </a:p>
        </p:txBody>
      </p:sp>
      <p:sp>
        <p:nvSpPr>
          <p:cNvPr id="82" name="Text Box 12"/>
          <p:cNvSpPr/>
          <p:nvPr/>
        </p:nvSpPr>
        <p:spPr>
          <a:xfrm>
            <a:off x="4572000" y="2743200"/>
            <a:ext cx="40384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erdana"/>
              </a:rPr>
              <a:t>weather</a:t>
            </a:r>
            <a:endParaRPr b="0" lang="en-US" sz="2400" spc="-1" strike="noStrike">
              <a:solidFill>
                <a:srgbClr val="000000"/>
              </a:solidFill>
              <a:latin typeface="Verdana"/>
            </a:endParaRPr>
          </a:p>
        </p:txBody>
      </p:sp>
      <p:sp>
        <p:nvSpPr>
          <p:cNvPr id="83" name="Text Box 13"/>
          <p:cNvSpPr/>
          <p:nvPr/>
        </p:nvSpPr>
        <p:spPr>
          <a:xfrm>
            <a:off x="4572000" y="3505320"/>
            <a:ext cx="40384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erdana"/>
              </a:rPr>
              <a:t>time of day</a:t>
            </a:r>
            <a:endParaRPr b="0" lang="en-US" sz="2400" spc="-1" strike="noStrike">
              <a:solidFill>
                <a:srgbClr val="000000"/>
              </a:solidFill>
              <a:latin typeface="Verdana"/>
            </a:endParaRPr>
          </a:p>
        </p:txBody>
      </p:sp>
      <p:sp>
        <p:nvSpPr>
          <p:cNvPr id="84" name="Text Box 14"/>
          <p:cNvSpPr/>
          <p:nvPr/>
        </p:nvSpPr>
        <p:spPr>
          <a:xfrm>
            <a:off x="4572000" y="4427640"/>
            <a:ext cx="4038480" cy="82548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erdana"/>
              </a:rPr>
              <a:t>time period </a:t>
            </a:r>
            <a:r>
              <a:rPr b="0" lang="en-US" sz="2400" spc="-1" strike="noStrike">
                <a:solidFill>
                  <a:srgbClr val="00b0f0"/>
                </a:solidFill>
                <a:latin typeface="Verdana"/>
              </a:rPr>
              <a:t>(past, present, or future)</a:t>
            </a:r>
            <a:endParaRPr b="0" lang="en-US" sz="2400" spc="-1" strike="noStrike">
              <a:solidFill>
                <a:srgbClr val="000000"/>
              </a:solidFill>
              <a:latin typeface="Verdana"/>
            </a:endParaRPr>
          </a:p>
        </p:txBody>
      </p:sp>
      <p:pic>
        <p:nvPicPr>
          <p:cNvPr id="85" name="Picture 7" descr="BRI040D.jpg"/>
          <p:cNvPicPr/>
          <p:nvPr/>
        </p:nvPicPr>
        <p:blipFill>
          <a:blip r:embed="rId2"/>
          <a:stretch/>
        </p:blipFill>
        <p:spPr>
          <a:xfrm>
            <a:off x="2362320" y="2438280"/>
            <a:ext cx="1663560" cy="2514600"/>
          </a:xfrm>
          <a:prstGeom prst="rect">
            <a:avLst/>
          </a:prstGeom>
          <a:ln w="0">
            <a:noFill/>
          </a:ln>
        </p:spPr>
      </p:pic>
      <p:pic>
        <p:nvPicPr>
          <p:cNvPr id="86" name="Picture 21" descr="ADE0054E.JPG"/>
          <p:cNvPicPr/>
          <p:nvPr/>
        </p:nvPicPr>
        <p:blipFill>
          <a:blip r:embed="rId3"/>
          <a:stretch/>
        </p:blipFill>
        <p:spPr>
          <a:xfrm>
            <a:off x="533520" y="3833640"/>
            <a:ext cx="1676160" cy="1119240"/>
          </a:xfrm>
          <a:prstGeom prst="rect">
            <a:avLst/>
          </a:prstGeom>
          <a:ln w="0">
            <a:noFill/>
          </a:ln>
        </p:spPr>
      </p:pic>
      <p:sp>
        <p:nvSpPr>
          <p:cNvPr id="87" name="PlaceHolder 1"/>
          <p:cNvSpPr>
            <a:spLocks noGrp="1"/>
          </p:cNvSpPr>
          <p:nvPr>
            <p:ph type="title"/>
          </p:nvPr>
        </p:nvSpPr>
        <p:spPr>
          <a:xfrm>
            <a:off x="528480" y="528120"/>
            <a:ext cx="8082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000"/>
                </a:solidFill>
                <a:uFillTx/>
                <a:latin typeface="Verdana"/>
              </a:rPr>
              <a:t>Setting</a:t>
            </a:r>
            <a:endParaRPr b="0" lang="en-US" sz="4000" spc="-1" strike="noStrike">
              <a:solidFill>
                <a:srgbClr val="ffff99"/>
              </a:solidFill>
              <a:latin typeface="Verdana"/>
            </a:endParaRPr>
          </a:p>
        </p:txBody>
      </p:sp>
      <p:sp>
        <p:nvSpPr>
          <p:cNvPr id="88" name="Freeform 1"/>
          <p:cNvSpPr/>
          <p:nvPr/>
        </p:nvSpPr>
        <p:spPr>
          <a:xfrm>
            <a:off x="4476600" y="2743200"/>
            <a:ext cx="235080" cy="235080"/>
          </a:xfrm>
          <a:custGeom>
            <a:avLst/>
            <a:gdLst>
              <a:gd name="textAreaLeft" fmla="*/ 0 w 235080"/>
              <a:gd name="textAreaRight" fmla="*/ 235440 w 235080"/>
              <a:gd name="textAreaTop" fmla="*/ 0 h 235080"/>
              <a:gd name="textAreaBottom" fmla="*/ 235440 h 235080"/>
            </a:gdLst>
            <a:ahLst/>
            <a:rect l="textAreaLeft" t="textAreaTop" r="textAreaRight" b="textAreaBottom"/>
            <a:pathLst>
              <a:path w="234951" h="234951">
                <a:moveTo>
                  <a:pt x="0" y="0"/>
                </a:moveTo>
                <a:lnTo>
                  <a:pt x="0" y="0"/>
                </a:lnTo>
                <a:lnTo>
                  <a:pt x="0" y="0"/>
                </a:lnTo>
                <a:lnTo>
                  <a:pt x="0" y="0"/>
                </a:lnTo>
                <a:lnTo>
                  <a:pt x="0" y="0"/>
                </a:lnTo>
                <a:lnTo>
                  <a:pt x="6350" y="0"/>
                </a:lnTo>
                <a:lnTo>
                  <a:pt x="6350" y="0"/>
                </a:lnTo>
                <a:lnTo>
                  <a:pt x="12700" y="0"/>
                </a:lnTo>
                <a:lnTo>
                  <a:pt x="19050" y="0"/>
                </a:lnTo>
                <a:lnTo>
                  <a:pt x="19050" y="0"/>
                </a:lnTo>
                <a:lnTo>
                  <a:pt x="25400" y="6350"/>
                </a:lnTo>
                <a:lnTo>
                  <a:pt x="31750" y="6350"/>
                </a:lnTo>
                <a:lnTo>
                  <a:pt x="38100" y="12700"/>
                </a:lnTo>
                <a:lnTo>
                  <a:pt x="38100" y="19050"/>
                </a:lnTo>
                <a:lnTo>
                  <a:pt x="44450" y="25400"/>
                </a:lnTo>
                <a:lnTo>
                  <a:pt x="50800" y="38100"/>
                </a:lnTo>
                <a:lnTo>
                  <a:pt x="57150" y="44450"/>
                </a:lnTo>
                <a:lnTo>
                  <a:pt x="63500" y="57150"/>
                </a:lnTo>
                <a:lnTo>
                  <a:pt x="69850" y="63500"/>
                </a:lnTo>
                <a:lnTo>
                  <a:pt x="82550" y="76200"/>
                </a:lnTo>
                <a:lnTo>
                  <a:pt x="88900" y="88900"/>
                </a:lnTo>
                <a:lnTo>
                  <a:pt x="101600" y="101600"/>
                </a:lnTo>
                <a:lnTo>
                  <a:pt x="114300" y="107950"/>
                </a:lnTo>
                <a:lnTo>
                  <a:pt x="127000" y="127000"/>
                </a:lnTo>
                <a:lnTo>
                  <a:pt x="139700" y="139700"/>
                </a:lnTo>
                <a:lnTo>
                  <a:pt x="152400" y="152400"/>
                </a:lnTo>
                <a:lnTo>
                  <a:pt x="165100" y="165100"/>
                </a:lnTo>
                <a:lnTo>
                  <a:pt x="184150" y="177800"/>
                </a:lnTo>
                <a:lnTo>
                  <a:pt x="190500" y="190500"/>
                </a:lnTo>
                <a:lnTo>
                  <a:pt x="203200" y="203200"/>
                </a:lnTo>
                <a:lnTo>
                  <a:pt x="215900" y="209550"/>
                </a:lnTo>
                <a:lnTo>
                  <a:pt x="222250" y="215900"/>
                </a:lnTo>
                <a:lnTo>
                  <a:pt x="228600" y="228600"/>
                </a:lnTo>
                <a:lnTo>
                  <a:pt x="234950" y="228600"/>
                </a:lnTo>
                <a:lnTo>
                  <a:pt x="234950" y="234950"/>
                </a:lnTo>
                <a:lnTo>
                  <a:pt x="234950" y="234950"/>
                </a:lnTo>
                <a:lnTo>
                  <a:pt x="234950" y="234950"/>
                </a:lnTo>
                <a:lnTo>
                  <a:pt x="234950" y="234950"/>
                </a:lnTo>
                <a:lnTo>
                  <a:pt x="234950" y="2349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89" name="Freeform 2"/>
          <p:cNvSpPr/>
          <p:nvPr/>
        </p:nvSpPr>
        <p:spPr>
          <a:xfrm>
            <a:off x="4362480" y="2711520"/>
            <a:ext cx="444600" cy="323640"/>
          </a:xfrm>
          <a:custGeom>
            <a:avLst/>
            <a:gdLst>
              <a:gd name="textAreaLeft" fmla="*/ 0 w 444600"/>
              <a:gd name="textAreaRight" fmla="*/ 444960 w 444600"/>
              <a:gd name="textAreaTop" fmla="*/ 0 h 323640"/>
              <a:gd name="textAreaBottom" fmla="*/ 324000 h 323640"/>
            </a:gdLst>
            <a:ahLst/>
            <a:rect l="textAreaLeft" t="textAreaTop" r="textAreaRight" b="textAreaBottom"/>
            <a:pathLst>
              <a:path w="444501" h="323851">
                <a:moveTo>
                  <a:pt x="444500" y="0"/>
                </a:moveTo>
                <a:lnTo>
                  <a:pt x="444500" y="0"/>
                </a:lnTo>
                <a:lnTo>
                  <a:pt x="444500" y="0"/>
                </a:lnTo>
                <a:lnTo>
                  <a:pt x="444500" y="0"/>
                </a:lnTo>
                <a:lnTo>
                  <a:pt x="444500" y="0"/>
                </a:lnTo>
                <a:lnTo>
                  <a:pt x="444500" y="0"/>
                </a:lnTo>
                <a:lnTo>
                  <a:pt x="438150" y="0"/>
                </a:lnTo>
                <a:lnTo>
                  <a:pt x="438150" y="6350"/>
                </a:lnTo>
                <a:lnTo>
                  <a:pt x="438150" y="12700"/>
                </a:lnTo>
                <a:lnTo>
                  <a:pt x="425450" y="19050"/>
                </a:lnTo>
                <a:lnTo>
                  <a:pt x="419100" y="25400"/>
                </a:lnTo>
                <a:lnTo>
                  <a:pt x="406400" y="38100"/>
                </a:lnTo>
                <a:lnTo>
                  <a:pt x="400050" y="50800"/>
                </a:lnTo>
                <a:lnTo>
                  <a:pt x="381000" y="63500"/>
                </a:lnTo>
                <a:lnTo>
                  <a:pt x="368300" y="76200"/>
                </a:lnTo>
                <a:lnTo>
                  <a:pt x="349250" y="88900"/>
                </a:lnTo>
                <a:lnTo>
                  <a:pt x="330200" y="101600"/>
                </a:lnTo>
                <a:lnTo>
                  <a:pt x="317500" y="114300"/>
                </a:lnTo>
                <a:lnTo>
                  <a:pt x="298450" y="127000"/>
                </a:lnTo>
                <a:lnTo>
                  <a:pt x="279400" y="133350"/>
                </a:lnTo>
                <a:lnTo>
                  <a:pt x="254000" y="146050"/>
                </a:lnTo>
                <a:lnTo>
                  <a:pt x="241300" y="158750"/>
                </a:lnTo>
                <a:lnTo>
                  <a:pt x="222250" y="171450"/>
                </a:lnTo>
                <a:lnTo>
                  <a:pt x="203200" y="177800"/>
                </a:lnTo>
                <a:lnTo>
                  <a:pt x="184150" y="190500"/>
                </a:lnTo>
                <a:lnTo>
                  <a:pt x="165100" y="203200"/>
                </a:lnTo>
                <a:lnTo>
                  <a:pt x="152400" y="215900"/>
                </a:lnTo>
                <a:lnTo>
                  <a:pt x="133350" y="228600"/>
                </a:lnTo>
                <a:lnTo>
                  <a:pt x="114300" y="241300"/>
                </a:lnTo>
                <a:lnTo>
                  <a:pt x="101600" y="254000"/>
                </a:lnTo>
                <a:lnTo>
                  <a:pt x="82550" y="266700"/>
                </a:lnTo>
                <a:lnTo>
                  <a:pt x="69850" y="273050"/>
                </a:lnTo>
                <a:lnTo>
                  <a:pt x="57150" y="285750"/>
                </a:lnTo>
                <a:lnTo>
                  <a:pt x="44450" y="292100"/>
                </a:lnTo>
                <a:lnTo>
                  <a:pt x="31750" y="304800"/>
                </a:lnTo>
                <a:lnTo>
                  <a:pt x="19050" y="311150"/>
                </a:lnTo>
                <a:lnTo>
                  <a:pt x="6350" y="317500"/>
                </a:lnTo>
                <a:lnTo>
                  <a:pt x="0" y="323850"/>
                </a:lnTo>
                <a:lnTo>
                  <a:pt x="0" y="317500"/>
                </a:lnTo>
                <a:lnTo>
                  <a:pt x="0" y="311150"/>
                </a:lnTo>
                <a:lnTo>
                  <a:pt x="0" y="311150"/>
                </a:lnTo>
                <a:lnTo>
                  <a:pt x="0" y="304800"/>
                </a:lnTo>
                <a:lnTo>
                  <a:pt x="0" y="3048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90" name="Freeform 3"/>
          <p:cNvSpPr/>
          <p:nvPr/>
        </p:nvSpPr>
        <p:spPr>
          <a:xfrm>
            <a:off x="4603680" y="2641680"/>
            <a:ext cx="25560" cy="501480"/>
          </a:xfrm>
          <a:custGeom>
            <a:avLst/>
            <a:gdLst>
              <a:gd name="textAreaLeft" fmla="*/ 0 w 25560"/>
              <a:gd name="textAreaRight" fmla="*/ 25920 w 25560"/>
              <a:gd name="textAreaTop" fmla="*/ 0 h 501480"/>
              <a:gd name="textAreaBottom" fmla="*/ 501840 h 501480"/>
            </a:gdLst>
            <a:ahLst/>
            <a:rect l="textAreaLeft" t="textAreaTop" r="textAreaRight" b="textAreaBottom"/>
            <a:pathLst>
              <a:path w="25401" h="501651">
                <a:moveTo>
                  <a:pt x="25400" y="0"/>
                </a:moveTo>
                <a:lnTo>
                  <a:pt x="25400" y="0"/>
                </a:lnTo>
                <a:lnTo>
                  <a:pt x="19050" y="6350"/>
                </a:lnTo>
                <a:lnTo>
                  <a:pt x="19050" y="12700"/>
                </a:lnTo>
                <a:lnTo>
                  <a:pt x="19050" y="19050"/>
                </a:lnTo>
                <a:lnTo>
                  <a:pt x="19050" y="25400"/>
                </a:lnTo>
                <a:lnTo>
                  <a:pt x="19050" y="31750"/>
                </a:lnTo>
                <a:lnTo>
                  <a:pt x="12700" y="44450"/>
                </a:lnTo>
                <a:lnTo>
                  <a:pt x="12700" y="57150"/>
                </a:lnTo>
                <a:lnTo>
                  <a:pt x="12700" y="69850"/>
                </a:lnTo>
                <a:lnTo>
                  <a:pt x="6350" y="82550"/>
                </a:lnTo>
                <a:lnTo>
                  <a:pt x="6350" y="101600"/>
                </a:lnTo>
                <a:lnTo>
                  <a:pt x="0" y="120650"/>
                </a:lnTo>
                <a:lnTo>
                  <a:pt x="0" y="146050"/>
                </a:lnTo>
                <a:lnTo>
                  <a:pt x="0" y="158750"/>
                </a:lnTo>
                <a:lnTo>
                  <a:pt x="0" y="184150"/>
                </a:lnTo>
                <a:lnTo>
                  <a:pt x="0" y="203200"/>
                </a:lnTo>
                <a:lnTo>
                  <a:pt x="6350" y="222250"/>
                </a:lnTo>
                <a:lnTo>
                  <a:pt x="6350" y="241300"/>
                </a:lnTo>
                <a:lnTo>
                  <a:pt x="6350" y="260350"/>
                </a:lnTo>
                <a:lnTo>
                  <a:pt x="12700" y="285750"/>
                </a:lnTo>
                <a:lnTo>
                  <a:pt x="12700" y="304800"/>
                </a:lnTo>
                <a:lnTo>
                  <a:pt x="12700" y="323850"/>
                </a:lnTo>
                <a:lnTo>
                  <a:pt x="12700" y="342900"/>
                </a:lnTo>
                <a:lnTo>
                  <a:pt x="19050" y="361950"/>
                </a:lnTo>
                <a:lnTo>
                  <a:pt x="19050" y="381000"/>
                </a:lnTo>
                <a:lnTo>
                  <a:pt x="19050" y="400050"/>
                </a:lnTo>
                <a:lnTo>
                  <a:pt x="19050" y="412750"/>
                </a:lnTo>
                <a:lnTo>
                  <a:pt x="19050" y="431800"/>
                </a:lnTo>
                <a:lnTo>
                  <a:pt x="12700" y="450850"/>
                </a:lnTo>
                <a:lnTo>
                  <a:pt x="12700" y="463550"/>
                </a:lnTo>
                <a:lnTo>
                  <a:pt x="12700" y="476250"/>
                </a:lnTo>
                <a:lnTo>
                  <a:pt x="12700" y="488950"/>
                </a:lnTo>
                <a:lnTo>
                  <a:pt x="12700" y="495300"/>
                </a:lnTo>
                <a:lnTo>
                  <a:pt x="12700" y="501650"/>
                </a:lnTo>
                <a:lnTo>
                  <a:pt x="12700" y="501650"/>
                </a:lnTo>
                <a:lnTo>
                  <a:pt x="12700" y="501650"/>
                </a:lnTo>
                <a:lnTo>
                  <a:pt x="12700" y="5016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91" name="Freeform 4"/>
          <p:cNvSpPr/>
          <p:nvPr/>
        </p:nvSpPr>
        <p:spPr>
          <a:xfrm>
            <a:off x="4235400" y="2863800"/>
            <a:ext cx="590760" cy="31680"/>
          </a:xfrm>
          <a:custGeom>
            <a:avLst/>
            <a:gdLst>
              <a:gd name="textAreaLeft" fmla="*/ 0 w 590760"/>
              <a:gd name="textAreaRight" fmla="*/ 591120 w 590760"/>
              <a:gd name="textAreaTop" fmla="*/ 0 h 31680"/>
              <a:gd name="textAreaBottom" fmla="*/ 32040 h 31680"/>
            </a:gdLst>
            <a:ahLst/>
            <a:rect l="textAreaLeft" t="textAreaTop" r="textAreaRight" b="textAreaBottom"/>
            <a:pathLst>
              <a:path w="590551" h="31751">
                <a:moveTo>
                  <a:pt x="31750" y="31750"/>
                </a:moveTo>
                <a:lnTo>
                  <a:pt x="25400" y="31750"/>
                </a:lnTo>
                <a:lnTo>
                  <a:pt x="19050" y="31750"/>
                </a:lnTo>
                <a:lnTo>
                  <a:pt x="12700" y="31750"/>
                </a:lnTo>
                <a:lnTo>
                  <a:pt x="6350" y="25400"/>
                </a:lnTo>
                <a:lnTo>
                  <a:pt x="0" y="19050"/>
                </a:lnTo>
                <a:lnTo>
                  <a:pt x="0" y="19050"/>
                </a:lnTo>
                <a:lnTo>
                  <a:pt x="0" y="12700"/>
                </a:lnTo>
                <a:lnTo>
                  <a:pt x="0" y="12700"/>
                </a:lnTo>
                <a:lnTo>
                  <a:pt x="6350" y="12700"/>
                </a:lnTo>
                <a:lnTo>
                  <a:pt x="6350" y="6350"/>
                </a:lnTo>
                <a:lnTo>
                  <a:pt x="19050" y="6350"/>
                </a:lnTo>
                <a:lnTo>
                  <a:pt x="31750" y="6350"/>
                </a:lnTo>
                <a:lnTo>
                  <a:pt x="44450" y="6350"/>
                </a:lnTo>
                <a:lnTo>
                  <a:pt x="57150" y="6350"/>
                </a:lnTo>
                <a:lnTo>
                  <a:pt x="69850" y="6350"/>
                </a:lnTo>
                <a:lnTo>
                  <a:pt x="88900" y="6350"/>
                </a:lnTo>
                <a:lnTo>
                  <a:pt x="107950" y="6350"/>
                </a:lnTo>
                <a:lnTo>
                  <a:pt x="127000" y="0"/>
                </a:lnTo>
                <a:lnTo>
                  <a:pt x="146050" y="0"/>
                </a:lnTo>
                <a:lnTo>
                  <a:pt x="177800" y="0"/>
                </a:lnTo>
                <a:lnTo>
                  <a:pt x="203200" y="0"/>
                </a:lnTo>
                <a:lnTo>
                  <a:pt x="234950" y="0"/>
                </a:lnTo>
                <a:lnTo>
                  <a:pt x="266700" y="0"/>
                </a:lnTo>
                <a:lnTo>
                  <a:pt x="298450" y="0"/>
                </a:lnTo>
                <a:lnTo>
                  <a:pt x="336550" y="0"/>
                </a:lnTo>
                <a:lnTo>
                  <a:pt x="368300" y="0"/>
                </a:lnTo>
                <a:lnTo>
                  <a:pt x="406400" y="6350"/>
                </a:lnTo>
                <a:lnTo>
                  <a:pt x="444500" y="6350"/>
                </a:lnTo>
                <a:lnTo>
                  <a:pt x="476250" y="6350"/>
                </a:lnTo>
                <a:lnTo>
                  <a:pt x="508000" y="6350"/>
                </a:lnTo>
                <a:lnTo>
                  <a:pt x="533400" y="6350"/>
                </a:lnTo>
                <a:lnTo>
                  <a:pt x="558800" y="6350"/>
                </a:lnTo>
                <a:lnTo>
                  <a:pt x="577850" y="6350"/>
                </a:lnTo>
                <a:lnTo>
                  <a:pt x="577850" y="6350"/>
                </a:lnTo>
                <a:lnTo>
                  <a:pt x="590550" y="6350"/>
                </a:lnTo>
                <a:lnTo>
                  <a:pt x="590550" y="6350"/>
                </a:lnTo>
              </a:path>
            </a:pathLst>
          </a:custGeom>
          <a:noFill/>
          <a:ln w="38160">
            <a:solidFill>
              <a:srgbClr val="ff0000"/>
            </a:solidFill>
            <a:round/>
          </a:ln>
        </p:spPr>
        <p:style>
          <a:lnRef idx="0"/>
          <a:fillRef idx="0"/>
          <a:effectRef idx="0"/>
          <a:fontRef idx="minor"/>
        </p:style>
        <p:txBody>
          <a:bodyPr tIns="-13680" bIns="-13680" anchor="ctr">
            <a:noAutofit/>
          </a:bodyPr>
          <a:p>
            <a:endParaRPr b="0" lang="en-US" sz="1800" spc="-1" strike="noStrike">
              <a:solidFill>
                <a:srgbClr val="000000"/>
              </a:solidFill>
              <a:latin typeface="Verdana"/>
            </a:endParaRPr>
          </a:p>
        </p:txBody>
      </p:sp>
      <p:sp>
        <p:nvSpPr>
          <p:cNvPr id="92" name="Freeform 5"/>
          <p:cNvSpPr/>
          <p:nvPr/>
        </p:nvSpPr>
        <p:spPr>
          <a:xfrm>
            <a:off x="5079960" y="3492360"/>
            <a:ext cx="965160" cy="552600"/>
          </a:xfrm>
          <a:custGeom>
            <a:avLst/>
            <a:gdLst>
              <a:gd name="textAreaLeft" fmla="*/ 0 w 965160"/>
              <a:gd name="textAreaRight" fmla="*/ 965520 w 965160"/>
              <a:gd name="textAreaTop" fmla="*/ 0 h 552600"/>
              <a:gd name="textAreaBottom" fmla="*/ 552960 h 552600"/>
            </a:gdLst>
            <a:ahLst/>
            <a:rect l="textAreaLeft" t="textAreaTop" r="textAreaRight" b="textAreaBottom"/>
            <a:pathLst>
              <a:path w="965201" h="552451">
                <a:moveTo>
                  <a:pt x="895350" y="260350"/>
                </a:moveTo>
                <a:lnTo>
                  <a:pt x="895350" y="260350"/>
                </a:lnTo>
                <a:lnTo>
                  <a:pt x="901700" y="260350"/>
                </a:lnTo>
                <a:lnTo>
                  <a:pt x="901700" y="254000"/>
                </a:lnTo>
                <a:lnTo>
                  <a:pt x="908050" y="247650"/>
                </a:lnTo>
                <a:lnTo>
                  <a:pt x="914400" y="247650"/>
                </a:lnTo>
                <a:lnTo>
                  <a:pt x="920750" y="241300"/>
                </a:lnTo>
                <a:lnTo>
                  <a:pt x="920750" y="228600"/>
                </a:lnTo>
                <a:lnTo>
                  <a:pt x="920750" y="222250"/>
                </a:lnTo>
                <a:lnTo>
                  <a:pt x="920750" y="215900"/>
                </a:lnTo>
                <a:lnTo>
                  <a:pt x="920750" y="203200"/>
                </a:lnTo>
                <a:lnTo>
                  <a:pt x="914400" y="196850"/>
                </a:lnTo>
                <a:lnTo>
                  <a:pt x="908050" y="184150"/>
                </a:lnTo>
                <a:lnTo>
                  <a:pt x="895350" y="171450"/>
                </a:lnTo>
                <a:lnTo>
                  <a:pt x="882650" y="158750"/>
                </a:lnTo>
                <a:lnTo>
                  <a:pt x="869950" y="146050"/>
                </a:lnTo>
                <a:lnTo>
                  <a:pt x="850900" y="133350"/>
                </a:lnTo>
                <a:lnTo>
                  <a:pt x="825500" y="120650"/>
                </a:lnTo>
                <a:lnTo>
                  <a:pt x="812800" y="107950"/>
                </a:lnTo>
                <a:lnTo>
                  <a:pt x="787400" y="95250"/>
                </a:lnTo>
                <a:lnTo>
                  <a:pt x="762000" y="82550"/>
                </a:lnTo>
                <a:lnTo>
                  <a:pt x="730250" y="69850"/>
                </a:lnTo>
                <a:lnTo>
                  <a:pt x="704850" y="57150"/>
                </a:lnTo>
                <a:lnTo>
                  <a:pt x="679450" y="44450"/>
                </a:lnTo>
                <a:lnTo>
                  <a:pt x="641350" y="31750"/>
                </a:lnTo>
                <a:lnTo>
                  <a:pt x="603250" y="25400"/>
                </a:lnTo>
                <a:lnTo>
                  <a:pt x="571500" y="12700"/>
                </a:lnTo>
                <a:lnTo>
                  <a:pt x="539750" y="12700"/>
                </a:lnTo>
                <a:lnTo>
                  <a:pt x="495300" y="6350"/>
                </a:lnTo>
                <a:lnTo>
                  <a:pt x="463550" y="0"/>
                </a:lnTo>
                <a:lnTo>
                  <a:pt x="425450" y="0"/>
                </a:lnTo>
                <a:lnTo>
                  <a:pt x="387350" y="6350"/>
                </a:lnTo>
                <a:lnTo>
                  <a:pt x="349250" y="6350"/>
                </a:lnTo>
                <a:lnTo>
                  <a:pt x="317500" y="12700"/>
                </a:lnTo>
                <a:lnTo>
                  <a:pt x="285750" y="19050"/>
                </a:lnTo>
                <a:lnTo>
                  <a:pt x="254000" y="25400"/>
                </a:lnTo>
                <a:lnTo>
                  <a:pt x="222250" y="38100"/>
                </a:lnTo>
                <a:lnTo>
                  <a:pt x="190500" y="44450"/>
                </a:lnTo>
                <a:lnTo>
                  <a:pt x="165100" y="57150"/>
                </a:lnTo>
                <a:lnTo>
                  <a:pt x="139700" y="69850"/>
                </a:lnTo>
                <a:lnTo>
                  <a:pt x="120650" y="82550"/>
                </a:lnTo>
                <a:lnTo>
                  <a:pt x="101600" y="101600"/>
                </a:lnTo>
                <a:lnTo>
                  <a:pt x="82550" y="114300"/>
                </a:lnTo>
                <a:lnTo>
                  <a:pt x="63500" y="133350"/>
                </a:lnTo>
                <a:lnTo>
                  <a:pt x="50800" y="152400"/>
                </a:lnTo>
                <a:lnTo>
                  <a:pt x="38100" y="165100"/>
                </a:lnTo>
                <a:lnTo>
                  <a:pt x="31750" y="190500"/>
                </a:lnTo>
                <a:lnTo>
                  <a:pt x="19050" y="209550"/>
                </a:lnTo>
                <a:lnTo>
                  <a:pt x="12700" y="234950"/>
                </a:lnTo>
                <a:lnTo>
                  <a:pt x="6350" y="254000"/>
                </a:lnTo>
                <a:lnTo>
                  <a:pt x="0" y="279400"/>
                </a:lnTo>
                <a:lnTo>
                  <a:pt x="6350" y="304800"/>
                </a:lnTo>
                <a:lnTo>
                  <a:pt x="6350" y="323850"/>
                </a:lnTo>
                <a:lnTo>
                  <a:pt x="12700" y="342900"/>
                </a:lnTo>
                <a:lnTo>
                  <a:pt x="25400" y="361950"/>
                </a:lnTo>
                <a:lnTo>
                  <a:pt x="38100" y="381000"/>
                </a:lnTo>
                <a:lnTo>
                  <a:pt x="50800" y="400050"/>
                </a:lnTo>
                <a:lnTo>
                  <a:pt x="69850" y="412750"/>
                </a:lnTo>
                <a:lnTo>
                  <a:pt x="88900" y="431800"/>
                </a:lnTo>
                <a:lnTo>
                  <a:pt x="114300" y="444500"/>
                </a:lnTo>
                <a:lnTo>
                  <a:pt x="146050" y="457200"/>
                </a:lnTo>
                <a:lnTo>
                  <a:pt x="171450" y="469900"/>
                </a:lnTo>
                <a:lnTo>
                  <a:pt x="203200" y="482600"/>
                </a:lnTo>
                <a:lnTo>
                  <a:pt x="234950" y="495300"/>
                </a:lnTo>
                <a:lnTo>
                  <a:pt x="266700" y="508000"/>
                </a:lnTo>
                <a:lnTo>
                  <a:pt x="298450" y="514350"/>
                </a:lnTo>
                <a:lnTo>
                  <a:pt x="323850" y="527050"/>
                </a:lnTo>
                <a:lnTo>
                  <a:pt x="355600" y="533400"/>
                </a:lnTo>
                <a:lnTo>
                  <a:pt x="387350" y="539750"/>
                </a:lnTo>
                <a:lnTo>
                  <a:pt x="412750" y="546100"/>
                </a:lnTo>
                <a:lnTo>
                  <a:pt x="438150" y="546100"/>
                </a:lnTo>
                <a:lnTo>
                  <a:pt x="469900" y="552450"/>
                </a:lnTo>
                <a:lnTo>
                  <a:pt x="501650" y="552450"/>
                </a:lnTo>
                <a:lnTo>
                  <a:pt x="533400" y="546100"/>
                </a:lnTo>
                <a:lnTo>
                  <a:pt x="565150" y="546100"/>
                </a:lnTo>
                <a:lnTo>
                  <a:pt x="590550" y="539750"/>
                </a:lnTo>
                <a:lnTo>
                  <a:pt x="622300" y="539750"/>
                </a:lnTo>
                <a:lnTo>
                  <a:pt x="647700" y="533400"/>
                </a:lnTo>
                <a:lnTo>
                  <a:pt x="679450" y="527050"/>
                </a:lnTo>
                <a:lnTo>
                  <a:pt x="704850" y="520700"/>
                </a:lnTo>
                <a:lnTo>
                  <a:pt x="730250" y="514350"/>
                </a:lnTo>
                <a:lnTo>
                  <a:pt x="749300" y="508000"/>
                </a:lnTo>
                <a:lnTo>
                  <a:pt x="774700" y="495300"/>
                </a:lnTo>
                <a:lnTo>
                  <a:pt x="800100" y="488950"/>
                </a:lnTo>
                <a:lnTo>
                  <a:pt x="819150" y="476250"/>
                </a:lnTo>
                <a:lnTo>
                  <a:pt x="838200" y="463550"/>
                </a:lnTo>
                <a:lnTo>
                  <a:pt x="857250" y="450850"/>
                </a:lnTo>
                <a:lnTo>
                  <a:pt x="869950" y="444500"/>
                </a:lnTo>
                <a:lnTo>
                  <a:pt x="882650" y="431800"/>
                </a:lnTo>
                <a:lnTo>
                  <a:pt x="895350" y="419100"/>
                </a:lnTo>
                <a:lnTo>
                  <a:pt x="908050" y="406400"/>
                </a:lnTo>
                <a:lnTo>
                  <a:pt x="920750" y="393700"/>
                </a:lnTo>
                <a:lnTo>
                  <a:pt x="933450" y="381000"/>
                </a:lnTo>
                <a:lnTo>
                  <a:pt x="939800" y="368300"/>
                </a:lnTo>
                <a:lnTo>
                  <a:pt x="946150" y="355600"/>
                </a:lnTo>
                <a:lnTo>
                  <a:pt x="952500" y="349250"/>
                </a:lnTo>
                <a:lnTo>
                  <a:pt x="958850" y="336550"/>
                </a:lnTo>
                <a:lnTo>
                  <a:pt x="965200" y="323850"/>
                </a:lnTo>
                <a:lnTo>
                  <a:pt x="965200" y="311150"/>
                </a:lnTo>
                <a:lnTo>
                  <a:pt x="965200" y="304800"/>
                </a:lnTo>
                <a:lnTo>
                  <a:pt x="965200" y="292100"/>
                </a:lnTo>
                <a:lnTo>
                  <a:pt x="965200" y="279400"/>
                </a:lnTo>
                <a:lnTo>
                  <a:pt x="965200" y="266700"/>
                </a:lnTo>
                <a:lnTo>
                  <a:pt x="965200" y="260350"/>
                </a:lnTo>
                <a:lnTo>
                  <a:pt x="958850" y="247650"/>
                </a:lnTo>
                <a:lnTo>
                  <a:pt x="946150" y="228600"/>
                </a:lnTo>
                <a:lnTo>
                  <a:pt x="939800" y="222250"/>
                </a:lnTo>
                <a:lnTo>
                  <a:pt x="933450" y="209550"/>
                </a:lnTo>
                <a:lnTo>
                  <a:pt x="920750" y="196850"/>
                </a:lnTo>
                <a:lnTo>
                  <a:pt x="914400" y="184150"/>
                </a:lnTo>
                <a:lnTo>
                  <a:pt x="901700" y="171450"/>
                </a:lnTo>
                <a:lnTo>
                  <a:pt x="889000" y="158750"/>
                </a:lnTo>
                <a:lnTo>
                  <a:pt x="876300" y="152400"/>
                </a:lnTo>
                <a:lnTo>
                  <a:pt x="869950" y="139700"/>
                </a:lnTo>
                <a:lnTo>
                  <a:pt x="850900" y="127000"/>
                </a:lnTo>
                <a:lnTo>
                  <a:pt x="838200" y="120650"/>
                </a:lnTo>
                <a:lnTo>
                  <a:pt x="825500" y="107950"/>
                </a:lnTo>
                <a:lnTo>
                  <a:pt x="806450" y="101600"/>
                </a:lnTo>
                <a:lnTo>
                  <a:pt x="793750" y="95250"/>
                </a:lnTo>
                <a:lnTo>
                  <a:pt x="774700" y="82550"/>
                </a:lnTo>
                <a:lnTo>
                  <a:pt x="762000" y="82550"/>
                </a:lnTo>
                <a:lnTo>
                  <a:pt x="742950" y="76200"/>
                </a:lnTo>
                <a:lnTo>
                  <a:pt x="723900" y="76200"/>
                </a:lnTo>
                <a:lnTo>
                  <a:pt x="698500" y="76200"/>
                </a:lnTo>
                <a:lnTo>
                  <a:pt x="698500" y="76200"/>
                </a:lnTo>
                <a:lnTo>
                  <a:pt x="673100" y="76200"/>
                </a:lnTo>
                <a:lnTo>
                  <a:pt x="673100" y="762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93" name="Freeform 6"/>
          <p:cNvSpPr/>
          <p:nvPr/>
        </p:nvSpPr>
        <p:spPr>
          <a:xfrm>
            <a:off x="5835600" y="4362480"/>
            <a:ext cx="1270080" cy="603360"/>
          </a:xfrm>
          <a:custGeom>
            <a:avLst/>
            <a:gdLst>
              <a:gd name="textAreaLeft" fmla="*/ 0 w 1270080"/>
              <a:gd name="textAreaRight" fmla="*/ 1270440 w 1270080"/>
              <a:gd name="textAreaTop" fmla="*/ 0 h 603360"/>
              <a:gd name="textAreaBottom" fmla="*/ 603720 h 603360"/>
            </a:gdLst>
            <a:ahLst/>
            <a:rect l="textAreaLeft" t="textAreaTop" r="textAreaRight" b="textAreaBottom"/>
            <a:pathLst>
              <a:path w="1270001" h="603251">
                <a:moveTo>
                  <a:pt x="1244600" y="241300"/>
                </a:moveTo>
                <a:lnTo>
                  <a:pt x="1244600" y="234950"/>
                </a:lnTo>
                <a:lnTo>
                  <a:pt x="1238250" y="234950"/>
                </a:lnTo>
                <a:lnTo>
                  <a:pt x="1238250" y="228600"/>
                </a:lnTo>
                <a:lnTo>
                  <a:pt x="1231900" y="222250"/>
                </a:lnTo>
                <a:lnTo>
                  <a:pt x="1225550" y="215900"/>
                </a:lnTo>
                <a:lnTo>
                  <a:pt x="1219200" y="209550"/>
                </a:lnTo>
                <a:lnTo>
                  <a:pt x="1212850" y="203200"/>
                </a:lnTo>
                <a:lnTo>
                  <a:pt x="1212850" y="190500"/>
                </a:lnTo>
                <a:lnTo>
                  <a:pt x="1206500" y="184150"/>
                </a:lnTo>
                <a:lnTo>
                  <a:pt x="1193800" y="171450"/>
                </a:lnTo>
                <a:lnTo>
                  <a:pt x="1187450" y="165100"/>
                </a:lnTo>
                <a:lnTo>
                  <a:pt x="1174750" y="152400"/>
                </a:lnTo>
                <a:lnTo>
                  <a:pt x="1162050" y="139700"/>
                </a:lnTo>
                <a:lnTo>
                  <a:pt x="1149350" y="133350"/>
                </a:lnTo>
                <a:lnTo>
                  <a:pt x="1130300" y="120650"/>
                </a:lnTo>
                <a:lnTo>
                  <a:pt x="1117600" y="107950"/>
                </a:lnTo>
                <a:lnTo>
                  <a:pt x="1098550" y="95250"/>
                </a:lnTo>
                <a:lnTo>
                  <a:pt x="1079500" y="82550"/>
                </a:lnTo>
                <a:lnTo>
                  <a:pt x="1060450" y="76200"/>
                </a:lnTo>
                <a:lnTo>
                  <a:pt x="1035050" y="63500"/>
                </a:lnTo>
                <a:lnTo>
                  <a:pt x="1016000" y="57150"/>
                </a:lnTo>
                <a:lnTo>
                  <a:pt x="990600" y="44450"/>
                </a:lnTo>
                <a:lnTo>
                  <a:pt x="965200" y="38100"/>
                </a:lnTo>
                <a:lnTo>
                  <a:pt x="933450" y="25400"/>
                </a:lnTo>
                <a:lnTo>
                  <a:pt x="908050" y="19050"/>
                </a:lnTo>
                <a:lnTo>
                  <a:pt x="876300" y="12700"/>
                </a:lnTo>
                <a:lnTo>
                  <a:pt x="844550" y="6350"/>
                </a:lnTo>
                <a:lnTo>
                  <a:pt x="812800" y="0"/>
                </a:lnTo>
                <a:lnTo>
                  <a:pt x="781050" y="0"/>
                </a:lnTo>
                <a:lnTo>
                  <a:pt x="736600" y="0"/>
                </a:lnTo>
                <a:lnTo>
                  <a:pt x="704850" y="0"/>
                </a:lnTo>
                <a:lnTo>
                  <a:pt x="673100" y="0"/>
                </a:lnTo>
                <a:lnTo>
                  <a:pt x="635000" y="0"/>
                </a:lnTo>
                <a:lnTo>
                  <a:pt x="596900" y="0"/>
                </a:lnTo>
                <a:lnTo>
                  <a:pt x="558800" y="6350"/>
                </a:lnTo>
                <a:lnTo>
                  <a:pt x="527050" y="6350"/>
                </a:lnTo>
                <a:lnTo>
                  <a:pt x="488950" y="12700"/>
                </a:lnTo>
                <a:lnTo>
                  <a:pt x="457200" y="12700"/>
                </a:lnTo>
                <a:lnTo>
                  <a:pt x="425450" y="19050"/>
                </a:lnTo>
                <a:lnTo>
                  <a:pt x="387350" y="25400"/>
                </a:lnTo>
                <a:lnTo>
                  <a:pt x="355600" y="31750"/>
                </a:lnTo>
                <a:lnTo>
                  <a:pt x="317500" y="44450"/>
                </a:lnTo>
                <a:lnTo>
                  <a:pt x="285750" y="57150"/>
                </a:lnTo>
                <a:lnTo>
                  <a:pt x="254000" y="63500"/>
                </a:lnTo>
                <a:lnTo>
                  <a:pt x="222250" y="76200"/>
                </a:lnTo>
                <a:lnTo>
                  <a:pt x="196850" y="88900"/>
                </a:lnTo>
                <a:lnTo>
                  <a:pt x="171450" y="101600"/>
                </a:lnTo>
                <a:lnTo>
                  <a:pt x="146050" y="114300"/>
                </a:lnTo>
                <a:lnTo>
                  <a:pt x="120650" y="127000"/>
                </a:lnTo>
                <a:lnTo>
                  <a:pt x="101600" y="146050"/>
                </a:lnTo>
                <a:lnTo>
                  <a:pt x="76200" y="158750"/>
                </a:lnTo>
                <a:lnTo>
                  <a:pt x="57150" y="177800"/>
                </a:lnTo>
                <a:lnTo>
                  <a:pt x="38100" y="196850"/>
                </a:lnTo>
                <a:lnTo>
                  <a:pt x="25400" y="215900"/>
                </a:lnTo>
                <a:lnTo>
                  <a:pt x="19050" y="234950"/>
                </a:lnTo>
                <a:lnTo>
                  <a:pt x="6350" y="247650"/>
                </a:lnTo>
                <a:lnTo>
                  <a:pt x="6350" y="266700"/>
                </a:lnTo>
                <a:lnTo>
                  <a:pt x="0" y="285750"/>
                </a:lnTo>
                <a:lnTo>
                  <a:pt x="6350" y="298450"/>
                </a:lnTo>
                <a:lnTo>
                  <a:pt x="6350" y="317500"/>
                </a:lnTo>
                <a:lnTo>
                  <a:pt x="19050" y="336550"/>
                </a:lnTo>
                <a:lnTo>
                  <a:pt x="25400" y="349250"/>
                </a:lnTo>
                <a:lnTo>
                  <a:pt x="44450" y="368300"/>
                </a:lnTo>
                <a:lnTo>
                  <a:pt x="57150" y="387350"/>
                </a:lnTo>
                <a:lnTo>
                  <a:pt x="76200" y="406400"/>
                </a:lnTo>
                <a:lnTo>
                  <a:pt x="95250" y="425450"/>
                </a:lnTo>
                <a:lnTo>
                  <a:pt x="114300" y="444500"/>
                </a:lnTo>
                <a:lnTo>
                  <a:pt x="139700" y="457200"/>
                </a:lnTo>
                <a:lnTo>
                  <a:pt x="165100" y="476250"/>
                </a:lnTo>
                <a:lnTo>
                  <a:pt x="184150" y="488950"/>
                </a:lnTo>
                <a:lnTo>
                  <a:pt x="209550" y="508000"/>
                </a:lnTo>
                <a:lnTo>
                  <a:pt x="234950" y="520700"/>
                </a:lnTo>
                <a:lnTo>
                  <a:pt x="260350" y="533400"/>
                </a:lnTo>
                <a:lnTo>
                  <a:pt x="279400" y="546100"/>
                </a:lnTo>
                <a:lnTo>
                  <a:pt x="304800" y="552450"/>
                </a:lnTo>
                <a:lnTo>
                  <a:pt x="336550" y="565150"/>
                </a:lnTo>
                <a:lnTo>
                  <a:pt x="355600" y="571500"/>
                </a:lnTo>
                <a:lnTo>
                  <a:pt x="387350" y="577850"/>
                </a:lnTo>
                <a:lnTo>
                  <a:pt x="412750" y="584200"/>
                </a:lnTo>
                <a:lnTo>
                  <a:pt x="444500" y="590550"/>
                </a:lnTo>
                <a:lnTo>
                  <a:pt x="469900" y="590550"/>
                </a:lnTo>
                <a:lnTo>
                  <a:pt x="495300" y="596900"/>
                </a:lnTo>
                <a:lnTo>
                  <a:pt x="527050" y="596900"/>
                </a:lnTo>
                <a:lnTo>
                  <a:pt x="552450" y="603250"/>
                </a:lnTo>
                <a:lnTo>
                  <a:pt x="584200" y="603250"/>
                </a:lnTo>
                <a:lnTo>
                  <a:pt x="609600" y="603250"/>
                </a:lnTo>
                <a:lnTo>
                  <a:pt x="641350" y="603250"/>
                </a:lnTo>
                <a:lnTo>
                  <a:pt x="673100" y="603250"/>
                </a:lnTo>
                <a:lnTo>
                  <a:pt x="698500" y="603250"/>
                </a:lnTo>
                <a:lnTo>
                  <a:pt x="736600" y="603250"/>
                </a:lnTo>
                <a:lnTo>
                  <a:pt x="762000" y="603250"/>
                </a:lnTo>
                <a:lnTo>
                  <a:pt x="793750" y="603250"/>
                </a:lnTo>
                <a:lnTo>
                  <a:pt x="825500" y="603250"/>
                </a:lnTo>
                <a:lnTo>
                  <a:pt x="857250" y="590550"/>
                </a:lnTo>
                <a:lnTo>
                  <a:pt x="882650" y="590550"/>
                </a:lnTo>
                <a:lnTo>
                  <a:pt x="914400" y="584200"/>
                </a:lnTo>
                <a:lnTo>
                  <a:pt x="946150" y="577850"/>
                </a:lnTo>
                <a:lnTo>
                  <a:pt x="971550" y="571500"/>
                </a:lnTo>
                <a:lnTo>
                  <a:pt x="996950" y="558800"/>
                </a:lnTo>
                <a:lnTo>
                  <a:pt x="1022350" y="552450"/>
                </a:lnTo>
                <a:lnTo>
                  <a:pt x="1054100" y="539750"/>
                </a:lnTo>
                <a:lnTo>
                  <a:pt x="1079500" y="527050"/>
                </a:lnTo>
                <a:lnTo>
                  <a:pt x="1104900" y="514350"/>
                </a:lnTo>
                <a:lnTo>
                  <a:pt x="1123950" y="501650"/>
                </a:lnTo>
                <a:lnTo>
                  <a:pt x="1149350" y="488950"/>
                </a:lnTo>
                <a:lnTo>
                  <a:pt x="1168400" y="469900"/>
                </a:lnTo>
                <a:lnTo>
                  <a:pt x="1187450" y="457200"/>
                </a:lnTo>
                <a:lnTo>
                  <a:pt x="1206500" y="438150"/>
                </a:lnTo>
                <a:lnTo>
                  <a:pt x="1219200" y="419100"/>
                </a:lnTo>
                <a:lnTo>
                  <a:pt x="1231900" y="400050"/>
                </a:lnTo>
                <a:lnTo>
                  <a:pt x="1244600" y="381000"/>
                </a:lnTo>
                <a:lnTo>
                  <a:pt x="1257300" y="361950"/>
                </a:lnTo>
                <a:lnTo>
                  <a:pt x="1263650" y="336550"/>
                </a:lnTo>
                <a:lnTo>
                  <a:pt x="1263650" y="317500"/>
                </a:lnTo>
                <a:lnTo>
                  <a:pt x="1270000" y="298450"/>
                </a:lnTo>
                <a:lnTo>
                  <a:pt x="1270000" y="273050"/>
                </a:lnTo>
                <a:lnTo>
                  <a:pt x="1263650" y="247650"/>
                </a:lnTo>
                <a:lnTo>
                  <a:pt x="1263650" y="222250"/>
                </a:lnTo>
                <a:lnTo>
                  <a:pt x="1257300" y="196850"/>
                </a:lnTo>
                <a:lnTo>
                  <a:pt x="1244600" y="171450"/>
                </a:lnTo>
                <a:lnTo>
                  <a:pt x="1219200" y="146050"/>
                </a:lnTo>
                <a:lnTo>
                  <a:pt x="1200150" y="120650"/>
                </a:lnTo>
                <a:lnTo>
                  <a:pt x="1168400" y="101600"/>
                </a:lnTo>
                <a:lnTo>
                  <a:pt x="1168400" y="101600"/>
                </a:lnTo>
                <a:lnTo>
                  <a:pt x="1136650" y="82550"/>
                </a:lnTo>
                <a:lnTo>
                  <a:pt x="1136650" y="825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p:transition>
    <p:wipe dir="r"/>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83"/>
                                        </p:tgtEl>
                                        <p:attrNameLst>
                                          <p:attrName>style.visibility</p:attrName>
                                        </p:attrNameLst>
                                      </p:cBhvr>
                                      <p:to>
                                        <p:strVal val="visible"/>
                                      </p:to>
                                    </p:set>
                                    <p:animEffect filter="wipe(left)" transition="in">
                                      <p:cBhvr additive="repl">
                                        <p:cTn id="34" dur="500"/>
                                        <p:tgtEl>
                                          <p:spTgt spid="83"/>
                                        </p:tgtEl>
                                      </p:cBhvr>
                                    </p:animEffect>
                                  </p:childTnLst>
                                </p:cTn>
                              </p:par>
                            </p:childTnLst>
                          </p:cTn>
                        </p:par>
                        <p:par>
                          <p:cTn id="35" nodeType="afterEffect"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86"/>
                                        </p:tgtEl>
                                        <p:attrNameLst>
                                          <p:attrName>style.visibility</p:attrName>
                                        </p:attrNameLst>
                                      </p:cBhvr>
                                      <p:to>
                                        <p:strVal val="visible"/>
                                      </p:to>
                                    </p:set>
                                    <p:animEffect filter="wipe(left)" transition="in">
                                      <p:cBhvr additive="repl">
                                        <p:cTn id="38" dur="500"/>
                                        <p:tgtEl>
                                          <p:spTgt spid="8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84"/>
                                        </p:tgtEl>
                                        <p:attrNameLst>
                                          <p:attrName>style.visibility</p:attrName>
                                        </p:attrNameLst>
                                      </p:cBhvr>
                                      <p:to>
                                        <p:strVal val="visible"/>
                                      </p:to>
                                    </p:set>
                                    <p:animEffect filter="wipe(left)" transition="in">
                                      <p:cBhvr additive="repl">
                                        <p:cTn id="43" dur="500"/>
                                        <p:tgtEl>
                                          <p:spTgt spid="84"/>
                                        </p:tgtEl>
                                      </p:cBhvr>
                                    </p:animEffect>
                                  </p:childTnLst>
                                </p:cTn>
                              </p:par>
                            </p:childTnLst>
                          </p:cTn>
                        </p:par>
                        <p:par>
                          <p:cTn id="44" nodeType="afterEffect"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85"/>
                                        </p:tgtEl>
                                        <p:attrNameLst>
                                          <p:attrName>style.visibility</p:attrName>
                                        </p:attrNameLst>
                                      </p:cBhvr>
                                      <p:to>
                                        <p:strVal val="visible"/>
                                      </p:to>
                                    </p:set>
                                    <p:animEffect filter="wipe(left)" transition="in">
                                      <p:cBhvr additive="repl">
                                        <p:cTn id="4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507960" y="1370160"/>
            <a:ext cx="822960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b0f0"/>
                </a:solidFill>
                <a:latin typeface="Verdana"/>
              </a:rPr>
              <a:t>Setting provides a </a:t>
            </a:r>
            <a:r>
              <a:rPr b="1" lang="en-US" sz="2700" spc="-1" strike="noStrike" u="sng">
                <a:solidFill>
                  <a:srgbClr val="ffff00"/>
                </a:solidFill>
                <a:uFillTx/>
                <a:latin typeface="Verdana"/>
              </a:rPr>
              <a:t>background—a place where the characters live and act</a:t>
            </a:r>
            <a:r>
              <a:rPr b="1" lang="en-US" sz="2700" spc="-1" strike="noStrike">
                <a:solidFill>
                  <a:srgbClr val="ffff99"/>
                </a:solidFill>
                <a:latin typeface="Verdana"/>
              </a:rPr>
              <a:t>. </a:t>
            </a:r>
            <a:endParaRPr b="0" lang="en-US" sz="2700" spc="-1" strike="noStrike">
              <a:solidFill>
                <a:srgbClr val="000000"/>
              </a:solidFill>
              <a:latin typeface="Verdana"/>
            </a:endParaRPr>
          </a:p>
        </p:txBody>
      </p:sp>
      <p:pic>
        <p:nvPicPr>
          <p:cNvPr id="95" name="Picture 12" descr="17237.JPG"/>
          <p:cNvPicPr/>
          <p:nvPr/>
        </p:nvPicPr>
        <p:blipFill>
          <a:blip r:embed="rId1"/>
          <a:stretch/>
        </p:blipFill>
        <p:spPr>
          <a:xfrm>
            <a:off x="6019920" y="3598920"/>
            <a:ext cx="2590560" cy="1712880"/>
          </a:xfrm>
          <a:prstGeom prst="rect">
            <a:avLst/>
          </a:prstGeom>
          <a:ln w="0">
            <a:noFill/>
          </a:ln>
        </p:spPr>
      </p:pic>
      <p:pic>
        <p:nvPicPr>
          <p:cNvPr id="96" name="Picture 22" descr="16224.JPG"/>
          <p:cNvPicPr/>
          <p:nvPr/>
        </p:nvPicPr>
        <p:blipFill>
          <a:blip r:embed="rId2"/>
          <a:stretch/>
        </p:blipFill>
        <p:spPr>
          <a:xfrm>
            <a:off x="3295800" y="2666880"/>
            <a:ext cx="2571480" cy="1700280"/>
          </a:xfrm>
          <a:prstGeom prst="rect">
            <a:avLst/>
          </a:prstGeom>
          <a:ln w="0">
            <a:noFill/>
          </a:ln>
        </p:spPr>
      </p:pic>
      <p:pic>
        <p:nvPicPr>
          <p:cNvPr id="97" name="Picture 10" descr="SCA0017E.JPG"/>
          <p:cNvPicPr/>
          <p:nvPr/>
        </p:nvPicPr>
        <p:blipFill>
          <a:blip r:embed="rId3"/>
          <a:stretch/>
        </p:blipFill>
        <p:spPr>
          <a:xfrm>
            <a:off x="533520" y="3581280"/>
            <a:ext cx="2590560" cy="1730520"/>
          </a:xfrm>
          <a:prstGeom prst="rect">
            <a:avLst/>
          </a:prstGeom>
          <a:ln w="0">
            <a:noFill/>
          </a:ln>
        </p:spPr>
      </p:pic>
      <p:sp>
        <p:nvSpPr>
          <p:cNvPr id="98" name="Text Box 24"/>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99" name="PlaceHolder 1"/>
          <p:cNvSpPr>
            <a:spLocks noGrp="1"/>
          </p:cNvSpPr>
          <p:nvPr>
            <p:ph type="title"/>
          </p:nvPr>
        </p:nvSpPr>
        <p:spPr>
          <a:xfrm>
            <a:off x="528480" y="528120"/>
            <a:ext cx="8082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000"/>
                </a:solidFill>
                <a:uFillTx/>
                <a:latin typeface="Verdana"/>
              </a:rPr>
              <a:t>Setting</a:t>
            </a:r>
            <a:endParaRPr b="0" lang="en-US" sz="4000" spc="-1" strike="noStrike">
              <a:solidFill>
                <a:srgbClr val="ffff99"/>
              </a:solidFill>
              <a:latin typeface="Verdana"/>
            </a:endParaRPr>
          </a:p>
        </p:txBody>
      </p:sp>
      <p:sp>
        <p:nvSpPr>
          <p:cNvPr id="100" name="Freeform 1"/>
          <p:cNvSpPr/>
          <p:nvPr/>
        </p:nvSpPr>
        <p:spPr>
          <a:xfrm>
            <a:off x="3975120" y="1263600"/>
            <a:ext cx="2558880" cy="685800"/>
          </a:xfrm>
          <a:custGeom>
            <a:avLst/>
            <a:gdLst>
              <a:gd name="textAreaLeft" fmla="*/ 0 w 2558880"/>
              <a:gd name="textAreaRight" fmla="*/ 2559240 w 2558880"/>
              <a:gd name="textAreaTop" fmla="*/ 0 h 685800"/>
              <a:gd name="textAreaBottom" fmla="*/ 686160 h 685800"/>
            </a:gdLst>
            <a:ahLst/>
            <a:rect l="textAreaLeft" t="textAreaTop" r="textAreaRight" b="textAreaBottom"/>
            <a:pathLst>
              <a:path w="2559051" h="685801">
                <a:moveTo>
                  <a:pt x="2527300" y="215900"/>
                </a:moveTo>
                <a:lnTo>
                  <a:pt x="2527300" y="215900"/>
                </a:lnTo>
                <a:lnTo>
                  <a:pt x="2527300" y="215900"/>
                </a:lnTo>
                <a:lnTo>
                  <a:pt x="2527300" y="209550"/>
                </a:lnTo>
                <a:lnTo>
                  <a:pt x="2527300" y="203200"/>
                </a:lnTo>
                <a:lnTo>
                  <a:pt x="2527300" y="196850"/>
                </a:lnTo>
                <a:lnTo>
                  <a:pt x="2527300" y="196850"/>
                </a:lnTo>
                <a:lnTo>
                  <a:pt x="2527300" y="190500"/>
                </a:lnTo>
                <a:lnTo>
                  <a:pt x="2527300" y="190500"/>
                </a:lnTo>
                <a:lnTo>
                  <a:pt x="2520950" y="184150"/>
                </a:lnTo>
                <a:lnTo>
                  <a:pt x="2520950" y="177800"/>
                </a:lnTo>
                <a:lnTo>
                  <a:pt x="2514600" y="177800"/>
                </a:lnTo>
                <a:lnTo>
                  <a:pt x="2514600" y="171450"/>
                </a:lnTo>
                <a:lnTo>
                  <a:pt x="2508250" y="165100"/>
                </a:lnTo>
                <a:lnTo>
                  <a:pt x="2501900" y="165100"/>
                </a:lnTo>
                <a:lnTo>
                  <a:pt x="2495550" y="158750"/>
                </a:lnTo>
                <a:lnTo>
                  <a:pt x="2482850" y="158750"/>
                </a:lnTo>
                <a:lnTo>
                  <a:pt x="2470150" y="152400"/>
                </a:lnTo>
                <a:lnTo>
                  <a:pt x="2457450" y="146050"/>
                </a:lnTo>
                <a:lnTo>
                  <a:pt x="2444750" y="139700"/>
                </a:lnTo>
                <a:lnTo>
                  <a:pt x="2425700" y="133350"/>
                </a:lnTo>
                <a:lnTo>
                  <a:pt x="2406650" y="133350"/>
                </a:lnTo>
                <a:lnTo>
                  <a:pt x="2387600" y="120650"/>
                </a:lnTo>
                <a:lnTo>
                  <a:pt x="2362200" y="114300"/>
                </a:lnTo>
                <a:lnTo>
                  <a:pt x="2336800" y="107950"/>
                </a:lnTo>
                <a:lnTo>
                  <a:pt x="2311400" y="101600"/>
                </a:lnTo>
                <a:lnTo>
                  <a:pt x="2286000" y="95250"/>
                </a:lnTo>
                <a:lnTo>
                  <a:pt x="2254250" y="88900"/>
                </a:lnTo>
                <a:lnTo>
                  <a:pt x="2222500" y="82550"/>
                </a:lnTo>
                <a:lnTo>
                  <a:pt x="2197100" y="76200"/>
                </a:lnTo>
                <a:lnTo>
                  <a:pt x="2165350" y="69850"/>
                </a:lnTo>
                <a:lnTo>
                  <a:pt x="2127250" y="63500"/>
                </a:lnTo>
                <a:lnTo>
                  <a:pt x="2089150" y="57150"/>
                </a:lnTo>
                <a:lnTo>
                  <a:pt x="2051050" y="50800"/>
                </a:lnTo>
                <a:lnTo>
                  <a:pt x="2012950" y="44450"/>
                </a:lnTo>
                <a:lnTo>
                  <a:pt x="1968500" y="38100"/>
                </a:lnTo>
                <a:lnTo>
                  <a:pt x="1930400" y="31750"/>
                </a:lnTo>
                <a:lnTo>
                  <a:pt x="1885950" y="31750"/>
                </a:lnTo>
                <a:lnTo>
                  <a:pt x="1835150" y="25400"/>
                </a:lnTo>
                <a:lnTo>
                  <a:pt x="1790700" y="25400"/>
                </a:lnTo>
                <a:lnTo>
                  <a:pt x="1746250" y="19050"/>
                </a:lnTo>
                <a:lnTo>
                  <a:pt x="1695450" y="12700"/>
                </a:lnTo>
                <a:lnTo>
                  <a:pt x="1644650" y="12700"/>
                </a:lnTo>
                <a:lnTo>
                  <a:pt x="1600200" y="6350"/>
                </a:lnTo>
                <a:lnTo>
                  <a:pt x="1549400" y="6350"/>
                </a:lnTo>
                <a:lnTo>
                  <a:pt x="1498600" y="0"/>
                </a:lnTo>
                <a:lnTo>
                  <a:pt x="1447800" y="0"/>
                </a:lnTo>
                <a:lnTo>
                  <a:pt x="1390650" y="0"/>
                </a:lnTo>
                <a:lnTo>
                  <a:pt x="1339850" y="0"/>
                </a:lnTo>
                <a:lnTo>
                  <a:pt x="1289050" y="0"/>
                </a:lnTo>
                <a:lnTo>
                  <a:pt x="1231900" y="6350"/>
                </a:lnTo>
                <a:lnTo>
                  <a:pt x="1181100" y="6350"/>
                </a:lnTo>
                <a:lnTo>
                  <a:pt x="1130300" y="6350"/>
                </a:lnTo>
                <a:lnTo>
                  <a:pt x="1079500" y="12700"/>
                </a:lnTo>
                <a:lnTo>
                  <a:pt x="1028700" y="12700"/>
                </a:lnTo>
                <a:lnTo>
                  <a:pt x="984250" y="19050"/>
                </a:lnTo>
                <a:lnTo>
                  <a:pt x="927100" y="25400"/>
                </a:lnTo>
                <a:lnTo>
                  <a:pt x="882650" y="31750"/>
                </a:lnTo>
                <a:lnTo>
                  <a:pt x="831850" y="38100"/>
                </a:lnTo>
                <a:lnTo>
                  <a:pt x="787400" y="38100"/>
                </a:lnTo>
                <a:lnTo>
                  <a:pt x="736600" y="44450"/>
                </a:lnTo>
                <a:lnTo>
                  <a:pt x="692150" y="57150"/>
                </a:lnTo>
                <a:lnTo>
                  <a:pt x="647700" y="63500"/>
                </a:lnTo>
                <a:lnTo>
                  <a:pt x="603250" y="69850"/>
                </a:lnTo>
                <a:lnTo>
                  <a:pt x="558800" y="76200"/>
                </a:lnTo>
                <a:lnTo>
                  <a:pt x="520700" y="88900"/>
                </a:lnTo>
                <a:lnTo>
                  <a:pt x="482600" y="95250"/>
                </a:lnTo>
                <a:lnTo>
                  <a:pt x="438150" y="101600"/>
                </a:lnTo>
                <a:lnTo>
                  <a:pt x="400050" y="114300"/>
                </a:lnTo>
                <a:lnTo>
                  <a:pt x="368300" y="127000"/>
                </a:lnTo>
                <a:lnTo>
                  <a:pt x="336550" y="133350"/>
                </a:lnTo>
                <a:lnTo>
                  <a:pt x="298450" y="146050"/>
                </a:lnTo>
                <a:lnTo>
                  <a:pt x="266700" y="158750"/>
                </a:lnTo>
                <a:lnTo>
                  <a:pt x="241300" y="165100"/>
                </a:lnTo>
                <a:lnTo>
                  <a:pt x="215900" y="177800"/>
                </a:lnTo>
                <a:lnTo>
                  <a:pt x="196850" y="190500"/>
                </a:lnTo>
                <a:lnTo>
                  <a:pt x="171450" y="196850"/>
                </a:lnTo>
                <a:lnTo>
                  <a:pt x="146050" y="209550"/>
                </a:lnTo>
                <a:lnTo>
                  <a:pt x="127000" y="222250"/>
                </a:lnTo>
                <a:lnTo>
                  <a:pt x="114300" y="228600"/>
                </a:lnTo>
                <a:lnTo>
                  <a:pt x="95250" y="241300"/>
                </a:lnTo>
                <a:lnTo>
                  <a:pt x="82550" y="254000"/>
                </a:lnTo>
                <a:lnTo>
                  <a:pt x="69850" y="266700"/>
                </a:lnTo>
                <a:lnTo>
                  <a:pt x="63500" y="279400"/>
                </a:lnTo>
                <a:lnTo>
                  <a:pt x="50800" y="292100"/>
                </a:lnTo>
                <a:lnTo>
                  <a:pt x="38100" y="304800"/>
                </a:lnTo>
                <a:lnTo>
                  <a:pt x="31750" y="323850"/>
                </a:lnTo>
                <a:lnTo>
                  <a:pt x="25400" y="336550"/>
                </a:lnTo>
                <a:lnTo>
                  <a:pt x="19050" y="355600"/>
                </a:lnTo>
                <a:lnTo>
                  <a:pt x="12700" y="374650"/>
                </a:lnTo>
                <a:lnTo>
                  <a:pt x="6350" y="393700"/>
                </a:lnTo>
                <a:lnTo>
                  <a:pt x="6350" y="406400"/>
                </a:lnTo>
                <a:lnTo>
                  <a:pt x="0" y="425450"/>
                </a:lnTo>
                <a:lnTo>
                  <a:pt x="0" y="444500"/>
                </a:lnTo>
                <a:lnTo>
                  <a:pt x="0" y="463550"/>
                </a:lnTo>
                <a:lnTo>
                  <a:pt x="0" y="482600"/>
                </a:lnTo>
                <a:lnTo>
                  <a:pt x="6350" y="495300"/>
                </a:lnTo>
                <a:lnTo>
                  <a:pt x="6350" y="514350"/>
                </a:lnTo>
                <a:lnTo>
                  <a:pt x="12700" y="527050"/>
                </a:lnTo>
                <a:lnTo>
                  <a:pt x="19050" y="546100"/>
                </a:lnTo>
                <a:lnTo>
                  <a:pt x="25400" y="558800"/>
                </a:lnTo>
                <a:lnTo>
                  <a:pt x="31750" y="571500"/>
                </a:lnTo>
                <a:lnTo>
                  <a:pt x="44450" y="584200"/>
                </a:lnTo>
                <a:lnTo>
                  <a:pt x="50800" y="590550"/>
                </a:lnTo>
                <a:lnTo>
                  <a:pt x="63500" y="603250"/>
                </a:lnTo>
                <a:lnTo>
                  <a:pt x="76200" y="609600"/>
                </a:lnTo>
                <a:lnTo>
                  <a:pt x="88900" y="622300"/>
                </a:lnTo>
                <a:lnTo>
                  <a:pt x="107950" y="628650"/>
                </a:lnTo>
                <a:lnTo>
                  <a:pt x="120650" y="635000"/>
                </a:lnTo>
                <a:lnTo>
                  <a:pt x="139700" y="641350"/>
                </a:lnTo>
                <a:lnTo>
                  <a:pt x="158750" y="647700"/>
                </a:lnTo>
                <a:lnTo>
                  <a:pt x="177800" y="654050"/>
                </a:lnTo>
                <a:lnTo>
                  <a:pt x="196850" y="660400"/>
                </a:lnTo>
                <a:lnTo>
                  <a:pt x="215900" y="666750"/>
                </a:lnTo>
                <a:lnTo>
                  <a:pt x="234950" y="666750"/>
                </a:lnTo>
                <a:lnTo>
                  <a:pt x="260350" y="673100"/>
                </a:lnTo>
                <a:lnTo>
                  <a:pt x="279400" y="673100"/>
                </a:lnTo>
                <a:lnTo>
                  <a:pt x="304800" y="673100"/>
                </a:lnTo>
                <a:lnTo>
                  <a:pt x="323850" y="679450"/>
                </a:lnTo>
                <a:lnTo>
                  <a:pt x="349250" y="679450"/>
                </a:lnTo>
                <a:lnTo>
                  <a:pt x="368300" y="679450"/>
                </a:lnTo>
                <a:lnTo>
                  <a:pt x="387350" y="679450"/>
                </a:lnTo>
                <a:lnTo>
                  <a:pt x="406400" y="685800"/>
                </a:lnTo>
                <a:lnTo>
                  <a:pt x="431800" y="685800"/>
                </a:lnTo>
                <a:lnTo>
                  <a:pt x="457200" y="685800"/>
                </a:lnTo>
                <a:lnTo>
                  <a:pt x="482600" y="685800"/>
                </a:lnTo>
                <a:lnTo>
                  <a:pt x="501650" y="685800"/>
                </a:lnTo>
                <a:lnTo>
                  <a:pt x="527050" y="685800"/>
                </a:lnTo>
                <a:lnTo>
                  <a:pt x="546100" y="685800"/>
                </a:lnTo>
                <a:lnTo>
                  <a:pt x="571500" y="685800"/>
                </a:lnTo>
                <a:lnTo>
                  <a:pt x="596900" y="679450"/>
                </a:lnTo>
                <a:lnTo>
                  <a:pt x="622300" y="679450"/>
                </a:lnTo>
                <a:lnTo>
                  <a:pt x="641350" y="679450"/>
                </a:lnTo>
                <a:lnTo>
                  <a:pt x="666750" y="679450"/>
                </a:lnTo>
                <a:lnTo>
                  <a:pt x="692150" y="679450"/>
                </a:lnTo>
                <a:lnTo>
                  <a:pt x="711200" y="673100"/>
                </a:lnTo>
                <a:lnTo>
                  <a:pt x="736600" y="673100"/>
                </a:lnTo>
                <a:lnTo>
                  <a:pt x="762000" y="673100"/>
                </a:lnTo>
                <a:lnTo>
                  <a:pt x="781050" y="666750"/>
                </a:lnTo>
                <a:lnTo>
                  <a:pt x="806450" y="666750"/>
                </a:lnTo>
                <a:lnTo>
                  <a:pt x="825500" y="666750"/>
                </a:lnTo>
                <a:lnTo>
                  <a:pt x="844550" y="666750"/>
                </a:lnTo>
                <a:lnTo>
                  <a:pt x="869950" y="666750"/>
                </a:lnTo>
                <a:lnTo>
                  <a:pt x="895350" y="660400"/>
                </a:lnTo>
                <a:lnTo>
                  <a:pt x="914400" y="660400"/>
                </a:lnTo>
                <a:lnTo>
                  <a:pt x="939800" y="660400"/>
                </a:lnTo>
                <a:lnTo>
                  <a:pt x="958850" y="660400"/>
                </a:lnTo>
                <a:lnTo>
                  <a:pt x="984250" y="654050"/>
                </a:lnTo>
                <a:lnTo>
                  <a:pt x="1003300" y="654050"/>
                </a:lnTo>
                <a:lnTo>
                  <a:pt x="1028700" y="660400"/>
                </a:lnTo>
                <a:lnTo>
                  <a:pt x="1054100" y="654050"/>
                </a:lnTo>
                <a:lnTo>
                  <a:pt x="1073150" y="654050"/>
                </a:lnTo>
                <a:lnTo>
                  <a:pt x="1098550" y="654050"/>
                </a:lnTo>
                <a:lnTo>
                  <a:pt x="1117600" y="654050"/>
                </a:lnTo>
                <a:lnTo>
                  <a:pt x="1143000" y="654050"/>
                </a:lnTo>
                <a:lnTo>
                  <a:pt x="1168400" y="654050"/>
                </a:lnTo>
                <a:lnTo>
                  <a:pt x="1193800" y="654050"/>
                </a:lnTo>
                <a:lnTo>
                  <a:pt x="1212850" y="654050"/>
                </a:lnTo>
                <a:lnTo>
                  <a:pt x="1238250" y="654050"/>
                </a:lnTo>
                <a:lnTo>
                  <a:pt x="1263650" y="654050"/>
                </a:lnTo>
                <a:lnTo>
                  <a:pt x="1282700" y="654050"/>
                </a:lnTo>
                <a:lnTo>
                  <a:pt x="1308100" y="654050"/>
                </a:lnTo>
                <a:lnTo>
                  <a:pt x="1333500" y="654050"/>
                </a:lnTo>
                <a:lnTo>
                  <a:pt x="1358900" y="654050"/>
                </a:lnTo>
                <a:lnTo>
                  <a:pt x="1384300" y="654050"/>
                </a:lnTo>
                <a:lnTo>
                  <a:pt x="1403350" y="654050"/>
                </a:lnTo>
                <a:lnTo>
                  <a:pt x="1428750" y="654050"/>
                </a:lnTo>
                <a:lnTo>
                  <a:pt x="1454150" y="660400"/>
                </a:lnTo>
                <a:lnTo>
                  <a:pt x="1485900" y="660400"/>
                </a:lnTo>
                <a:lnTo>
                  <a:pt x="1504950" y="660400"/>
                </a:lnTo>
                <a:lnTo>
                  <a:pt x="1536700" y="660400"/>
                </a:lnTo>
                <a:lnTo>
                  <a:pt x="1555750" y="666750"/>
                </a:lnTo>
                <a:lnTo>
                  <a:pt x="1581150" y="666750"/>
                </a:lnTo>
                <a:lnTo>
                  <a:pt x="1612900" y="666750"/>
                </a:lnTo>
                <a:lnTo>
                  <a:pt x="1638300" y="666750"/>
                </a:lnTo>
                <a:lnTo>
                  <a:pt x="1657350" y="666750"/>
                </a:lnTo>
                <a:lnTo>
                  <a:pt x="1682750" y="673100"/>
                </a:lnTo>
                <a:lnTo>
                  <a:pt x="1708150" y="673100"/>
                </a:lnTo>
                <a:lnTo>
                  <a:pt x="1733550" y="673100"/>
                </a:lnTo>
                <a:lnTo>
                  <a:pt x="1758950" y="673100"/>
                </a:lnTo>
                <a:lnTo>
                  <a:pt x="1784350" y="673100"/>
                </a:lnTo>
                <a:lnTo>
                  <a:pt x="1809750" y="673100"/>
                </a:lnTo>
                <a:lnTo>
                  <a:pt x="1835150" y="673100"/>
                </a:lnTo>
                <a:lnTo>
                  <a:pt x="1854200" y="673100"/>
                </a:lnTo>
                <a:lnTo>
                  <a:pt x="1885950" y="673100"/>
                </a:lnTo>
                <a:lnTo>
                  <a:pt x="1911350" y="673100"/>
                </a:lnTo>
                <a:lnTo>
                  <a:pt x="1930400" y="673100"/>
                </a:lnTo>
                <a:lnTo>
                  <a:pt x="1955800" y="673100"/>
                </a:lnTo>
                <a:lnTo>
                  <a:pt x="1981200" y="673100"/>
                </a:lnTo>
                <a:lnTo>
                  <a:pt x="2006600" y="673100"/>
                </a:lnTo>
                <a:lnTo>
                  <a:pt x="2032000" y="673100"/>
                </a:lnTo>
                <a:lnTo>
                  <a:pt x="2051050" y="666750"/>
                </a:lnTo>
                <a:lnTo>
                  <a:pt x="2076450" y="666750"/>
                </a:lnTo>
                <a:lnTo>
                  <a:pt x="2095500" y="666750"/>
                </a:lnTo>
                <a:lnTo>
                  <a:pt x="2120900" y="660400"/>
                </a:lnTo>
                <a:lnTo>
                  <a:pt x="2139950" y="660400"/>
                </a:lnTo>
                <a:lnTo>
                  <a:pt x="2165350" y="654050"/>
                </a:lnTo>
                <a:lnTo>
                  <a:pt x="2184400" y="654050"/>
                </a:lnTo>
                <a:lnTo>
                  <a:pt x="2203450" y="647700"/>
                </a:lnTo>
                <a:lnTo>
                  <a:pt x="2222500" y="647700"/>
                </a:lnTo>
                <a:lnTo>
                  <a:pt x="2241550" y="641350"/>
                </a:lnTo>
                <a:lnTo>
                  <a:pt x="2260600" y="641350"/>
                </a:lnTo>
                <a:lnTo>
                  <a:pt x="2279650" y="635000"/>
                </a:lnTo>
                <a:lnTo>
                  <a:pt x="2305050" y="635000"/>
                </a:lnTo>
                <a:lnTo>
                  <a:pt x="2324100" y="628650"/>
                </a:lnTo>
                <a:lnTo>
                  <a:pt x="2343150" y="622300"/>
                </a:lnTo>
                <a:lnTo>
                  <a:pt x="2355850" y="615950"/>
                </a:lnTo>
                <a:lnTo>
                  <a:pt x="2374900" y="609600"/>
                </a:lnTo>
                <a:lnTo>
                  <a:pt x="2393950" y="609600"/>
                </a:lnTo>
                <a:lnTo>
                  <a:pt x="2406650" y="603250"/>
                </a:lnTo>
                <a:lnTo>
                  <a:pt x="2425700" y="596900"/>
                </a:lnTo>
                <a:lnTo>
                  <a:pt x="2438400" y="590550"/>
                </a:lnTo>
                <a:lnTo>
                  <a:pt x="2451100" y="584200"/>
                </a:lnTo>
                <a:lnTo>
                  <a:pt x="2463800" y="577850"/>
                </a:lnTo>
                <a:lnTo>
                  <a:pt x="2476500" y="565150"/>
                </a:lnTo>
                <a:lnTo>
                  <a:pt x="2489200" y="558800"/>
                </a:lnTo>
                <a:lnTo>
                  <a:pt x="2501900" y="546100"/>
                </a:lnTo>
                <a:lnTo>
                  <a:pt x="2508250" y="539750"/>
                </a:lnTo>
                <a:lnTo>
                  <a:pt x="2520950" y="527050"/>
                </a:lnTo>
                <a:lnTo>
                  <a:pt x="2527300" y="520700"/>
                </a:lnTo>
                <a:lnTo>
                  <a:pt x="2540000" y="508000"/>
                </a:lnTo>
                <a:lnTo>
                  <a:pt x="2546350" y="495300"/>
                </a:lnTo>
                <a:lnTo>
                  <a:pt x="2546350" y="482600"/>
                </a:lnTo>
                <a:lnTo>
                  <a:pt x="2552700" y="463550"/>
                </a:lnTo>
                <a:lnTo>
                  <a:pt x="2559050" y="450850"/>
                </a:lnTo>
                <a:lnTo>
                  <a:pt x="2559050" y="431800"/>
                </a:lnTo>
                <a:lnTo>
                  <a:pt x="2559050" y="412750"/>
                </a:lnTo>
                <a:lnTo>
                  <a:pt x="2559050" y="393700"/>
                </a:lnTo>
                <a:lnTo>
                  <a:pt x="2559050" y="374650"/>
                </a:lnTo>
                <a:lnTo>
                  <a:pt x="2552700" y="361950"/>
                </a:lnTo>
                <a:lnTo>
                  <a:pt x="2546350" y="336550"/>
                </a:lnTo>
                <a:lnTo>
                  <a:pt x="2546350" y="317500"/>
                </a:lnTo>
                <a:lnTo>
                  <a:pt x="2533650" y="304800"/>
                </a:lnTo>
                <a:lnTo>
                  <a:pt x="2520950" y="285750"/>
                </a:lnTo>
                <a:lnTo>
                  <a:pt x="2514600" y="273050"/>
                </a:lnTo>
                <a:lnTo>
                  <a:pt x="2501900" y="254000"/>
                </a:lnTo>
                <a:lnTo>
                  <a:pt x="2489200" y="241300"/>
                </a:lnTo>
                <a:lnTo>
                  <a:pt x="2470150" y="222250"/>
                </a:lnTo>
                <a:lnTo>
                  <a:pt x="2451100" y="209550"/>
                </a:lnTo>
                <a:lnTo>
                  <a:pt x="2451100" y="209550"/>
                </a:lnTo>
                <a:lnTo>
                  <a:pt x="2425700" y="196850"/>
                </a:lnTo>
                <a:lnTo>
                  <a:pt x="2425700" y="1968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p:transition>
    <p:wipe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97"/>
                                        </p:tgtEl>
                                        <p:attrNameLst>
                                          <p:attrName>style.visibility</p:attrName>
                                        </p:attrNameLst>
                                      </p:cBhvr>
                                      <p:to>
                                        <p:strVal val="visible"/>
                                      </p:to>
                                    </p:set>
                                    <p:animEffect filter="wipe(up)" transition="in">
                                      <p:cBhvr additive="repl">
                                        <p:cTn id="54" dur="500"/>
                                        <p:tgtEl>
                                          <p:spTgt spid="9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96"/>
                                        </p:tgtEl>
                                        <p:attrNameLst>
                                          <p:attrName>style.visibility</p:attrName>
                                        </p:attrNameLst>
                                      </p:cBhvr>
                                      <p:to>
                                        <p:strVal val="visible"/>
                                      </p:to>
                                    </p:set>
                                    <p:animEffect filter="wipe(up)" transition="in">
                                      <p:cBhvr additive="repl">
                                        <p:cTn id="58" dur="500"/>
                                        <p:tgtEl>
                                          <p:spTgt spid="96"/>
                                        </p:tgtEl>
                                      </p:cBhvr>
                                    </p:animEffect>
                                  </p:childTnLst>
                                </p:cTn>
                              </p:par>
                            </p:childTnLst>
                          </p:cTn>
                        </p:par>
                        <p:par>
                          <p:cTn id="59" nodeType="afterEffect" fill="hold">
                            <p:stCondLst>
                              <p:cond delay="1000"/>
                            </p:stCondLst>
                            <p:childTnLst>
                              <p:par>
                                <p:cTn id="60" nodeType="afterEffect" fill="hold" presetClass="entr" presetID="22" presetSubtype="1">
                                  <p:stCondLst>
                                    <p:cond delay="0"/>
                                  </p:stCondLst>
                                  <p:childTnLst>
                                    <p:set>
                                      <p:cBhvr>
                                        <p:cTn id="61" dur="1" fill="hold">
                                          <p:stCondLst>
                                            <p:cond delay="0"/>
                                          </p:stCondLst>
                                        </p:cTn>
                                        <p:tgtEl>
                                          <p:spTgt spid="95"/>
                                        </p:tgtEl>
                                        <p:attrNameLst>
                                          <p:attrName>style.visibility</p:attrName>
                                        </p:attrNameLst>
                                      </p:cBhvr>
                                      <p:to>
                                        <p:strVal val="visible"/>
                                      </p:to>
                                    </p:set>
                                    <p:animEffect filter="wipe(up)" transition="in">
                                      <p:cBhvr additive="repl">
                                        <p:cTn id="62" dur="500"/>
                                        <p:tgtEl>
                                          <p:spTgt spid="95"/>
                                        </p:tgtEl>
                                      </p:cBhvr>
                                    </p:animEffect>
                                  </p:childTnLst>
                                </p:cTn>
                              </p:par>
                            </p:childTnLst>
                          </p:cTn>
                        </p:par>
                        <p:par>
                          <p:cTn id="63" nodeType="afterEffect" fill="hold">
                            <p:stCondLst>
                              <p:cond delay="1500"/>
                            </p:stCondLst>
                            <p:childTnLst>
                              <p:par>
                                <p:cTn id="64" nodeType="afterEffect" fill="hold" presetClass="entr" presetID="1">
                                  <p:stCondLst>
                                    <p:cond delay="0"/>
                                  </p:stCondLst>
                                  <p:childTnLst>
                                    <p:set>
                                      <p:cBhvr>
                                        <p:cTn id="65"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ACT0095E.JPG"/>
          <p:cNvPicPr/>
          <p:nvPr/>
        </p:nvPicPr>
        <p:blipFill>
          <a:blip r:embed="rId1"/>
          <a:stretch/>
        </p:blipFill>
        <p:spPr>
          <a:xfrm>
            <a:off x="533520" y="2879640"/>
            <a:ext cx="2590560" cy="1731960"/>
          </a:xfrm>
          <a:prstGeom prst="rect">
            <a:avLst/>
          </a:prstGeom>
          <a:ln w="0">
            <a:noFill/>
          </a:ln>
        </p:spPr>
      </p:pic>
      <p:sp>
        <p:nvSpPr>
          <p:cNvPr id="102" name="PlaceHolder 1"/>
          <p:cNvSpPr>
            <a:spLocks noGrp="1"/>
          </p:cNvSpPr>
          <p:nvPr>
            <p:ph type="title"/>
          </p:nvPr>
        </p:nvSpPr>
        <p:spPr>
          <a:xfrm>
            <a:off x="528480" y="528120"/>
            <a:ext cx="8082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ffc000"/>
                </a:solidFill>
                <a:uFillTx/>
                <a:latin typeface="Verdana"/>
              </a:rPr>
              <a:t>How Is Setting Created?</a:t>
            </a:r>
            <a:endParaRPr b="0" lang="en-US" sz="3500" spc="-1" strike="noStrike">
              <a:solidFill>
                <a:srgbClr val="ffff99"/>
              </a:solidFill>
              <a:latin typeface="Verdana"/>
            </a:endParaRPr>
          </a:p>
        </p:txBody>
      </p:sp>
      <p:sp>
        <p:nvSpPr>
          <p:cNvPr id="103" name="Text Box 4"/>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Verdana"/>
              </a:rPr>
              <a:t>Writers carefully select </a:t>
            </a:r>
            <a:r>
              <a:rPr b="1" lang="en-US" sz="2400" spc="-1" strike="noStrike" u="sng">
                <a:solidFill>
                  <a:srgbClr val="ffff00"/>
                </a:solidFill>
                <a:uFillTx/>
                <a:latin typeface="Verdana"/>
              </a:rPr>
              <a:t>images and details </a:t>
            </a:r>
            <a:r>
              <a:rPr b="0" lang="en-US" sz="2400" spc="-1" strike="noStrike">
                <a:solidFill>
                  <a:srgbClr val="00b0f0"/>
                </a:solidFill>
                <a:latin typeface="Verdana"/>
              </a:rPr>
              <a:t>to create a setting that draws us into the story.</a:t>
            </a:r>
            <a:endParaRPr b="0" lang="en-US" sz="2400" spc="-1" strike="noStrike">
              <a:solidFill>
                <a:srgbClr val="000000"/>
              </a:solidFill>
              <a:latin typeface="Verdana"/>
            </a:endParaRPr>
          </a:p>
        </p:txBody>
      </p:sp>
      <p:sp>
        <p:nvSpPr>
          <p:cNvPr id="104" name="Text Box 5"/>
          <p:cNvSpPr/>
          <p:nvPr/>
        </p:nvSpPr>
        <p:spPr>
          <a:xfrm>
            <a:off x="533520" y="2284560"/>
            <a:ext cx="14158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ight</a:t>
            </a:r>
            <a:endParaRPr b="0" lang="en-US" sz="2400" spc="-1" strike="noStrike">
              <a:solidFill>
                <a:srgbClr val="000000"/>
              </a:solidFill>
              <a:latin typeface="Verdana"/>
            </a:endParaRPr>
          </a:p>
        </p:txBody>
      </p:sp>
      <p:sp>
        <p:nvSpPr>
          <p:cNvPr id="105" name="Text Box 6"/>
          <p:cNvSpPr/>
          <p:nvPr/>
        </p:nvSpPr>
        <p:spPr>
          <a:xfrm>
            <a:off x="6172200" y="2284560"/>
            <a:ext cx="190512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aring</a:t>
            </a:r>
            <a:endParaRPr b="0" lang="en-US" sz="2400" spc="-1" strike="noStrike">
              <a:solidFill>
                <a:srgbClr val="000000"/>
              </a:solidFill>
              <a:latin typeface="Verdana"/>
            </a:endParaRPr>
          </a:p>
        </p:txBody>
      </p:sp>
      <p:pic>
        <p:nvPicPr>
          <p:cNvPr id="106" name="Picture 7" descr="84191.JPG"/>
          <p:cNvPicPr/>
          <p:nvPr/>
        </p:nvPicPr>
        <p:blipFill>
          <a:blip r:embed="rId2"/>
          <a:stretch/>
        </p:blipFill>
        <p:spPr>
          <a:xfrm>
            <a:off x="6019920" y="2895480"/>
            <a:ext cx="2590560" cy="1711440"/>
          </a:xfrm>
          <a:prstGeom prst="rect">
            <a:avLst/>
          </a:prstGeom>
          <a:ln w="0">
            <a:noFill/>
          </a:ln>
        </p:spPr>
      </p:pic>
      <p:sp>
        <p:nvSpPr>
          <p:cNvPr id="107" name="Text Box 8"/>
          <p:cNvSpPr/>
          <p:nvPr/>
        </p:nvSpPr>
        <p:spPr>
          <a:xfrm>
            <a:off x="6477120" y="4419720"/>
            <a:ext cx="22096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steady beat of the drum</a:t>
            </a:r>
            <a:endParaRPr b="0" lang="en-US" sz="2000" spc="-1" strike="noStrike">
              <a:solidFill>
                <a:srgbClr val="000000"/>
              </a:solidFill>
              <a:latin typeface="Verdana"/>
            </a:endParaRPr>
          </a:p>
        </p:txBody>
      </p:sp>
      <p:pic>
        <p:nvPicPr>
          <p:cNvPr id="108" name="Picture 9" descr="BXP45729.JPG"/>
          <p:cNvPicPr/>
          <p:nvPr/>
        </p:nvPicPr>
        <p:blipFill>
          <a:blip r:embed="rId3"/>
          <a:stretch/>
        </p:blipFill>
        <p:spPr>
          <a:xfrm>
            <a:off x="3722760" y="2895480"/>
            <a:ext cx="1698480" cy="2590920"/>
          </a:xfrm>
          <a:prstGeom prst="rect">
            <a:avLst/>
          </a:prstGeom>
          <a:ln w="0">
            <a:noFill/>
          </a:ln>
        </p:spPr>
      </p:pic>
      <p:sp>
        <p:nvSpPr>
          <p:cNvPr id="109" name="Text Box 10"/>
          <p:cNvSpPr/>
          <p:nvPr/>
        </p:nvSpPr>
        <p:spPr>
          <a:xfrm>
            <a:off x="3886200" y="5241960"/>
            <a:ext cx="1981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tart apple </a:t>
            </a:r>
            <a:endParaRPr b="0" lang="en-US" sz="2000" spc="-1" strike="noStrike">
              <a:solidFill>
                <a:srgbClr val="000000"/>
              </a:solidFill>
              <a:latin typeface="Verdana"/>
            </a:endParaRPr>
          </a:p>
        </p:txBody>
      </p:sp>
      <p:sp>
        <p:nvSpPr>
          <p:cNvPr id="110" name="Text Box 11"/>
          <p:cNvSpPr/>
          <p:nvPr/>
        </p:nvSpPr>
        <p:spPr>
          <a:xfrm>
            <a:off x="533520" y="4556160"/>
            <a:ext cx="29718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ree hot-air balloons colored the sky</a:t>
            </a:r>
            <a:endParaRPr b="0" lang="en-US" sz="2000" spc="-1" strike="noStrike">
              <a:solidFill>
                <a:srgbClr val="000000"/>
              </a:solidFill>
              <a:latin typeface="Verdana"/>
            </a:endParaRPr>
          </a:p>
        </p:txBody>
      </p:sp>
      <p:sp>
        <p:nvSpPr>
          <p:cNvPr id="111" name="Text Box 12"/>
          <p:cNvSpPr/>
          <p:nvPr/>
        </p:nvSpPr>
        <p:spPr>
          <a:xfrm>
            <a:off x="3733920" y="2284560"/>
            <a:ext cx="15238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aste</a:t>
            </a:r>
            <a:endParaRPr b="0" lang="en-US" sz="2400" spc="-1" strike="noStrike">
              <a:solidFill>
                <a:srgbClr val="000000"/>
              </a:solidFill>
              <a:latin typeface="Verdana"/>
            </a:endParaRPr>
          </a:p>
        </p:txBody>
      </p:sp>
      <p:pic>
        <p:nvPicPr>
          <p:cNvPr id="112" name="Picture 13" descr=""/>
          <p:cNvPicPr/>
          <p:nvPr/>
        </p:nvPicPr>
        <p:blipFill>
          <a:blip r:embed="rId4"/>
          <a:stretch/>
        </p:blipFill>
        <p:spPr>
          <a:xfrm>
            <a:off x="7696080" y="1968480"/>
            <a:ext cx="133560" cy="88920"/>
          </a:xfrm>
          <a:prstGeom prst="rect">
            <a:avLst/>
          </a:prstGeom>
          <a:ln w="0">
            <a:noFill/>
          </a:ln>
        </p:spPr>
      </p:pic>
      <p:pic>
        <p:nvPicPr>
          <p:cNvPr id="113" name="Picture 14" descr=""/>
          <p:cNvPicPr/>
          <p:nvPr/>
        </p:nvPicPr>
        <p:blipFill>
          <a:blip r:embed="rId5"/>
          <a:stretch/>
        </p:blipFill>
        <p:spPr>
          <a:xfrm>
            <a:off x="2057400" y="2502000"/>
            <a:ext cx="133200" cy="88920"/>
          </a:xfrm>
          <a:prstGeom prst="rect">
            <a:avLst/>
          </a:prstGeom>
          <a:ln w="0">
            <a:noFill/>
          </a:ln>
        </p:spPr>
      </p:pic>
      <p:pic>
        <p:nvPicPr>
          <p:cNvPr id="114" name="Picture 15" descr=""/>
          <p:cNvPicPr/>
          <p:nvPr/>
        </p:nvPicPr>
        <p:blipFill>
          <a:blip r:embed="rId6"/>
          <a:stretch/>
        </p:blipFill>
        <p:spPr>
          <a:xfrm>
            <a:off x="5429160" y="2514600"/>
            <a:ext cx="133560" cy="88920"/>
          </a:xfrm>
          <a:prstGeom prst="rect">
            <a:avLst/>
          </a:prstGeom>
          <a:ln w="0">
            <a:noFill/>
          </a:ln>
        </p:spPr>
      </p:pic>
      <p:sp>
        <p:nvSpPr>
          <p:cNvPr id="115" name="Freeform 1"/>
          <p:cNvSpPr/>
          <p:nvPr/>
        </p:nvSpPr>
        <p:spPr>
          <a:xfrm>
            <a:off x="4044960" y="1339920"/>
            <a:ext cx="1530360" cy="533160"/>
          </a:xfrm>
          <a:custGeom>
            <a:avLst/>
            <a:gdLst>
              <a:gd name="textAreaLeft" fmla="*/ 0 w 1530360"/>
              <a:gd name="textAreaRight" fmla="*/ 1530720 w 1530360"/>
              <a:gd name="textAreaTop" fmla="*/ 0 h 533160"/>
              <a:gd name="textAreaBottom" fmla="*/ 533520 h 533160"/>
            </a:gdLst>
            <a:ahLst/>
            <a:rect l="textAreaLeft" t="textAreaTop" r="textAreaRight" b="textAreaBottom"/>
            <a:pathLst>
              <a:path w="1530351" h="533401">
                <a:moveTo>
                  <a:pt x="1168400" y="152400"/>
                </a:moveTo>
                <a:lnTo>
                  <a:pt x="1168400" y="152400"/>
                </a:lnTo>
                <a:lnTo>
                  <a:pt x="1168400" y="146050"/>
                </a:lnTo>
                <a:lnTo>
                  <a:pt x="1168400" y="146050"/>
                </a:lnTo>
                <a:lnTo>
                  <a:pt x="1162050" y="139700"/>
                </a:lnTo>
                <a:lnTo>
                  <a:pt x="1155700" y="133350"/>
                </a:lnTo>
                <a:lnTo>
                  <a:pt x="1149350" y="120650"/>
                </a:lnTo>
                <a:lnTo>
                  <a:pt x="1143000" y="114300"/>
                </a:lnTo>
                <a:lnTo>
                  <a:pt x="1136650" y="107950"/>
                </a:lnTo>
                <a:lnTo>
                  <a:pt x="1123950" y="95250"/>
                </a:lnTo>
                <a:lnTo>
                  <a:pt x="1111250" y="88900"/>
                </a:lnTo>
                <a:lnTo>
                  <a:pt x="1098550" y="82550"/>
                </a:lnTo>
                <a:lnTo>
                  <a:pt x="1079500" y="76200"/>
                </a:lnTo>
                <a:lnTo>
                  <a:pt x="1060450" y="69850"/>
                </a:lnTo>
                <a:lnTo>
                  <a:pt x="1041400" y="57150"/>
                </a:lnTo>
                <a:lnTo>
                  <a:pt x="1016000" y="57150"/>
                </a:lnTo>
                <a:lnTo>
                  <a:pt x="990600" y="44450"/>
                </a:lnTo>
                <a:lnTo>
                  <a:pt x="965200" y="44450"/>
                </a:lnTo>
                <a:lnTo>
                  <a:pt x="939800" y="38100"/>
                </a:lnTo>
                <a:lnTo>
                  <a:pt x="908050" y="31750"/>
                </a:lnTo>
                <a:lnTo>
                  <a:pt x="876300" y="25400"/>
                </a:lnTo>
                <a:lnTo>
                  <a:pt x="838200" y="19050"/>
                </a:lnTo>
                <a:lnTo>
                  <a:pt x="806450" y="12700"/>
                </a:lnTo>
                <a:lnTo>
                  <a:pt x="768350" y="12700"/>
                </a:lnTo>
                <a:lnTo>
                  <a:pt x="736600" y="6350"/>
                </a:lnTo>
                <a:lnTo>
                  <a:pt x="698500" y="0"/>
                </a:lnTo>
                <a:lnTo>
                  <a:pt x="660400" y="0"/>
                </a:lnTo>
                <a:lnTo>
                  <a:pt x="622300" y="0"/>
                </a:lnTo>
                <a:lnTo>
                  <a:pt x="584200" y="0"/>
                </a:lnTo>
                <a:lnTo>
                  <a:pt x="539750" y="0"/>
                </a:lnTo>
                <a:lnTo>
                  <a:pt x="501650" y="6350"/>
                </a:lnTo>
                <a:lnTo>
                  <a:pt x="463550" y="12700"/>
                </a:lnTo>
                <a:lnTo>
                  <a:pt x="431800" y="12700"/>
                </a:lnTo>
                <a:lnTo>
                  <a:pt x="387350" y="19050"/>
                </a:lnTo>
                <a:lnTo>
                  <a:pt x="349250" y="31750"/>
                </a:lnTo>
                <a:lnTo>
                  <a:pt x="317500" y="44450"/>
                </a:lnTo>
                <a:lnTo>
                  <a:pt x="285750" y="50800"/>
                </a:lnTo>
                <a:lnTo>
                  <a:pt x="254000" y="63500"/>
                </a:lnTo>
                <a:lnTo>
                  <a:pt x="222250" y="82550"/>
                </a:lnTo>
                <a:lnTo>
                  <a:pt x="190500" y="95250"/>
                </a:lnTo>
                <a:lnTo>
                  <a:pt x="165100" y="107950"/>
                </a:lnTo>
                <a:lnTo>
                  <a:pt x="139700" y="120650"/>
                </a:lnTo>
                <a:lnTo>
                  <a:pt x="120650" y="139700"/>
                </a:lnTo>
                <a:lnTo>
                  <a:pt x="95250" y="158750"/>
                </a:lnTo>
                <a:lnTo>
                  <a:pt x="76200" y="177800"/>
                </a:lnTo>
                <a:lnTo>
                  <a:pt x="63500" y="190500"/>
                </a:lnTo>
                <a:lnTo>
                  <a:pt x="50800" y="209550"/>
                </a:lnTo>
                <a:lnTo>
                  <a:pt x="38100" y="228600"/>
                </a:lnTo>
                <a:lnTo>
                  <a:pt x="31750" y="247650"/>
                </a:lnTo>
                <a:lnTo>
                  <a:pt x="19050" y="266700"/>
                </a:lnTo>
                <a:lnTo>
                  <a:pt x="12700" y="285750"/>
                </a:lnTo>
                <a:lnTo>
                  <a:pt x="6350" y="311150"/>
                </a:lnTo>
                <a:lnTo>
                  <a:pt x="0" y="330200"/>
                </a:lnTo>
                <a:lnTo>
                  <a:pt x="0" y="349250"/>
                </a:lnTo>
                <a:lnTo>
                  <a:pt x="0" y="368300"/>
                </a:lnTo>
                <a:lnTo>
                  <a:pt x="0" y="387350"/>
                </a:lnTo>
                <a:lnTo>
                  <a:pt x="0" y="400050"/>
                </a:lnTo>
                <a:lnTo>
                  <a:pt x="6350" y="419100"/>
                </a:lnTo>
                <a:lnTo>
                  <a:pt x="19050" y="431800"/>
                </a:lnTo>
                <a:lnTo>
                  <a:pt x="25400" y="444500"/>
                </a:lnTo>
                <a:lnTo>
                  <a:pt x="38100" y="457200"/>
                </a:lnTo>
                <a:lnTo>
                  <a:pt x="50800" y="463550"/>
                </a:lnTo>
                <a:lnTo>
                  <a:pt x="69850" y="476250"/>
                </a:lnTo>
                <a:lnTo>
                  <a:pt x="88900" y="482600"/>
                </a:lnTo>
                <a:lnTo>
                  <a:pt x="107950" y="488950"/>
                </a:lnTo>
                <a:lnTo>
                  <a:pt x="133350" y="501650"/>
                </a:lnTo>
                <a:lnTo>
                  <a:pt x="152400" y="508000"/>
                </a:lnTo>
                <a:lnTo>
                  <a:pt x="177800" y="514350"/>
                </a:lnTo>
                <a:lnTo>
                  <a:pt x="203200" y="520700"/>
                </a:lnTo>
                <a:lnTo>
                  <a:pt x="228600" y="520700"/>
                </a:lnTo>
                <a:lnTo>
                  <a:pt x="260350" y="527050"/>
                </a:lnTo>
                <a:lnTo>
                  <a:pt x="285750" y="527050"/>
                </a:lnTo>
                <a:lnTo>
                  <a:pt x="311150" y="533400"/>
                </a:lnTo>
                <a:lnTo>
                  <a:pt x="336550" y="533400"/>
                </a:lnTo>
                <a:lnTo>
                  <a:pt x="368300" y="533400"/>
                </a:lnTo>
                <a:lnTo>
                  <a:pt x="400050" y="533400"/>
                </a:lnTo>
                <a:lnTo>
                  <a:pt x="425450" y="533400"/>
                </a:lnTo>
                <a:lnTo>
                  <a:pt x="457200" y="533400"/>
                </a:lnTo>
                <a:lnTo>
                  <a:pt x="482600" y="533400"/>
                </a:lnTo>
                <a:lnTo>
                  <a:pt x="508000" y="533400"/>
                </a:lnTo>
                <a:lnTo>
                  <a:pt x="539750" y="533400"/>
                </a:lnTo>
                <a:lnTo>
                  <a:pt x="571500" y="533400"/>
                </a:lnTo>
                <a:lnTo>
                  <a:pt x="596900" y="533400"/>
                </a:lnTo>
                <a:lnTo>
                  <a:pt x="622300" y="533400"/>
                </a:lnTo>
                <a:lnTo>
                  <a:pt x="654050" y="527050"/>
                </a:lnTo>
                <a:lnTo>
                  <a:pt x="679450" y="527050"/>
                </a:lnTo>
                <a:lnTo>
                  <a:pt x="711200" y="527050"/>
                </a:lnTo>
                <a:lnTo>
                  <a:pt x="736600" y="520700"/>
                </a:lnTo>
                <a:lnTo>
                  <a:pt x="768350" y="520700"/>
                </a:lnTo>
                <a:lnTo>
                  <a:pt x="793750" y="520700"/>
                </a:lnTo>
                <a:lnTo>
                  <a:pt x="825500" y="514350"/>
                </a:lnTo>
                <a:lnTo>
                  <a:pt x="850900" y="514350"/>
                </a:lnTo>
                <a:lnTo>
                  <a:pt x="876300" y="514350"/>
                </a:lnTo>
                <a:lnTo>
                  <a:pt x="908050" y="508000"/>
                </a:lnTo>
                <a:lnTo>
                  <a:pt x="933450" y="508000"/>
                </a:lnTo>
                <a:lnTo>
                  <a:pt x="958850" y="508000"/>
                </a:lnTo>
                <a:lnTo>
                  <a:pt x="984250" y="508000"/>
                </a:lnTo>
                <a:lnTo>
                  <a:pt x="1009650" y="501650"/>
                </a:lnTo>
                <a:lnTo>
                  <a:pt x="1041400" y="501650"/>
                </a:lnTo>
                <a:lnTo>
                  <a:pt x="1060450" y="501650"/>
                </a:lnTo>
                <a:lnTo>
                  <a:pt x="1085850" y="495300"/>
                </a:lnTo>
                <a:lnTo>
                  <a:pt x="1111250" y="488950"/>
                </a:lnTo>
                <a:lnTo>
                  <a:pt x="1136650" y="488950"/>
                </a:lnTo>
                <a:lnTo>
                  <a:pt x="1162050" y="488950"/>
                </a:lnTo>
                <a:lnTo>
                  <a:pt x="1181100" y="482600"/>
                </a:lnTo>
                <a:lnTo>
                  <a:pt x="1206500" y="482600"/>
                </a:lnTo>
                <a:lnTo>
                  <a:pt x="1225550" y="476250"/>
                </a:lnTo>
                <a:lnTo>
                  <a:pt x="1250950" y="469900"/>
                </a:lnTo>
                <a:lnTo>
                  <a:pt x="1276350" y="469900"/>
                </a:lnTo>
                <a:lnTo>
                  <a:pt x="1295400" y="463550"/>
                </a:lnTo>
                <a:lnTo>
                  <a:pt x="1314450" y="457200"/>
                </a:lnTo>
                <a:lnTo>
                  <a:pt x="1333500" y="450850"/>
                </a:lnTo>
                <a:lnTo>
                  <a:pt x="1352550" y="444500"/>
                </a:lnTo>
                <a:lnTo>
                  <a:pt x="1371600" y="438150"/>
                </a:lnTo>
                <a:lnTo>
                  <a:pt x="1390650" y="431800"/>
                </a:lnTo>
                <a:lnTo>
                  <a:pt x="1409700" y="425450"/>
                </a:lnTo>
                <a:lnTo>
                  <a:pt x="1428750" y="419100"/>
                </a:lnTo>
                <a:lnTo>
                  <a:pt x="1441450" y="406400"/>
                </a:lnTo>
                <a:lnTo>
                  <a:pt x="1454150" y="400050"/>
                </a:lnTo>
                <a:lnTo>
                  <a:pt x="1466850" y="387350"/>
                </a:lnTo>
                <a:lnTo>
                  <a:pt x="1479550" y="381000"/>
                </a:lnTo>
                <a:lnTo>
                  <a:pt x="1492250" y="368300"/>
                </a:lnTo>
                <a:lnTo>
                  <a:pt x="1498600" y="361950"/>
                </a:lnTo>
                <a:lnTo>
                  <a:pt x="1504950" y="349250"/>
                </a:lnTo>
                <a:lnTo>
                  <a:pt x="1517650" y="336550"/>
                </a:lnTo>
                <a:lnTo>
                  <a:pt x="1524000" y="323850"/>
                </a:lnTo>
                <a:lnTo>
                  <a:pt x="1524000" y="317500"/>
                </a:lnTo>
                <a:lnTo>
                  <a:pt x="1524000" y="304800"/>
                </a:lnTo>
                <a:lnTo>
                  <a:pt x="1530350" y="292100"/>
                </a:lnTo>
                <a:lnTo>
                  <a:pt x="1530350" y="273050"/>
                </a:lnTo>
                <a:lnTo>
                  <a:pt x="1524000" y="266700"/>
                </a:lnTo>
                <a:lnTo>
                  <a:pt x="1524000" y="247650"/>
                </a:lnTo>
                <a:lnTo>
                  <a:pt x="1517650" y="234950"/>
                </a:lnTo>
                <a:lnTo>
                  <a:pt x="1511300" y="222250"/>
                </a:lnTo>
                <a:lnTo>
                  <a:pt x="1504950" y="209550"/>
                </a:lnTo>
                <a:lnTo>
                  <a:pt x="1492250" y="196850"/>
                </a:lnTo>
                <a:lnTo>
                  <a:pt x="1479550" y="184150"/>
                </a:lnTo>
                <a:lnTo>
                  <a:pt x="1466850" y="171450"/>
                </a:lnTo>
                <a:lnTo>
                  <a:pt x="1447800" y="158750"/>
                </a:lnTo>
                <a:lnTo>
                  <a:pt x="1428750" y="146050"/>
                </a:lnTo>
                <a:lnTo>
                  <a:pt x="1403350" y="133350"/>
                </a:lnTo>
                <a:lnTo>
                  <a:pt x="1377950" y="120650"/>
                </a:lnTo>
                <a:lnTo>
                  <a:pt x="1352550" y="107950"/>
                </a:lnTo>
                <a:lnTo>
                  <a:pt x="1320800" y="95250"/>
                </a:lnTo>
                <a:lnTo>
                  <a:pt x="1282700" y="88900"/>
                </a:lnTo>
                <a:lnTo>
                  <a:pt x="1238250" y="76200"/>
                </a:lnTo>
                <a:lnTo>
                  <a:pt x="1200150" y="76200"/>
                </a:lnTo>
                <a:lnTo>
                  <a:pt x="1149350" y="69850"/>
                </a:lnTo>
                <a:lnTo>
                  <a:pt x="1098550" y="69850"/>
                </a:lnTo>
                <a:lnTo>
                  <a:pt x="1041400" y="76200"/>
                </a:lnTo>
                <a:lnTo>
                  <a:pt x="971550" y="88900"/>
                </a:lnTo>
                <a:lnTo>
                  <a:pt x="908050" y="107950"/>
                </a:lnTo>
                <a:lnTo>
                  <a:pt x="908050" y="107950"/>
                </a:lnTo>
                <a:lnTo>
                  <a:pt x="838200" y="133350"/>
                </a:lnTo>
                <a:lnTo>
                  <a:pt x="838200" y="1333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p:transition>
    <p:wipe dir="r"/>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4"/>
                                        </p:tgtEl>
                                        <p:attrNameLst>
                                          <p:attrName>style.visibility</p:attrName>
                                        </p:attrNameLst>
                                      </p:cBhvr>
                                      <p:to>
                                        <p:strVal val="visible"/>
                                      </p:to>
                                    </p:set>
                                    <p:animEffect filter="wipe(left)" transition="in">
                                      <p:cBhvr additive="repl">
                                        <p:cTn id="72" dur="500"/>
                                        <p:tgtEl>
                                          <p:spTgt spid="104"/>
                                        </p:tgtEl>
                                      </p:cBhvr>
                                    </p:animEffect>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01"/>
                                        </p:tgtEl>
                                        <p:attrNameLst>
                                          <p:attrName>style.visibility</p:attrName>
                                        </p:attrNameLst>
                                      </p:cBhvr>
                                      <p:to>
                                        <p:strVal val="visible"/>
                                      </p:to>
                                    </p:set>
                                    <p:animEffect filter="wipe(up)" transition="in">
                                      <p:cBhvr additive="repl">
                                        <p:cTn id="76" dur="500"/>
                                        <p:tgtEl>
                                          <p:spTgt spid="101"/>
                                        </p:tgtEl>
                                      </p:cBhvr>
                                    </p:animEffect>
                                  </p:childTnLst>
                                </p:cTn>
                              </p:par>
                              <p:par>
                                <p:cTn id="77" nodeType="withEffect" fill="hold" presetClass="entr" presetID="22" presetSubtype="1">
                                  <p:stCondLst>
                                    <p:cond delay="0"/>
                                  </p:stCondLst>
                                  <p:childTnLst>
                                    <p:set>
                                      <p:cBhvr>
                                        <p:cTn id="78" dur="1" fill="hold">
                                          <p:stCondLst>
                                            <p:cond delay="0"/>
                                          </p:stCondLst>
                                        </p:cTn>
                                        <p:tgtEl>
                                          <p:spTgt spid="110"/>
                                        </p:tgtEl>
                                        <p:attrNameLst>
                                          <p:attrName>style.visibility</p:attrName>
                                        </p:attrNameLst>
                                      </p:cBhvr>
                                      <p:to>
                                        <p:strVal val="visible"/>
                                      </p:to>
                                    </p:set>
                                    <p:animEffect filter="wipe(up)" transition="in">
                                      <p:cBhvr additive="repl">
                                        <p:cTn id="79" dur="500"/>
                                        <p:tgtEl>
                                          <p:spTgt spid="110"/>
                                        </p:tgtEl>
                                      </p:cBhvr>
                                    </p:animEffect>
                                  </p:childTnLst>
                                </p:cTn>
                              </p:par>
                            </p:childTnLst>
                          </p:cTn>
                        </p:par>
                        <p:par>
                          <p:cTn id="80" nodeType="afterEffect" fill="hold">
                            <p:stCondLst>
                              <p:cond delay="1000"/>
                            </p:stCondLst>
                            <p:childTnLst>
                              <p:par>
                                <p:cTn id="81" nodeType="after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1"/>
                                        </p:tgtEl>
                                        <p:attrNameLst>
                                          <p:attrName>style.visibility</p:attrName>
                                        </p:attrNameLst>
                                      </p:cBhvr>
                                      <p:to>
                                        <p:strVal val="visible"/>
                                      </p:to>
                                    </p:set>
                                    <p:animEffect filter="wipe(left)" transition="in">
                                      <p:cBhvr additive="repl">
                                        <p:cTn id="87" dur="500"/>
                                        <p:tgtEl>
                                          <p:spTgt spid="111"/>
                                        </p:tgtEl>
                                      </p:cBhvr>
                                    </p:animEffect>
                                  </p:childTnLst>
                                </p:cTn>
                              </p:par>
                            </p:childTnLst>
                          </p:cTn>
                        </p:par>
                        <p:par>
                          <p:cTn id="88" nodeType="afterEffect" fill="hold">
                            <p:stCondLst>
                              <p:cond delay="500"/>
                            </p:stCondLst>
                            <p:childTnLst>
                              <p:par>
                                <p:cTn id="89" nodeType="afterEffect" fill="hold" presetClass="entr" presetID="22" presetSubtype="1">
                                  <p:stCondLst>
                                    <p:cond delay="0"/>
                                  </p:stCondLst>
                                  <p:childTnLst>
                                    <p:set>
                                      <p:cBhvr>
                                        <p:cTn id="90" dur="1" fill="hold">
                                          <p:stCondLst>
                                            <p:cond delay="0"/>
                                          </p:stCondLst>
                                        </p:cTn>
                                        <p:tgtEl>
                                          <p:spTgt spid="108"/>
                                        </p:tgtEl>
                                        <p:attrNameLst>
                                          <p:attrName>style.visibility</p:attrName>
                                        </p:attrNameLst>
                                      </p:cBhvr>
                                      <p:to>
                                        <p:strVal val="visible"/>
                                      </p:to>
                                    </p:set>
                                    <p:animEffect filter="wipe(up)" transition="in">
                                      <p:cBhvr additive="repl">
                                        <p:cTn id="91" dur="500"/>
                                        <p:tgtEl>
                                          <p:spTgt spid="108"/>
                                        </p:tgtEl>
                                      </p:cBhvr>
                                    </p:animEffect>
                                  </p:childTnLst>
                                </p:cTn>
                              </p:par>
                              <p:par>
                                <p:cTn id="92" nodeType="withEffect" fill="hold" presetClass="entr" presetID="22" presetSubtype="1">
                                  <p:stCondLst>
                                    <p:cond delay="0"/>
                                  </p:stCondLst>
                                  <p:childTnLst>
                                    <p:set>
                                      <p:cBhvr>
                                        <p:cTn id="93" dur="1" fill="hold">
                                          <p:stCondLst>
                                            <p:cond delay="0"/>
                                          </p:stCondLst>
                                        </p:cTn>
                                        <p:tgtEl>
                                          <p:spTgt spid="109"/>
                                        </p:tgtEl>
                                        <p:attrNameLst>
                                          <p:attrName>style.visibility</p:attrName>
                                        </p:attrNameLst>
                                      </p:cBhvr>
                                      <p:to>
                                        <p:strVal val="visible"/>
                                      </p:to>
                                    </p:set>
                                    <p:animEffect filter="wipe(up)" transition="in">
                                      <p:cBhvr additive="repl">
                                        <p:cTn id="94" dur="500"/>
                                        <p:tgtEl>
                                          <p:spTgt spid="109"/>
                                        </p:tgtEl>
                                      </p:cBhvr>
                                    </p:animEffect>
                                  </p:childTnLst>
                                </p:cTn>
                              </p:par>
                            </p:childTnLst>
                          </p:cTn>
                        </p:par>
                        <p:par>
                          <p:cTn id="95" nodeType="afterEffect" fill="hold">
                            <p:stCondLst>
                              <p:cond delay="1000"/>
                            </p:stCondLst>
                            <p:childTnLst>
                              <p:par>
                                <p:cTn id="96" nodeType="afterEffect" fill="hold" presetClass="entr" presetID="1">
                                  <p:stCondLst>
                                    <p:cond delay="0"/>
                                  </p:stCondLst>
                                  <p:childTnLst>
                                    <p:set>
                                      <p:cBhvr>
                                        <p:cTn id="97" dur="1" fill="hold">
                                          <p:stCondLst>
                                            <p:cond delay="0"/>
                                          </p:stCondLst>
                                        </p:cTn>
                                        <p:tgtEl>
                                          <p:spTgt spid="11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05"/>
                                        </p:tgtEl>
                                        <p:attrNameLst>
                                          <p:attrName>style.visibility</p:attrName>
                                        </p:attrNameLst>
                                      </p:cBhvr>
                                      <p:to>
                                        <p:strVal val="visible"/>
                                      </p:to>
                                    </p:set>
                                    <p:animEffect filter="wipe(left)" transition="in">
                                      <p:cBhvr additive="repl">
                                        <p:cTn id="102" dur="500"/>
                                        <p:tgtEl>
                                          <p:spTgt spid="105"/>
                                        </p:tgtEl>
                                      </p:cBhvr>
                                    </p:animEffect>
                                  </p:childTnLst>
                                </p:cTn>
                              </p:par>
                            </p:childTnLst>
                          </p:cTn>
                        </p:par>
                        <p:par>
                          <p:cTn id="103" nodeType="afterEffect" fill="hold">
                            <p:stCondLst>
                              <p:cond delay="500"/>
                            </p:stCondLst>
                            <p:childTnLst>
                              <p:par>
                                <p:cTn id="104" nodeType="afterEffect" fill="hold" presetClass="entr" presetID="22" presetSubtype="1">
                                  <p:stCondLst>
                                    <p:cond delay="0"/>
                                  </p:stCondLst>
                                  <p:childTnLst>
                                    <p:set>
                                      <p:cBhvr>
                                        <p:cTn id="105" dur="1" fill="hold">
                                          <p:stCondLst>
                                            <p:cond delay="0"/>
                                          </p:stCondLst>
                                        </p:cTn>
                                        <p:tgtEl>
                                          <p:spTgt spid="106"/>
                                        </p:tgtEl>
                                        <p:attrNameLst>
                                          <p:attrName>style.visibility</p:attrName>
                                        </p:attrNameLst>
                                      </p:cBhvr>
                                      <p:to>
                                        <p:strVal val="visible"/>
                                      </p:to>
                                    </p:set>
                                    <p:animEffect filter="wipe(up)" transition="in">
                                      <p:cBhvr additive="repl">
                                        <p:cTn id="106" dur="500"/>
                                        <p:tgtEl>
                                          <p:spTgt spid="106"/>
                                        </p:tgtEl>
                                      </p:cBhvr>
                                    </p:animEffect>
                                  </p:childTnLst>
                                </p:cTn>
                              </p:par>
                              <p:par>
                                <p:cTn id="107" nodeType="withEffect" fill="hold" presetClass="entr" presetID="22" presetSubtype="1">
                                  <p:stCondLst>
                                    <p:cond delay="0"/>
                                  </p:stCondLst>
                                  <p:childTnLst>
                                    <p:set>
                                      <p:cBhvr>
                                        <p:cTn id="108" dur="1" fill="hold">
                                          <p:stCondLst>
                                            <p:cond delay="0"/>
                                          </p:stCondLst>
                                        </p:cTn>
                                        <p:tgtEl>
                                          <p:spTgt spid="107"/>
                                        </p:tgtEl>
                                        <p:attrNameLst>
                                          <p:attrName>style.visibility</p:attrName>
                                        </p:attrNameLst>
                                      </p:cBhvr>
                                      <p:to>
                                        <p:strVal val="visible"/>
                                      </p:to>
                                    </p:set>
                                    <p:animEffect filter="wipe(up)" transition="in">
                                      <p:cBhvr additive="repl">
                                        <p:cTn id="10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5" descr="ATH0093D.JPG"/>
          <p:cNvPicPr/>
          <p:nvPr/>
        </p:nvPicPr>
        <p:blipFill>
          <a:blip r:embed="rId1"/>
          <a:stretch/>
        </p:blipFill>
        <p:spPr>
          <a:xfrm>
            <a:off x="4800600" y="1994040"/>
            <a:ext cx="1730520" cy="2590560"/>
          </a:xfrm>
          <a:prstGeom prst="rect">
            <a:avLst/>
          </a:prstGeom>
          <a:ln w="0">
            <a:noFill/>
          </a:ln>
        </p:spPr>
      </p:pic>
      <p:pic>
        <p:nvPicPr>
          <p:cNvPr id="117" name="Picture 13" descr="FDA0005D.JPG"/>
          <p:cNvPicPr/>
          <p:nvPr/>
        </p:nvPicPr>
        <p:blipFill>
          <a:blip r:embed="rId2"/>
          <a:srcRect l="17801" t="20785" r="0" b="0"/>
          <a:stretch/>
        </p:blipFill>
        <p:spPr>
          <a:xfrm>
            <a:off x="838080" y="1994040"/>
            <a:ext cx="1778040" cy="2565360"/>
          </a:xfrm>
          <a:prstGeom prst="rect">
            <a:avLst/>
          </a:prstGeom>
          <a:ln w="0">
            <a:noFill/>
          </a:ln>
        </p:spPr>
      </p:pic>
      <p:sp>
        <p:nvSpPr>
          <p:cNvPr id="118" name="Text Box 6"/>
          <p:cNvSpPr/>
          <p:nvPr/>
        </p:nvSpPr>
        <p:spPr>
          <a:xfrm>
            <a:off x="4572000" y="1370160"/>
            <a:ext cx="182880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erdana"/>
              </a:rPr>
              <a:t>smell</a:t>
            </a:r>
            <a:endParaRPr b="0" lang="en-US" sz="2400" spc="-1" strike="noStrike">
              <a:solidFill>
                <a:srgbClr val="000000"/>
              </a:solidFill>
              <a:latin typeface="Verdana"/>
            </a:endParaRPr>
          </a:p>
        </p:txBody>
      </p:sp>
      <p:sp>
        <p:nvSpPr>
          <p:cNvPr id="119" name="Text Box 14"/>
          <p:cNvSpPr/>
          <p:nvPr/>
        </p:nvSpPr>
        <p:spPr>
          <a:xfrm>
            <a:off x="533520" y="4568760"/>
            <a:ext cx="24382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gritty, wet sand between her toes</a:t>
            </a:r>
            <a:endParaRPr b="0" lang="en-US" sz="2000" spc="-1" strike="noStrike">
              <a:solidFill>
                <a:srgbClr val="000000"/>
              </a:solidFill>
              <a:latin typeface="Verdana"/>
            </a:endParaRPr>
          </a:p>
        </p:txBody>
      </p:sp>
      <p:sp>
        <p:nvSpPr>
          <p:cNvPr id="120" name="Text Box 16"/>
          <p:cNvSpPr/>
          <p:nvPr/>
        </p:nvSpPr>
        <p:spPr>
          <a:xfrm>
            <a:off x="4572000" y="4572000"/>
            <a:ext cx="213372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trong, sweet scent of a rose</a:t>
            </a:r>
            <a:endParaRPr b="0" lang="en-US" sz="2000" spc="-1" strike="noStrike">
              <a:solidFill>
                <a:srgbClr val="000000"/>
              </a:solidFill>
              <a:latin typeface="Verdana"/>
            </a:endParaRPr>
          </a:p>
        </p:txBody>
      </p:sp>
      <p:sp>
        <p:nvSpPr>
          <p:cNvPr id="121" name="Text Box 18"/>
          <p:cNvSpPr/>
          <p:nvPr/>
        </p:nvSpPr>
        <p:spPr>
          <a:xfrm>
            <a:off x="533520" y="1370160"/>
            <a:ext cx="1981080" cy="459720"/>
          </a:xfrm>
          <a:prstGeom prst="rect">
            <a:avLst/>
          </a:prstGeom>
          <a:noFill/>
          <a:ln w="0">
            <a:noFill/>
          </a:ln>
        </p:spPr>
        <p:style>
          <a:lnRef idx="0"/>
          <a:fillRef idx="0"/>
          <a:effectRef idx="0"/>
          <a:fontRef idx="minor"/>
        </p:style>
        <p:txBody>
          <a:bodyPr lIns="90000" rIns="90000" tIns="46800" bIns="46800" anchor="t">
            <a:spAutoFit/>
          </a:bodyPr>
          <a:p>
            <a:pPr lvl="1" marL="469800" indent="-355320">
              <a:lnSpc>
                <a:spcPct val="100000"/>
              </a:lnSpc>
              <a:spcBef>
                <a:spcPts val="1500"/>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erdana"/>
              </a:rPr>
              <a:t>touch</a:t>
            </a:r>
            <a:endParaRPr b="0" lang="en-US" sz="2400" spc="-1" strike="noStrike">
              <a:solidFill>
                <a:srgbClr val="000000"/>
              </a:solidFill>
              <a:latin typeface="Verdana"/>
            </a:endParaRPr>
          </a:p>
        </p:txBody>
      </p:sp>
      <p:pic>
        <p:nvPicPr>
          <p:cNvPr id="122" name="Picture 20" descr=""/>
          <p:cNvPicPr/>
          <p:nvPr/>
        </p:nvPicPr>
        <p:blipFill>
          <a:blip r:embed="rId3"/>
          <a:stretch/>
        </p:blipFill>
        <p:spPr>
          <a:xfrm>
            <a:off x="2152800" y="1600200"/>
            <a:ext cx="133200" cy="88920"/>
          </a:xfrm>
          <a:prstGeom prst="rect">
            <a:avLst/>
          </a:prstGeom>
          <a:ln w="0">
            <a:noFill/>
          </a:ln>
        </p:spPr>
      </p:pic>
      <p:sp>
        <p:nvSpPr>
          <p:cNvPr id="123" name="Text Box 22"/>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4" name="PlaceHolder 1"/>
          <p:cNvSpPr>
            <a:spLocks noGrp="1"/>
          </p:cNvSpPr>
          <p:nvPr>
            <p:ph type="title"/>
          </p:nvPr>
        </p:nvSpPr>
        <p:spPr>
          <a:xfrm>
            <a:off x="528480" y="528120"/>
            <a:ext cx="8082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ffc000"/>
                </a:solidFill>
                <a:uFillTx/>
                <a:latin typeface="Verdana"/>
              </a:rPr>
              <a:t>How Is Setting Created?</a:t>
            </a:r>
            <a:endParaRPr b="0" lang="en-US" sz="3500" spc="-1" strike="noStrike">
              <a:solidFill>
                <a:srgbClr val="ffff99"/>
              </a:solidFill>
              <a:latin typeface="Verdana"/>
            </a:endParaRPr>
          </a:p>
        </p:txBody>
      </p:sp>
      <p:sp>
        <p:nvSpPr>
          <p:cNvPr id="125" name="Freeform 1"/>
          <p:cNvSpPr/>
          <p:nvPr/>
        </p:nvSpPr>
        <p:spPr>
          <a:xfrm>
            <a:off x="5892840" y="4883040"/>
            <a:ext cx="780840" cy="438120"/>
          </a:xfrm>
          <a:custGeom>
            <a:avLst/>
            <a:gdLst>
              <a:gd name="textAreaLeft" fmla="*/ 0 w 780840"/>
              <a:gd name="textAreaRight" fmla="*/ 781200 w 780840"/>
              <a:gd name="textAreaTop" fmla="*/ 0 h 438120"/>
              <a:gd name="textAreaBottom" fmla="*/ 438480 h 438120"/>
            </a:gdLst>
            <a:ahLst/>
            <a:rect l="textAreaLeft" t="textAreaTop" r="textAreaRight" b="textAreaBottom"/>
            <a:pathLst>
              <a:path w="781051" h="438151">
                <a:moveTo>
                  <a:pt x="781050" y="317500"/>
                </a:moveTo>
                <a:lnTo>
                  <a:pt x="781050" y="317500"/>
                </a:lnTo>
                <a:lnTo>
                  <a:pt x="781050" y="311150"/>
                </a:lnTo>
                <a:lnTo>
                  <a:pt x="781050" y="304800"/>
                </a:lnTo>
                <a:lnTo>
                  <a:pt x="774700" y="298450"/>
                </a:lnTo>
                <a:lnTo>
                  <a:pt x="774700" y="285750"/>
                </a:lnTo>
                <a:lnTo>
                  <a:pt x="774700" y="273050"/>
                </a:lnTo>
                <a:lnTo>
                  <a:pt x="774700" y="266700"/>
                </a:lnTo>
                <a:lnTo>
                  <a:pt x="774700" y="254000"/>
                </a:lnTo>
                <a:lnTo>
                  <a:pt x="774700" y="241300"/>
                </a:lnTo>
                <a:lnTo>
                  <a:pt x="768350" y="228600"/>
                </a:lnTo>
                <a:lnTo>
                  <a:pt x="762000" y="215900"/>
                </a:lnTo>
                <a:lnTo>
                  <a:pt x="749300" y="203200"/>
                </a:lnTo>
                <a:lnTo>
                  <a:pt x="736600" y="184150"/>
                </a:lnTo>
                <a:lnTo>
                  <a:pt x="723900" y="171450"/>
                </a:lnTo>
                <a:lnTo>
                  <a:pt x="717550" y="158750"/>
                </a:lnTo>
                <a:lnTo>
                  <a:pt x="698500" y="139700"/>
                </a:lnTo>
                <a:lnTo>
                  <a:pt x="679450" y="127000"/>
                </a:lnTo>
                <a:lnTo>
                  <a:pt x="660400" y="114300"/>
                </a:lnTo>
                <a:lnTo>
                  <a:pt x="635000" y="101600"/>
                </a:lnTo>
                <a:lnTo>
                  <a:pt x="615950" y="88900"/>
                </a:lnTo>
                <a:lnTo>
                  <a:pt x="590550" y="76200"/>
                </a:lnTo>
                <a:lnTo>
                  <a:pt x="565150" y="63500"/>
                </a:lnTo>
                <a:lnTo>
                  <a:pt x="539750" y="50800"/>
                </a:lnTo>
                <a:lnTo>
                  <a:pt x="514350" y="38100"/>
                </a:lnTo>
                <a:lnTo>
                  <a:pt x="488950" y="31750"/>
                </a:lnTo>
                <a:lnTo>
                  <a:pt x="457200" y="19050"/>
                </a:lnTo>
                <a:lnTo>
                  <a:pt x="425450" y="12700"/>
                </a:lnTo>
                <a:lnTo>
                  <a:pt x="393700" y="6350"/>
                </a:lnTo>
                <a:lnTo>
                  <a:pt x="361950" y="6350"/>
                </a:lnTo>
                <a:lnTo>
                  <a:pt x="336550" y="0"/>
                </a:lnTo>
                <a:lnTo>
                  <a:pt x="304800" y="0"/>
                </a:lnTo>
                <a:lnTo>
                  <a:pt x="273050" y="0"/>
                </a:lnTo>
                <a:lnTo>
                  <a:pt x="241300" y="0"/>
                </a:lnTo>
                <a:lnTo>
                  <a:pt x="203200" y="6350"/>
                </a:lnTo>
                <a:lnTo>
                  <a:pt x="177800" y="12700"/>
                </a:lnTo>
                <a:lnTo>
                  <a:pt x="146050" y="19050"/>
                </a:lnTo>
                <a:lnTo>
                  <a:pt x="120650" y="31750"/>
                </a:lnTo>
                <a:lnTo>
                  <a:pt x="95250" y="50800"/>
                </a:lnTo>
                <a:lnTo>
                  <a:pt x="76200" y="63500"/>
                </a:lnTo>
                <a:lnTo>
                  <a:pt x="57150" y="82550"/>
                </a:lnTo>
                <a:lnTo>
                  <a:pt x="38100" y="101600"/>
                </a:lnTo>
                <a:lnTo>
                  <a:pt x="19050" y="120650"/>
                </a:lnTo>
                <a:lnTo>
                  <a:pt x="12700" y="146050"/>
                </a:lnTo>
                <a:lnTo>
                  <a:pt x="6350" y="165100"/>
                </a:lnTo>
                <a:lnTo>
                  <a:pt x="0" y="190500"/>
                </a:lnTo>
                <a:lnTo>
                  <a:pt x="0" y="215900"/>
                </a:lnTo>
                <a:lnTo>
                  <a:pt x="6350" y="241300"/>
                </a:lnTo>
                <a:lnTo>
                  <a:pt x="12700" y="260350"/>
                </a:lnTo>
                <a:lnTo>
                  <a:pt x="19050" y="285750"/>
                </a:lnTo>
                <a:lnTo>
                  <a:pt x="31750" y="304800"/>
                </a:lnTo>
                <a:lnTo>
                  <a:pt x="44450" y="323850"/>
                </a:lnTo>
                <a:lnTo>
                  <a:pt x="63500" y="342900"/>
                </a:lnTo>
                <a:lnTo>
                  <a:pt x="82550" y="361950"/>
                </a:lnTo>
                <a:lnTo>
                  <a:pt x="101600" y="374650"/>
                </a:lnTo>
                <a:lnTo>
                  <a:pt x="120650" y="387350"/>
                </a:lnTo>
                <a:lnTo>
                  <a:pt x="146050" y="400050"/>
                </a:lnTo>
                <a:lnTo>
                  <a:pt x="165100" y="406400"/>
                </a:lnTo>
                <a:lnTo>
                  <a:pt x="196850" y="419100"/>
                </a:lnTo>
                <a:lnTo>
                  <a:pt x="222250" y="425450"/>
                </a:lnTo>
                <a:lnTo>
                  <a:pt x="247650" y="431800"/>
                </a:lnTo>
                <a:lnTo>
                  <a:pt x="279400" y="431800"/>
                </a:lnTo>
                <a:lnTo>
                  <a:pt x="311150" y="438150"/>
                </a:lnTo>
                <a:lnTo>
                  <a:pt x="336550" y="438150"/>
                </a:lnTo>
                <a:lnTo>
                  <a:pt x="368300" y="438150"/>
                </a:lnTo>
                <a:lnTo>
                  <a:pt x="400050" y="438150"/>
                </a:lnTo>
                <a:lnTo>
                  <a:pt x="431800" y="438150"/>
                </a:lnTo>
                <a:lnTo>
                  <a:pt x="463550" y="431800"/>
                </a:lnTo>
                <a:lnTo>
                  <a:pt x="488950" y="431800"/>
                </a:lnTo>
                <a:lnTo>
                  <a:pt x="527050" y="425450"/>
                </a:lnTo>
                <a:lnTo>
                  <a:pt x="552450" y="419100"/>
                </a:lnTo>
                <a:lnTo>
                  <a:pt x="584200" y="412750"/>
                </a:lnTo>
                <a:lnTo>
                  <a:pt x="609600" y="400050"/>
                </a:lnTo>
                <a:lnTo>
                  <a:pt x="628650" y="393700"/>
                </a:lnTo>
                <a:lnTo>
                  <a:pt x="654050" y="374650"/>
                </a:lnTo>
                <a:lnTo>
                  <a:pt x="679450" y="355600"/>
                </a:lnTo>
                <a:lnTo>
                  <a:pt x="692150" y="330200"/>
                </a:lnTo>
                <a:lnTo>
                  <a:pt x="711200" y="304800"/>
                </a:lnTo>
                <a:lnTo>
                  <a:pt x="723900" y="279400"/>
                </a:lnTo>
                <a:lnTo>
                  <a:pt x="736600" y="247650"/>
                </a:lnTo>
                <a:lnTo>
                  <a:pt x="742950" y="222250"/>
                </a:lnTo>
                <a:lnTo>
                  <a:pt x="742950" y="190500"/>
                </a:lnTo>
                <a:lnTo>
                  <a:pt x="736600" y="165100"/>
                </a:lnTo>
                <a:lnTo>
                  <a:pt x="723900" y="139700"/>
                </a:lnTo>
                <a:lnTo>
                  <a:pt x="711200" y="114300"/>
                </a:lnTo>
                <a:lnTo>
                  <a:pt x="711200" y="114300"/>
                </a:lnTo>
                <a:lnTo>
                  <a:pt x="685800" y="95250"/>
                </a:lnTo>
                <a:lnTo>
                  <a:pt x="685800" y="952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26" name="Freeform 2"/>
          <p:cNvSpPr/>
          <p:nvPr/>
        </p:nvSpPr>
        <p:spPr>
          <a:xfrm>
            <a:off x="609480" y="4940280"/>
            <a:ext cx="609840" cy="25560"/>
          </a:xfrm>
          <a:custGeom>
            <a:avLst/>
            <a:gdLst>
              <a:gd name="textAreaLeft" fmla="*/ 0 w 609840"/>
              <a:gd name="textAreaRight" fmla="*/ 610200 w 609840"/>
              <a:gd name="textAreaTop" fmla="*/ 0 h 25560"/>
              <a:gd name="textAreaBottom" fmla="*/ 25920 h 25560"/>
            </a:gdLst>
            <a:ahLst/>
            <a:rect l="textAreaLeft" t="textAreaTop" r="textAreaRight" b="textAreaBottom"/>
            <a:pathLst>
              <a:path w="609601" h="25401">
                <a:moveTo>
                  <a:pt x="0" y="0"/>
                </a:moveTo>
                <a:lnTo>
                  <a:pt x="0" y="6350"/>
                </a:lnTo>
                <a:lnTo>
                  <a:pt x="0" y="6350"/>
                </a:lnTo>
                <a:lnTo>
                  <a:pt x="0" y="6350"/>
                </a:lnTo>
                <a:lnTo>
                  <a:pt x="0" y="6350"/>
                </a:lnTo>
                <a:lnTo>
                  <a:pt x="0" y="6350"/>
                </a:lnTo>
                <a:lnTo>
                  <a:pt x="0" y="6350"/>
                </a:lnTo>
                <a:lnTo>
                  <a:pt x="0" y="12700"/>
                </a:lnTo>
                <a:lnTo>
                  <a:pt x="0" y="12700"/>
                </a:lnTo>
                <a:lnTo>
                  <a:pt x="6350" y="12700"/>
                </a:lnTo>
                <a:lnTo>
                  <a:pt x="6350" y="12700"/>
                </a:lnTo>
                <a:lnTo>
                  <a:pt x="12700" y="19050"/>
                </a:lnTo>
                <a:lnTo>
                  <a:pt x="12700" y="19050"/>
                </a:lnTo>
                <a:lnTo>
                  <a:pt x="19050" y="19050"/>
                </a:lnTo>
                <a:lnTo>
                  <a:pt x="25400" y="19050"/>
                </a:lnTo>
                <a:lnTo>
                  <a:pt x="31750" y="19050"/>
                </a:lnTo>
                <a:lnTo>
                  <a:pt x="44450" y="25400"/>
                </a:lnTo>
                <a:lnTo>
                  <a:pt x="57150" y="25400"/>
                </a:lnTo>
                <a:lnTo>
                  <a:pt x="63500" y="25400"/>
                </a:lnTo>
                <a:lnTo>
                  <a:pt x="76200" y="25400"/>
                </a:lnTo>
                <a:lnTo>
                  <a:pt x="88900" y="25400"/>
                </a:lnTo>
                <a:lnTo>
                  <a:pt x="101600" y="19050"/>
                </a:lnTo>
                <a:lnTo>
                  <a:pt x="107950" y="19050"/>
                </a:lnTo>
                <a:lnTo>
                  <a:pt x="120650" y="19050"/>
                </a:lnTo>
                <a:lnTo>
                  <a:pt x="133350" y="19050"/>
                </a:lnTo>
                <a:lnTo>
                  <a:pt x="146050" y="19050"/>
                </a:lnTo>
                <a:lnTo>
                  <a:pt x="158750" y="12700"/>
                </a:lnTo>
                <a:lnTo>
                  <a:pt x="171450" y="12700"/>
                </a:lnTo>
                <a:lnTo>
                  <a:pt x="184150" y="12700"/>
                </a:lnTo>
                <a:lnTo>
                  <a:pt x="196850" y="12700"/>
                </a:lnTo>
                <a:lnTo>
                  <a:pt x="209550" y="12700"/>
                </a:lnTo>
                <a:lnTo>
                  <a:pt x="222250" y="12700"/>
                </a:lnTo>
                <a:lnTo>
                  <a:pt x="234950" y="12700"/>
                </a:lnTo>
                <a:lnTo>
                  <a:pt x="247650" y="12700"/>
                </a:lnTo>
                <a:lnTo>
                  <a:pt x="254000" y="12700"/>
                </a:lnTo>
                <a:lnTo>
                  <a:pt x="273050" y="12700"/>
                </a:lnTo>
                <a:lnTo>
                  <a:pt x="292100" y="12700"/>
                </a:lnTo>
                <a:lnTo>
                  <a:pt x="298450" y="12700"/>
                </a:lnTo>
                <a:lnTo>
                  <a:pt x="317500" y="12700"/>
                </a:lnTo>
                <a:lnTo>
                  <a:pt x="336550" y="12700"/>
                </a:lnTo>
                <a:lnTo>
                  <a:pt x="349250" y="12700"/>
                </a:lnTo>
                <a:lnTo>
                  <a:pt x="361950" y="12700"/>
                </a:lnTo>
                <a:lnTo>
                  <a:pt x="381000" y="12700"/>
                </a:lnTo>
                <a:lnTo>
                  <a:pt x="400050" y="12700"/>
                </a:lnTo>
                <a:lnTo>
                  <a:pt x="419100" y="12700"/>
                </a:lnTo>
                <a:lnTo>
                  <a:pt x="438150" y="12700"/>
                </a:lnTo>
                <a:lnTo>
                  <a:pt x="457200" y="6350"/>
                </a:lnTo>
                <a:lnTo>
                  <a:pt x="469900" y="6350"/>
                </a:lnTo>
                <a:lnTo>
                  <a:pt x="482600" y="6350"/>
                </a:lnTo>
                <a:lnTo>
                  <a:pt x="501650" y="6350"/>
                </a:lnTo>
                <a:lnTo>
                  <a:pt x="514350" y="6350"/>
                </a:lnTo>
                <a:lnTo>
                  <a:pt x="527050" y="6350"/>
                </a:lnTo>
                <a:lnTo>
                  <a:pt x="539750" y="12700"/>
                </a:lnTo>
                <a:lnTo>
                  <a:pt x="546100" y="12700"/>
                </a:lnTo>
                <a:lnTo>
                  <a:pt x="558800" y="12700"/>
                </a:lnTo>
                <a:lnTo>
                  <a:pt x="571500" y="12700"/>
                </a:lnTo>
                <a:lnTo>
                  <a:pt x="577850" y="12700"/>
                </a:lnTo>
                <a:lnTo>
                  <a:pt x="584200" y="19050"/>
                </a:lnTo>
                <a:lnTo>
                  <a:pt x="590550" y="19050"/>
                </a:lnTo>
                <a:lnTo>
                  <a:pt x="596900" y="25400"/>
                </a:lnTo>
                <a:lnTo>
                  <a:pt x="596900" y="25400"/>
                </a:lnTo>
                <a:lnTo>
                  <a:pt x="603250" y="25400"/>
                </a:lnTo>
                <a:lnTo>
                  <a:pt x="603250" y="25400"/>
                </a:lnTo>
                <a:lnTo>
                  <a:pt x="603250" y="25400"/>
                </a:lnTo>
                <a:lnTo>
                  <a:pt x="603250" y="25400"/>
                </a:lnTo>
                <a:lnTo>
                  <a:pt x="603250" y="25400"/>
                </a:lnTo>
                <a:lnTo>
                  <a:pt x="609600" y="25400"/>
                </a:lnTo>
                <a:lnTo>
                  <a:pt x="609600" y="25400"/>
                </a:lnTo>
                <a:lnTo>
                  <a:pt x="609600" y="25400"/>
                </a:lnTo>
                <a:lnTo>
                  <a:pt x="609600" y="25400"/>
                </a:lnTo>
                <a:lnTo>
                  <a:pt x="609600" y="25400"/>
                </a:lnTo>
                <a:lnTo>
                  <a:pt x="609600" y="25400"/>
                </a:lnTo>
              </a:path>
            </a:pathLst>
          </a:custGeom>
          <a:noFill/>
          <a:ln w="38160">
            <a:solidFill>
              <a:srgbClr val="ff0000"/>
            </a:solidFill>
            <a:round/>
          </a:ln>
        </p:spPr>
        <p:style>
          <a:lnRef idx="0"/>
          <a:fillRef idx="0"/>
          <a:effectRef idx="0"/>
          <a:fontRef idx="minor"/>
        </p:style>
        <p:txBody>
          <a:bodyPr tIns="-19800" bIns="-19800" anchor="ctr">
            <a:noAutofit/>
          </a:bodyPr>
          <a:p>
            <a:endParaRPr b="0" lang="en-US" sz="1800" spc="-1" strike="noStrike">
              <a:solidFill>
                <a:srgbClr val="000000"/>
              </a:solidFill>
              <a:latin typeface="Verdana"/>
            </a:endParaRPr>
          </a:p>
        </p:txBody>
      </p:sp>
      <p:sp>
        <p:nvSpPr>
          <p:cNvPr id="127" name="Freeform 3"/>
          <p:cNvSpPr/>
          <p:nvPr/>
        </p:nvSpPr>
        <p:spPr>
          <a:xfrm>
            <a:off x="1498680" y="4902120"/>
            <a:ext cx="1193760" cy="114480"/>
          </a:xfrm>
          <a:custGeom>
            <a:avLst/>
            <a:gdLst>
              <a:gd name="textAreaLeft" fmla="*/ 0 w 1193760"/>
              <a:gd name="textAreaRight" fmla="*/ 1194120 w 1193760"/>
              <a:gd name="textAreaTop" fmla="*/ 0 h 114480"/>
              <a:gd name="textAreaBottom" fmla="*/ 114840 h 114480"/>
            </a:gdLst>
            <a:ahLst/>
            <a:rect l="textAreaLeft" t="textAreaTop" r="textAreaRight" b="textAreaBottom"/>
            <a:pathLst>
              <a:path w="1193801" h="114301">
                <a:moveTo>
                  <a:pt x="0" y="0"/>
                </a:moveTo>
                <a:lnTo>
                  <a:pt x="0" y="0"/>
                </a:lnTo>
                <a:lnTo>
                  <a:pt x="0" y="0"/>
                </a:lnTo>
                <a:lnTo>
                  <a:pt x="0" y="0"/>
                </a:lnTo>
                <a:lnTo>
                  <a:pt x="0" y="0"/>
                </a:lnTo>
                <a:lnTo>
                  <a:pt x="0" y="0"/>
                </a:lnTo>
                <a:lnTo>
                  <a:pt x="6350" y="0"/>
                </a:lnTo>
                <a:lnTo>
                  <a:pt x="6350" y="0"/>
                </a:lnTo>
                <a:lnTo>
                  <a:pt x="12700" y="0"/>
                </a:lnTo>
                <a:lnTo>
                  <a:pt x="19050" y="0"/>
                </a:lnTo>
                <a:lnTo>
                  <a:pt x="25400" y="0"/>
                </a:lnTo>
                <a:lnTo>
                  <a:pt x="31750" y="0"/>
                </a:lnTo>
                <a:lnTo>
                  <a:pt x="44450" y="6350"/>
                </a:lnTo>
                <a:lnTo>
                  <a:pt x="50800" y="6350"/>
                </a:lnTo>
                <a:lnTo>
                  <a:pt x="63500" y="6350"/>
                </a:lnTo>
                <a:lnTo>
                  <a:pt x="69850" y="6350"/>
                </a:lnTo>
                <a:lnTo>
                  <a:pt x="76200" y="12700"/>
                </a:lnTo>
                <a:lnTo>
                  <a:pt x="88900" y="12700"/>
                </a:lnTo>
                <a:lnTo>
                  <a:pt x="95250" y="12700"/>
                </a:lnTo>
                <a:lnTo>
                  <a:pt x="107950" y="12700"/>
                </a:lnTo>
                <a:lnTo>
                  <a:pt x="114300" y="12700"/>
                </a:lnTo>
                <a:lnTo>
                  <a:pt x="120650" y="12700"/>
                </a:lnTo>
                <a:lnTo>
                  <a:pt x="127000" y="12700"/>
                </a:lnTo>
                <a:lnTo>
                  <a:pt x="139700" y="12700"/>
                </a:lnTo>
                <a:lnTo>
                  <a:pt x="146050" y="12700"/>
                </a:lnTo>
                <a:lnTo>
                  <a:pt x="158750" y="12700"/>
                </a:lnTo>
                <a:lnTo>
                  <a:pt x="165100" y="12700"/>
                </a:lnTo>
                <a:lnTo>
                  <a:pt x="171450" y="12700"/>
                </a:lnTo>
                <a:lnTo>
                  <a:pt x="184150" y="12700"/>
                </a:lnTo>
                <a:lnTo>
                  <a:pt x="190500" y="12700"/>
                </a:lnTo>
                <a:lnTo>
                  <a:pt x="203200" y="12700"/>
                </a:lnTo>
                <a:lnTo>
                  <a:pt x="209550" y="12700"/>
                </a:lnTo>
                <a:lnTo>
                  <a:pt x="215900" y="12700"/>
                </a:lnTo>
                <a:lnTo>
                  <a:pt x="228600" y="19050"/>
                </a:lnTo>
                <a:lnTo>
                  <a:pt x="241300" y="19050"/>
                </a:lnTo>
                <a:lnTo>
                  <a:pt x="254000" y="19050"/>
                </a:lnTo>
                <a:lnTo>
                  <a:pt x="260350" y="19050"/>
                </a:lnTo>
                <a:lnTo>
                  <a:pt x="273050" y="25400"/>
                </a:lnTo>
                <a:lnTo>
                  <a:pt x="285750" y="25400"/>
                </a:lnTo>
                <a:lnTo>
                  <a:pt x="298450" y="25400"/>
                </a:lnTo>
                <a:lnTo>
                  <a:pt x="311150" y="31750"/>
                </a:lnTo>
                <a:lnTo>
                  <a:pt x="317500" y="31750"/>
                </a:lnTo>
                <a:lnTo>
                  <a:pt x="330200" y="31750"/>
                </a:lnTo>
                <a:lnTo>
                  <a:pt x="336550" y="38100"/>
                </a:lnTo>
                <a:lnTo>
                  <a:pt x="355600" y="38100"/>
                </a:lnTo>
                <a:lnTo>
                  <a:pt x="361950" y="38100"/>
                </a:lnTo>
                <a:lnTo>
                  <a:pt x="374650" y="38100"/>
                </a:lnTo>
                <a:lnTo>
                  <a:pt x="381000" y="44450"/>
                </a:lnTo>
                <a:lnTo>
                  <a:pt x="393700" y="44450"/>
                </a:lnTo>
                <a:lnTo>
                  <a:pt x="406400" y="44450"/>
                </a:lnTo>
                <a:lnTo>
                  <a:pt x="412750" y="44450"/>
                </a:lnTo>
                <a:lnTo>
                  <a:pt x="419100" y="44450"/>
                </a:lnTo>
                <a:lnTo>
                  <a:pt x="431800" y="44450"/>
                </a:lnTo>
                <a:lnTo>
                  <a:pt x="444500" y="44450"/>
                </a:lnTo>
                <a:lnTo>
                  <a:pt x="450850" y="44450"/>
                </a:lnTo>
                <a:lnTo>
                  <a:pt x="469900" y="50800"/>
                </a:lnTo>
                <a:lnTo>
                  <a:pt x="482600" y="50800"/>
                </a:lnTo>
                <a:lnTo>
                  <a:pt x="488950" y="50800"/>
                </a:lnTo>
                <a:lnTo>
                  <a:pt x="501650" y="50800"/>
                </a:lnTo>
                <a:lnTo>
                  <a:pt x="514350" y="50800"/>
                </a:lnTo>
                <a:lnTo>
                  <a:pt x="520700" y="50800"/>
                </a:lnTo>
                <a:lnTo>
                  <a:pt x="533400" y="50800"/>
                </a:lnTo>
                <a:lnTo>
                  <a:pt x="546100" y="50800"/>
                </a:lnTo>
                <a:lnTo>
                  <a:pt x="552450" y="50800"/>
                </a:lnTo>
                <a:lnTo>
                  <a:pt x="565150" y="50800"/>
                </a:lnTo>
                <a:lnTo>
                  <a:pt x="577850" y="57150"/>
                </a:lnTo>
                <a:lnTo>
                  <a:pt x="590550" y="57150"/>
                </a:lnTo>
                <a:lnTo>
                  <a:pt x="603250" y="57150"/>
                </a:lnTo>
                <a:lnTo>
                  <a:pt x="615950" y="57150"/>
                </a:lnTo>
                <a:lnTo>
                  <a:pt x="628650" y="57150"/>
                </a:lnTo>
                <a:lnTo>
                  <a:pt x="641350" y="57150"/>
                </a:lnTo>
                <a:lnTo>
                  <a:pt x="647700" y="57150"/>
                </a:lnTo>
                <a:lnTo>
                  <a:pt x="666750" y="57150"/>
                </a:lnTo>
                <a:lnTo>
                  <a:pt x="679450" y="63500"/>
                </a:lnTo>
                <a:lnTo>
                  <a:pt x="692150" y="63500"/>
                </a:lnTo>
                <a:lnTo>
                  <a:pt x="711200" y="63500"/>
                </a:lnTo>
                <a:lnTo>
                  <a:pt x="723900" y="69850"/>
                </a:lnTo>
                <a:lnTo>
                  <a:pt x="736600" y="69850"/>
                </a:lnTo>
                <a:lnTo>
                  <a:pt x="749300" y="69850"/>
                </a:lnTo>
                <a:lnTo>
                  <a:pt x="768350" y="69850"/>
                </a:lnTo>
                <a:lnTo>
                  <a:pt x="787400" y="69850"/>
                </a:lnTo>
                <a:lnTo>
                  <a:pt x="800100" y="76200"/>
                </a:lnTo>
                <a:lnTo>
                  <a:pt x="812800" y="76200"/>
                </a:lnTo>
                <a:lnTo>
                  <a:pt x="831850" y="82550"/>
                </a:lnTo>
                <a:lnTo>
                  <a:pt x="844550" y="82550"/>
                </a:lnTo>
                <a:lnTo>
                  <a:pt x="863600" y="82550"/>
                </a:lnTo>
                <a:lnTo>
                  <a:pt x="876300" y="82550"/>
                </a:lnTo>
                <a:lnTo>
                  <a:pt x="889000" y="88900"/>
                </a:lnTo>
                <a:lnTo>
                  <a:pt x="908050" y="88900"/>
                </a:lnTo>
                <a:lnTo>
                  <a:pt x="920750" y="88900"/>
                </a:lnTo>
                <a:lnTo>
                  <a:pt x="933450" y="88900"/>
                </a:lnTo>
                <a:lnTo>
                  <a:pt x="952500" y="88900"/>
                </a:lnTo>
                <a:lnTo>
                  <a:pt x="965200" y="95250"/>
                </a:lnTo>
                <a:lnTo>
                  <a:pt x="977900" y="95250"/>
                </a:lnTo>
                <a:lnTo>
                  <a:pt x="996950" y="95250"/>
                </a:lnTo>
                <a:lnTo>
                  <a:pt x="1009650" y="95250"/>
                </a:lnTo>
                <a:lnTo>
                  <a:pt x="1022350" y="95250"/>
                </a:lnTo>
                <a:lnTo>
                  <a:pt x="1035050" y="95250"/>
                </a:lnTo>
                <a:lnTo>
                  <a:pt x="1054100" y="101600"/>
                </a:lnTo>
                <a:lnTo>
                  <a:pt x="1073150" y="101600"/>
                </a:lnTo>
                <a:lnTo>
                  <a:pt x="1079500" y="101600"/>
                </a:lnTo>
                <a:lnTo>
                  <a:pt x="1098550" y="101600"/>
                </a:lnTo>
                <a:lnTo>
                  <a:pt x="1111250" y="101600"/>
                </a:lnTo>
                <a:lnTo>
                  <a:pt x="1117600" y="101600"/>
                </a:lnTo>
                <a:lnTo>
                  <a:pt x="1130300" y="101600"/>
                </a:lnTo>
                <a:lnTo>
                  <a:pt x="1143000" y="107950"/>
                </a:lnTo>
                <a:lnTo>
                  <a:pt x="1155700" y="107950"/>
                </a:lnTo>
                <a:lnTo>
                  <a:pt x="1162050" y="107950"/>
                </a:lnTo>
                <a:lnTo>
                  <a:pt x="1168400" y="107950"/>
                </a:lnTo>
                <a:lnTo>
                  <a:pt x="1181100" y="107950"/>
                </a:lnTo>
                <a:lnTo>
                  <a:pt x="1187450" y="107950"/>
                </a:lnTo>
                <a:lnTo>
                  <a:pt x="1187450" y="107950"/>
                </a:lnTo>
                <a:lnTo>
                  <a:pt x="1193800" y="114300"/>
                </a:lnTo>
                <a:lnTo>
                  <a:pt x="1193800" y="114300"/>
                </a:lnTo>
                <a:lnTo>
                  <a:pt x="1193800" y="107950"/>
                </a:lnTo>
                <a:lnTo>
                  <a:pt x="1193800" y="107950"/>
                </a:lnTo>
                <a:lnTo>
                  <a:pt x="1193800" y="107950"/>
                </a:lnTo>
                <a:lnTo>
                  <a:pt x="1193800" y="1079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28" name="Freeform 4"/>
          <p:cNvSpPr/>
          <p:nvPr/>
        </p:nvSpPr>
        <p:spPr>
          <a:xfrm>
            <a:off x="571680" y="5143680"/>
            <a:ext cx="2095200" cy="95040"/>
          </a:xfrm>
          <a:custGeom>
            <a:avLst/>
            <a:gdLst>
              <a:gd name="textAreaLeft" fmla="*/ 0 w 2095200"/>
              <a:gd name="textAreaRight" fmla="*/ 2095560 w 2095200"/>
              <a:gd name="textAreaTop" fmla="*/ 0 h 95040"/>
              <a:gd name="textAreaBottom" fmla="*/ 95400 h 95040"/>
            </a:gdLst>
            <a:ahLst/>
            <a:rect l="textAreaLeft" t="textAreaTop" r="textAreaRight" b="textAreaBottom"/>
            <a:pathLst>
              <a:path w="2095501" h="95251">
                <a:moveTo>
                  <a:pt x="0" y="38100"/>
                </a:moveTo>
                <a:lnTo>
                  <a:pt x="0" y="38100"/>
                </a:lnTo>
                <a:lnTo>
                  <a:pt x="0" y="38100"/>
                </a:lnTo>
                <a:lnTo>
                  <a:pt x="0" y="38100"/>
                </a:lnTo>
                <a:lnTo>
                  <a:pt x="0" y="38100"/>
                </a:lnTo>
                <a:lnTo>
                  <a:pt x="0" y="38100"/>
                </a:lnTo>
                <a:lnTo>
                  <a:pt x="0" y="38100"/>
                </a:lnTo>
                <a:lnTo>
                  <a:pt x="6350" y="44450"/>
                </a:lnTo>
                <a:lnTo>
                  <a:pt x="12700" y="44450"/>
                </a:lnTo>
                <a:lnTo>
                  <a:pt x="19050" y="44450"/>
                </a:lnTo>
                <a:lnTo>
                  <a:pt x="25400" y="50800"/>
                </a:lnTo>
                <a:lnTo>
                  <a:pt x="31750" y="57150"/>
                </a:lnTo>
                <a:lnTo>
                  <a:pt x="44450" y="57150"/>
                </a:lnTo>
                <a:lnTo>
                  <a:pt x="50800" y="63500"/>
                </a:lnTo>
                <a:lnTo>
                  <a:pt x="63500" y="63500"/>
                </a:lnTo>
                <a:lnTo>
                  <a:pt x="76200" y="63500"/>
                </a:lnTo>
                <a:lnTo>
                  <a:pt x="95250" y="69850"/>
                </a:lnTo>
                <a:lnTo>
                  <a:pt x="107950" y="69850"/>
                </a:lnTo>
                <a:lnTo>
                  <a:pt x="127000" y="69850"/>
                </a:lnTo>
                <a:lnTo>
                  <a:pt x="139700" y="63500"/>
                </a:lnTo>
                <a:lnTo>
                  <a:pt x="158750" y="63500"/>
                </a:lnTo>
                <a:lnTo>
                  <a:pt x="177800" y="57150"/>
                </a:lnTo>
                <a:lnTo>
                  <a:pt x="190500" y="57150"/>
                </a:lnTo>
                <a:lnTo>
                  <a:pt x="209550" y="50800"/>
                </a:lnTo>
                <a:lnTo>
                  <a:pt x="228600" y="50800"/>
                </a:lnTo>
                <a:lnTo>
                  <a:pt x="247650" y="44450"/>
                </a:lnTo>
                <a:lnTo>
                  <a:pt x="266700" y="44450"/>
                </a:lnTo>
                <a:lnTo>
                  <a:pt x="285750" y="44450"/>
                </a:lnTo>
                <a:lnTo>
                  <a:pt x="304800" y="38100"/>
                </a:lnTo>
                <a:lnTo>
                  <a:pt x="317500" y="38100"/>
                </a:lnTo>
                <a:lnTo>
                  <a:pt x="336550" y="38100"/>
                </a:lnTo>
                <a:lnTo>
                  <a:pt x="355600" y="31750"/>
                </a:lnTo>
                <a:lnTo>
                  <a:pt x="368300" y="31750"/>
                </a:lnTo>
                <a:lnTo>
                  <a:pt x="381000" y="25400"/>
                </a:lnTo>
                <a:lnTo>
                  <a:pt x="400050" y="25400"/>
                </a:lnTo>
                <a:lnTo>
                  <a:pt x="419100" y="19050"/>
                </a:lnTo>
                <a:lnTo>
                  <a:pt x="431800" y="19050"/>
                </a:lnTo>
                <a:lnTo>
                  <a:pt x="444500" y="12700"/>
                </a:lnTo>
                <a:lnTo>
                  <a:pt x="457200" y="12700"/>
                </a:lnTo>
                <a:lnTo>
                  <a:pt x="476250" y="12700"/>
                </a:lnTo>
                <a:lnTo>
                  <a:pt x="482600" y="6350"/>
                </a:lnTo>
                <a:lnTo>
                  <a:pt x="501650" y="6350"/>
                </a:lnTo>
                <a:lnTo>
                  <a:pt x="514350" y="6350"/>
                </a:lnTo>
                <a:lnTo>
                  <a:pt x="527050" y="6350"/>
                </a:lnTo>
                <a:lnTo>
                  <a:pt x="539750" y="0"/>
                </a:lnTo>
                <a:lnTo>
                  <a:pt x="558800" y="0"/>
                </a:lnTo>
                <a:lnTo>
                  <a:pt x="571500" y="0"/>
                </a:lnTo>
                <a:lnTo>
                  <a:pt x="584200" y="0"/>
                </a:lnTo>
                <a:lnTo>
                  <a:pt x="596900" y="0"/>
                </a:lnTo>
                <a:lnTo>
                  <a:pt x="609600" y="0"/>
                </a:lnTo>
                <a:lnTo>
                  <a:pt x="628650" y="0"/>
                </a:lnTo>
                <a:lnTo>
                  <a:pt x="641350" y="0"/>
                </a:lnTo>
                <a:lnTo>
                  <a:pt x="660400" y="6350"/>
                </a:lnTo>
                <a:lnTo>
                  <a:pt x="673100" y="6350"/>
                </a:lnTo>
                <a:lnTo>
                  <a:pt x="692150" y="6350"/>
                </a:lnTo>
                <a:lnTo>
                  <a:pt x="711200" y="6350"/>
                </a:lnTo>
                <a:lnTo>
                  <a:pt x="723900" y="6350"/>
                </a:lnTo>
                <a:lnTo>
                  <a:pt x="742950" y="12700"/>
                </a:lnTo>
                <a:lnTo>
                  <a:pt x="762000" y="12700"/>
                </a:lnTo>
                <a:lnTo>
                  <a:pt x="774700" y="12700"/>
                </a:lnTo>
                <a:lnTo>
                  <a:pt x="793750" y="12700"/>
                </a:lnTo>
                <a:lnTo>
                  <a:pt x="806450" y="12700"/>
                </a:lnTo>
                <a:lnTo>
                  <a:pt x="825500" y="19050"/>
                </a:lnTo>
                <a:lnTo>
                  <a:pt x="844550" y="19050"/>
                </a:lnTo>
                <a:lnTo>
                  <a:pt x="857250" y="19050"/>
                </a:lnTo>
                <a:lnTo>
                  <a:pt x="876300" y="19050"/>
                </a:lnTo>
                <a:lnTo>
                  <a:pt x="889000" y="25400"/>
                </a:lnTo>
                <a:lnTo>
                  <a:pt x="901700" y="25400"/>
                </a:lnTo>
                <a:lnTo>
                  <a:pt x="920750" y="25400"/>
                </a:lnTo>
                <a:lnTo>
                  <a:pt x="933450" y="31750"/>
                </a:lnTo>
                <a:lnTo>
                  <a:pt x="952500" y="31750"/>
                </a:lnTo>
                <a:lnTo>
                  <a:pt x="958850" y="31750"/>
                </a:lnTo>
                <a:lnTo>
                  <a:pt x="977900" y="31750"/>
                </a:lnTo>
                <a:lnTo>
                  <a:pt x="996950" y="38100"/>
                </a:lnTo>
                <a:lnTo>
                  <a:pt x="1003300" y="38100"/>
                </a:lnTo>
                <a:lnTo>
                  <a:pt x="1022350" y="38100"/>
                </a:lnTo>
                <a:lnTo>
                  <a:pt x="1035050" y="38100"/>
                </a:lnTo>
                <a:lnTo>
                  <a:pt x="1047750" y="44450"/>
                </a:lnTo>
                <a:lnTo>
                  <a:pt x="1060450" y="44450"/>
                </a:lnTo>
                <a:lnTo>
                  <a:pt x="1073150" y="44450"/>
                </a:lnTo>
                <a:lnTo>
                  <a:pt x="1092200" y="50800"/>
                </a:lnTo>
                <a:lnTo>
                  <a:pt x="1104900" y="50800"/>
                </a:lnTo>
                <a:lnTo>
                  <a:pt x="1123950" y="50800"/>
                </a:lnTo>
                <a:lnTo>
                  <a:pt x="1136650" y="50800"/>
                </a:lnTo>
                <a:lnTo>
                  <a:pt x="1155700" y="50800"/>
                </a:lnTo>
                <a:lnTo>
                  <a:pt x="1168400" y="57150"/>
                </a:lnTo>
                <a:lnTo>
                  <a:pt x="1187450" y="57150"/>
                </a:lnTo>
                <a:lnTo>
                  <a:pt x="1200150" y="57150"/>
                </a:lnTo>
                <a:lnTo>
                  <a:pt x="1225550" y="63500"/>
                </a:lnTo>
                <a:lnTo>
                  <a:pt x="1238250" y="63500"/>
                </a:lnTo>
                <a:lnTo>
                  <a:pt x="1257300" y="63500"/>
                </a:lnTo>
                <a:lnTo>
                  <a:pt x="1276350" y="63500"/>
                </a:lnTo>
                <a:lnTo>
                  <a:pt x="1289050" y="63500"/>
                </a:lnTo>
                <a:lnTo>
                  <a:pt x="1308100" y="63500"/>
                </a:lnTo>
                <a:lnTo>
                  <a:pt x="1320800" y="63500"/>
                </a:lnTo>
                <a:lnTo>
                  <a:pt x="1339850" y="69850"/>
                </a:lnTo>
                <a:lnTo>
                  <a:pt x="1352550" y="69850"/>
                </a:lnTo>
                <a:lnTo>
                  <a:pt x="1371600" y="69850"/>
                </a:lnTo>
                <a:lnTo>
                  <a:pt x="1384300" y="69850"/>
                </a:lnTo>
                <a:lnTo>
                  <a:pt x="1403350" y="69850"/>
                </a:lnTo>
                <a:lnTo>
                  <a:pt x="1416050" y="76200"/>
                </a:lnTo>
                <a:lnTo>
                  <a:pt x="1428750" y="76200"/>
                </a:lnTo>
                <a:lnTo>
                  <a:pt x="1447800" y="76200"/>
                </a:lnTo>
                <a:lnTo>
                  <a:pt x="1466850" y="76200"/>
                </a:lnTo>
                <a:lnTo>
                  <a:pt x="1479550" y="76200"/>
                </a:lnTo>
                <a:lnTo>
                  <a:pt x="1498600" y="82550"/>
                </a:lnTo>
                <a:lnTo>
                  <a:pt x="1517650" y="82550"/>
                </a:lnTo>
                <a:lnTo>
                  <a:pt x="1530350" y="82550"/>
                </a:lnTo>
                <a:lnTo>
                  <a:pt x="1543050" y="88900"/>
                </a:lnTo>
                <a:lnTo>
                  <a:pt x="1568450" y="88900"/>
                </a:lnTo>
                <a:lnTo>
                  <a:pt x="1581150" y="88900"/>
                </a:lnTo>
                <a:lnTo>
                  <a:pt x="1600200" y="88900"/>
                </a:lnTo>
                <a:lnTo>
                  <a:pt x="1612900" y="88900"/>
                </a:lnTo>
                <a:lnTo>
                  <a:pt x="1631950" y="95250"/>
                </a:lnTo>
                <a:lnTo>
                  <a:pt x="1651000" y="95250"/>
                </a:lnTo>
                <a:lnTo>
                  <a:pt x="1663700" y="95250"/>
                </a:lnTo>
                <a:lnTo>
                  <a:pt x="1689100" y="95250"/>
                </a:lnTo>
                <a:lnTo>
                  <a:pt x="1708150" y="95250"/>
                </a:lnTo>
                <a:lnTo>
                  <a:pt x="1720850" y="95250"/>
                </a:lnTo>
                <a:lnTo>
                  <a:pt x="1739900" y="95250"/>
                </a:lnTo>
                <a:lnTo>
                  <a:pt x="1758950" y="95250"/>
                </a:lnTo>
                <a:lnTo>
                  <a:pt x="1771650" y="95250"/>
                </a:lnTo>
                <a:lnTo>
                  <a:pt x="1797050" y="95250"/>
                </a:lnTo>
                <a:lnTo>
                  <a:pt x="1809750" y="95250"/>
                </a:lnTo>
                <a:lnTo>
                  <a:pt x="1828800" y="95250"/>
                </a:lnTo>
                <a:lnTo>
                  <a:pt x="1854200" y="95250"/>
                </a:lnTo>
                <a:lnTo>
                  <a:pt x="1873250" y="95250"/>
                </a:lnTo>
                <a:lnTo>
                  <a:pt x="1892300" y="95250"/>
                </a:lnTo>
                <a:lnTo>
                  <a:pt x="1911350" y="95250"/>
                </a:lnTo>
                <a:lnTo>
                  <a:pt x="1930400" y="88900"/>
                </a:lnTo>
                <a:lnTo>
                  <a:pt x="1949450" y="88900"/>
                </a:lnTo>
                <a:lnTo>
                  <a:pt x="1968500" y="88900"/>
                </a:lnTo>
                <a:lnTo>
                  <a:pt x="1987550" y="82550"/>
                </a:lnTo>
                <a:lnTo>
                  <a:pt x="2006600" y="82550"/>
                </a:lnTo>
                <a:lnTo>
                  <a:pt x="2025650" y="82550"/>
                </a:lnTo>
                <a:lnTo>
                  <a:pt x="2038350" y="82550"/>
                </a:lnTo>
                <a:lnTo>
                  <a:pt x="2051050" y="76200"/>
                </a:lnTo>
                <a:lnTo>
                  <a:pt x="2063750" y="76200"/>
                </a:lnTo>
                <a:lnTo>
                  <a:pt x="2070100" y="69850"/>
                </a:lnTo>
                <a:lnTo>
                  <a:pt x="2082800" y="63500"/>
                </a:lnTo>
                <a:lnTo>
                  <a:pt x="2089150" y="63500"/>
                </a:lnTo>
                <a:lnTo>
                  <a:pt x="2089150" y="63500"/>
                </a:lnTo>
                <a:lnTo>
                  <a:pt x="2095500" y="57150"/>
                </a:lnTo>
                <a:lnTo>
                  <a:pt x="2095500" y="571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29" name="Freeform 5"/>
          <p:cNvSpPr/>
          <p:nvPr/>
        </p:nvSpPr>
        <p:spPr>
          <a:xfrm>
            <a:off x="4699080" y="4896000"/>
            <a:ext cx="749160" cy="25200"/>
          </a:xfrm>
          <a:custGeom>
            <a:avLst/>
            <a:gdLst>
              <a:gd name="textAreaLeft" fmla="*/ 0 w 749160"/>
              <a:gd name="textAreaRight" fmla="*/ 749520 w 749160"/>
              <a:gd name="textAreaTop" fmla="*/ 0 h 25200"/>
              <a:gd name="textAreaBottom" fmla="*/ 25560 h 25200"/>
            </a:gdLst>
            <a:ahLst/>
            <a:rect l="textAreaLeft" t="textAreaTop" r="textAreaRight" b="textAreaBottom"/>
            <a:pathLst>
              <a:path w="749301" h="25401">
                <a:moveTo>
                  <a:pt x="0" y="0"/>
                </a:moveTo>
                <a:lnTo>
                  <a:pt x="0" y="0"/>
                </a:lnTo>
                <a:lnTo>
                  <a:pt x="0" y="0"/>
                </a:lnTo>
                <a:lnTo>
                  <a:pt x="0" y="0"/>
                </a:lnTo>
                <a:lnTo>
                  <a:pt x="6350" y="6350"/>
                </a:lnTo>
                <a:lnTo>
                  <a:pt x="6350" y="6350"/>
                </a:lnTo>
                <a:lnTo>
                  <a:pt x="6350" y="6350"/>
                </a:lnTo>
                <a:lnTo>
                  <a:pt x="6350" y="6350"/>
                </a:lnTo>
                <a:lnTo>
                  <a:pt x="6350" y="6350"/>
                </a:lnTo>
                <a:lnTo>
                  <a:pt x="6350" y="6350"/>
                </a:lnTo>
                <a:lnTo>
                  <a:pt x="6350" y="6350"/>
                </a:lnTo>
                <a:lnTo>
                  <a:pt x="12700" y="6350"/>
                </a:lnTo>
                <a:lnTo>
                  <a:pt x="12700" y="0"/>
                </a:lnTo>
                <a:lnTo>
                  <a:pt x="12700" y="0"/>
                </a:lnTo>
                <a:lnTo>
                  <a:pt x="19050" y="0"/>
                </a:lnTo>
                <a:lnTo>
                  <a:pt x="19050" y="0"/>
                </a:lnTo>
                <a:lnTo>
                  <a:pt x="25400" y="0"/>
                </a:lnTo>
                <a:lnTo>
                  <a:pt x="31750" y="0"/>
                </a:lnTo>
                <a:lnTo>
                  <a:pt x="38100" y="0"/>
                </a:lnTo>
                <a:lnTo>
                  <a:pt x="44450" y="0"/>
                </a:lnTo>
                <a:lnTo>
                  <a:pt x="50800" y="0"/>
                </a:lnTo>
                <a:lnTo>
                  <a:pt x="57150" y="0"/>
                </a:lnTo>
                <a:lnTo>
                  <a:pt x="63500" y="0"/>
                </a:lnTo>
                <a:lnTo>
                  <a:pt x="69850" y="0"/>
                </a:lnTo>
                <a:lnTo>
                  <a:pt x="76200" y="0"/>
                </a:lnTo>
                <a:lnTo>
                  <a:pt x="82550" y="0"/>
                </a:lnTo>
                <a:lnTo>
                  <a:pt x="95250" y="0"/>
                </a:lnTo>
                <a:lnTo>
                  <a:pt x="101600" y="0"/>
                </a:lnTo>
                <a:lnTo>
                  <a:pt x="107950" y="0"/>
                </a:lnTo>
                <a:lnTo>
                  <a:pt x="120650" y="0"/>
                </a:lnTo>
                <a:lnTo>
                  <a:pt x="127000" y="0"/>
                </a:lnTo>
                <a:lnTo>
                  <a:pt x="139700" y="0"/>
                </a:lnTo>
                <a:lnTo>
                  <a:pt x="146050" y="0"/>
                </a:lnTo>
                <a:lnTo>
                  <a:pt x="158750" y="0"/>
                </a:lnTo>
                <a:lnTo>
                  <a:pt x="165100" y="0"/>
                </a:lnTo>
                <a:lnTo>
                  <a:pt x="177800" y="0"/>
                </a:lnTo>
                <a:lnTo>
                  <a:pt x="190500" y="6350"/>
                </a:lnTo>
                <a:lnTo>
                  <a:pt x="203200" y="6350"/>
                </a:lnTo>
                <a:lnTo>
                  <a:pt x="209550" y="6350"/>
                </a:lnTo>
                <a:lnTo>
                  <a:pt x="222250" y="6350"/>
                </a:lnTo>
                <a:lnTo>
                  <a:pt x="234950" y="6350"/>
                </a:lnTo>
                <a:lnTo>
                  <a:pt x="241300" y="6350"/>
                </a:lnTo>
                <a:lnTo>
                  <a:pt x="254000" y="6350"/>
                </a:lnTo>
                <a:lnTo>
                  <a:pt x="266700" y="6350"/>
                </a:lnTo>
                <a:lnTo>
                  <a:pt x="273050" y="6350"/>
                </a:lnTo>
                <a:lnTo>
                  <a:pt x="285750" y="6350"/>
                </a:lnTo>
                <a:lnTo>
                  <a:pt x="298450" y="6350"/>
                </a:lnTo>
                <a:lnTo>
                  <a:pt x="311150" y="12700"/>
                </a:lnTo>
                <a:lnTo>
                  <a:pt x="317500" y="12700"/>
                </a:lnTo>
                <a:lnTo>
                  <a:pt x="330200" y="12700"/>
                </a:lnTo>
                <a:lnTo>
                  <a:pt x="342900" y="12700"/>
                </a:lnTo>
                <a:lnTo>
                  <a:pt x="349250" y="12700"/>
                </a:lnTo>
                <a:lnTo>
                  <a:pt x="355600" y="19050"/>
                </a:lnTo>
                <a:lnTo>
                  <a:pt x="368300" y="19050"/>
                </a:lnTo>
                <a:lnTo>
                  <a:pt x="381000" y="19050"/>
                </a:lnTo>
                <a:lnTo>
                  <a:pt x="387350" y="19050"/>
                </a:lnTo>
                <a:lnTo>
                  <a:pt x="400050" y="19050"/>
                </a:lnTo>
                <a:lnTo>
                  <a:pt x="406400" y="19050"/>
                </a:lnTo>
                <a:lnTo>
                  <a:pt x="419100" y="19050"/>
                </a:lnTo>
                <a:lnTo>
                  <a:pt x="425450" y="19050"/>
                </a:lnTo>
                <a:lnTo>
                  <a:pt x="438150" y="19050"/>
                </a:lnTo>
                <a:lnTo>
                  <a:pt x="444500" y="19050"/>
                </a:lnTo>
                <a:lnTo>
                  <a:pt x="457200" y="19050"/>
                </a:lnTo>
                <a:lnTo>
                  <a:pt x="469900" y="19050"/>
                </a:lnTo>
                <a:lnTo>
                  <a:pt x="476250" y="19050"/>
                </a:lnTo>
                <a:lnTo>
                  <a:pt x="488950" y="19050"/>
                </a:lnTo>
                <a:lnTo>
                  <a:pt x="495300" y="19050"/>
                </a:lnTo>
                <a:lnTo>
                  <a:pt x="508000" y="19050"/>
                </a:lnTo>
                <a:lnTo>
                  <a:pt x="520700" y="25400"/>
                </a:lnTo>
                <a:lnTo>
                  <a:pt x="527050" y="25400"/>
                </a:lnTo>
                <a:lnTo>
                  <a:pt x="539750" y="25400"/>
                </a:lnTo>
                <a:lnTo>
                  <a:pt x="546100" y="25400"/>
                </a:lnTo>
                <a:lnTo>
                  <a:pt x="552450" y="25400"/>
                </a:lnTo>
                <a:lnTo>
                  <a:pt x="565150" y="25400"/>
                </a:lnTo>
                <a:lnTo>
                  <a:pt x="571500" y="25400"/>
                </a:lnTo>
                <a:lnTo>
                  <a:pt x="584200" y="25400"/>
                </a:lnTo>
                <a:lnTo>
                  <a:pt x="590550" y="25400"/>
                </a:lnTo>
                <a:lnTo>
                  <a:pt x="596900" y="25400"/>
                </a:lnTo>
                <a:lnTo>
                  <a:pt x="609600" y="25400"/>
                </a:lnTo>
                <a:lnTo>
                  <a:pt x="622300" y="25400"/>
                </a:lnTo>
                <a:lnTo>
                  <a:pt x="628650" y="25400"/>
                </a:lnTo>
                <a:lnTo>
                  <a:pt x="635000" y="25400"/>
                </a:lnTo>
                <a:lnTo>
                  <a:pt x="647700" y="25400"/>
                </a:lnTo>
                <a:lnTo>
                  <a:pt x="660400" y="25400"/>
                </a:lnTo>
                <a:lnTo>
                  <a:pt x="666750" y="25400"/>
                </a:lnTo>
                <a:lnTo>
                  <a:pt x="679450" y="25400"/>
                </a:lnTo>
                <a:lnTo>
                  <a:pt x="679450" y="25400"/>
                </a:lnTo>
                <a:lnTo>
                  <a:pt x="692150" y="25400"/>
                </a:lnTo>
                <a:lnTo>
                  <a:pt x="698500" y="25400"/>
                </a:lnTo>
                <a:lnTo>
                  <a:pt x="704850" y="25400"/>
                </a:lnTo>
                <a:lnTo>
                  <a:pt x="711200" y="25400"/>
                </a:lnTo>
                <a:lnTo>
                  <a:pt x="717550" y="25400"/>
                </a:lnTo>
                <a:lnTo>
                  <a:pt x="723900" y="25400"/>
                </a:lnTo>
                <a:lnTo>
                  <a:pt x="730250" y="25400"/>
                </a:lnTo>
                <a:lnTo>
                  <a:pt x="730250" y="25400"/>
                </a:lnTo>
                <a:lnTo>
                  <a:pt x="730250" y="25400"/>
                </a:lnTo>
                <a:lnTo>
                  <a:pt x="730250" y="25400"/>
                </a:lnTo>
                <a:lnTo>
                  <a:pt x="730250" y="25400"/>
                </a:lnTo>
                <a:lnTo>
                  <a:pt x="736600" y="25400"/>
                </a:lnTo>
                <a:lnTo>
                  <a:pt x="736600" y="25400"/>
                </a:lnTo>
                <a:lnTo>
                  <a:pt x="736600" y="25400"/>
                </a:lnTo>
                <a:lnTo>
                  <a:pt x="736600" y="25400"/>
                </a:lnTo>
                <a:lnTo>
                  <a:pt x="736600" y="25400"/>
                </a:lnTo>
                <a:lnTo>
                  <a:pt x="736600" y="25400"/>
                </a:lnTo>
                <a:lnTo>
                  <a:pt x="736600" y="25400"/>
                </a:lnTo>
                <a:lnTo>
                  <a:pt x="736600" y="25400"/>
                </a:lnTo>
                <a:lnTo>
                  <a:pt x="736600" y="25400"/>
                </a:lnTo>
                <a:lnTo>
                  <a:pt x="742950" y="25400"/>
                </a:lnTo>
                <a:lnTo>
                  <a:pt x="742950" y="25400"/>
                </a:lnTo>
                <a:lnTo>
                  <a:pt x="742950" y="19050"/>
                </a:lnTo>
                <a:lnTo>
                  <a:pt x="742950" y="19050"/>
                </a:lnTo>
                <a:lnTo>
                  <a:pt x="749300" y="19050"/>
                </a:lnTo>
                <a:lnTo>
                  <a:pt x="749300" y="19050"/>
                </a:lnTo>
                <a:lnTo>
                  <a:pt x="749300" y="12700"/>
                </a:lnTo>
                <a:lnTo>
                  <a:pt x="749300" y="12700"/>
                </a:lnTo>
              </a:path>
            </a:pathLst>
          </a:custGeom>
          <a:noFill/>
          <a:ln w="38160">
            <a:solidFill>
              <a:srgbClr val="ff0000"/>
            </a:solidFill>
            <a:round/>
          </a:ln>
        </p:spPr>
        <p:style>
          <a:lnRef idx="0"/>
          <a:fillRef idx="0"/>
          <a:effectRef idx="0"/>
          <a:fontRef idx="minor"/>
        </p:style>
        <p:txBody>
          <a:bodyPr tIns="-20160" bIns="-20160" anchor="ctr">
            <a:noAutofit/>
          </a:bodyPr>
          <a:p>
            <a:endParaRPr b="0" lang="en-US" sz="1800" spc="-1" strike="noStrike">
              <a:solidFill>
                <a:srgbClr val="000000"/>
              </a:solidFill>
              <a:latin typeface="Verdana"/>
            </a:endParaRPr>
          </a:p>
        </p:txBody>
      </p:sp>
      <p:sp>
        <p:nvSpPr>
          <p:cNvPr id="130" name="Freeform 6"/>
          <p:cNvSpPr/>
          <p:nvPr/>
        </p:nvSpPr>
        <p:spPr>
          <a:xfrm>
            <a:off x="5657760" y="4921200"/>
            <a:ext cx="863640" cy="44640"/>
          </a:xfrm>
          <a:custGeom>
            <a:avLst/>
            <a:gdLst>
              <a:gd name="textAreaLeft" fmla="*/ 0 w 863640"/>
              <a:gd name="textAreaRight" fmla="*/ 864000 w 863640"/>
              <a:gd name="textAreaTop" fmla="*/ 0 h 44640"/>
              <a:gd name="textAreaBottom" fmla="*/ 45000 h 44640"/>
            </a:gdLst>
            <a:ahLst/>
            <a:rect l="textAreaLeft" t="textAreaTop" r="textAreaRight" b="textAreaBottom"/>
            <a:pathLst>
              <a:path w="863601" h="44451">
                <a:moveTo>
                  <a:pt x="0" y="0"/>
                </a:moveTo>
                <a:lnTo>
                  <a:pt x="0" y="0"/>
                </a:lnTo>
                <a:lnTo>
                  <a:pt x="0" y="0"/>
                </a:lnTo>
                <a:lnTo>
                  <a:pt x="0" y="0"/>
                </a:lnTo>
                <a:lnTo>
                  <a:pt x="0" y="0"/>
                </a:lnTo>
                <a:lnTo>
                  <a:pt x="6350" y="0"/>
                </a:lnTo>
                <a:lnTo>
                  <a:pt x="6350" y="0"/>
                </a:lnTo>
                <a:lnTo>
                  <a:pt x="6350" y="0"/>
                </a:lnTo>
                <a:lnTo>
                  <a:pt x="6350" y="0"/>
                </a:lnTo>
                <a:lnTo>
                  <a:pt x="12700" y="0"/>
                </a:lnTo>
                <a:lnTo>
                  <a:pt x="12700" y="6350"/>
                </a:lnTo>
                <a:lnTo>
                  <a:pt x="19050" y="6350"/>
                </a:lnTo>
                <a:lnTo>
                  <a:pt x="19050" y="6350"/>
                </a:lnTo>
                <a:lnTo>
                  <a:pt x="25400" y="6350"/>
                </a:lnTo>
                <a:lnTo>
                  <a:pt x="25400" y="6350"/>
                </a:lnTo>
                <a:lnTo>
                  <a:pt x="31750" y="6350"/>
                </a:lnTo>
                <a:lnTo>
                  <a:pt x="31750" y="6350"/>
                </a:lnTo>
                <a:lnTo>
                  <a:pt x="38100" y="12700"/>
                </a:lnTo>
                <a:lnTo>
                  <a:pt x="44450" y="12700"/>
                </a:lnTo>
                <a:lnTo>
                  <a:pt x="44450" y="12700"/>
                </a:lnTo>
                <a:lnTo>
                  <a:pt x="50800" y="12700"/>
                </a:lnTo>
                <a:lnTo>
                  <a:pt x="57150" y="12700"/>
                </a:lnTo>
                <a:lnTo>
                  <a:pt x="57150" y="19050"/>
                </a:lnTo>
                <a:lnTo>
                  <a:pt x="63500" y="19050"/>
                </a:lnTo>
                <a:lnTo>
                  <a:pt x="69850" y="19050"/>
                </a:lnTo>
                <a:lnTo>
                  <a:pt x="76200" y="19050"/>
                </a:lnTo>
                <a:lnTo>
                  <a:pt x="82550" y="19050"/>
                </a:lnTo>
                <a:lnTo>
                  <a:pt x="82550" y="25400"/>
                </a:lnTo>
                <a:lnTo>
                  <a:pt x="88900" y="25400"/>
                </a:lnTo>
                <a:lnTo>
                  <a:pt x="95250" y="25400"/>
                </a:lnTo>
                <a:lnTo>
                  <a:pt x="101600" y="25400"/>
                </a:lnTo>
                <a:lnTo>
                  <a:pt x="101600" y="25400"/>
                </a:lnTo>
                <a:lnTo>
                  <a:pt x="101600" y="25400"/>
                </a:lnTo>
                <a:lnTo>
                  <a:pt x="107950" y="25400"/>
                </a:lnTo>
                <a:lnTo>
                  <a:pt x="114300" y="25400"/>
                </a:lnTo>
                <a:lnTo>
                  <a:pt x="120650" y="31750"/>
                </a:lnTo>
                <a:lnTo>
                  <a:pt x="120650" y="31750"/>
                </a:lnTo>
                <a:lnTo>
                  <a:pt x="127000" y="31750"/>
                </a:lnTo>
                <a:lnTo>
                  <a:pt x="133350" y="31750"/>
                </a:lnTo>
                <a:lnTo>
                  <a:pt x="133350" y="31750"/>
                </a:lnTo>
                <a:lnTo>
                  <a:pt x="139700" y="31750"/>
                </a:lnTo>
                <a:lnTo>
                  <a:pt x="146050" y="31750"/>
                </a:lnTo>
                <a:lnTo>
                  <a:pt x="152400" y="31750"/>
                </a:lnTo>
                <a:lnTo>
                  <a:pt x="152400" y="31750"/>
                </a:lnTo>
                <a:lnTo>
                  <a:pt x="158750" y="31750"/>
                </a:lnTo>
                <a:lnTo>
                  <a:pt x="158750" y="31750"/>
                </a:lnTo>
                <a:lnTo>
                  <a:pt x="165100" y="31750"/>
                </a:lnTo>
                <a:lnTo>
                  <a:pt x="171450" y="31750"/>
                </a:lnTo>
                <a:lnTo>
                  <a:pt x="177800" y="31750"/>
                </a:lnTo>
                <a:lnTo>
                  <a:pt x="184150" y="31750"/>
                </a:lnTo>
                <a:lnTo>
                  <a:pt x="190500" y="31750"/>
                </a:lnTo>
                <a:lnTo>
                  <a:pt x="196850" y="31750"/>
                </a:lnTo>
                <a:lnTo>
                  <a:pt x="196850" y="31750"/>
                </a:lnTo>
                <a:lnTo>
                  <a:pt x="203200" y="31750"/>
                </a:lnTo>
                <a:lnTo>
                  <a:pt x="209550" y="31750"/>
                </a:lnTo>
                <a:lnTo>
                  <a:pt x="209550" y="31750"/>
                </a:lnTo>
                <a:lnTo>
                  <a:pt x="215900" y="31750"/>
                </a:lnTo>
                <a:lnTo>
                  <a:pt x="222250" y="31750"/>
                </a:lnTo>
                <a:lnTo>
                  <a:pt x="228600" y="31750"/>
                </a:lnTo>
                <a:lnTo>
                  <a:pt x="234950" y="31750"/>
                </a:lnTo>
                <a:lnTo>
                  <a:pt x="234950" y="31750"/>
                </a:lnTo>
                <a:lnTo>
                  <a:pt x="241300" y="31750"/>
                </a:lnTo>
                <a:lnTo>
                  <a:pt x="247650" y="31750"/>
                </a:lnTo>
                <a:lnTo>
                  <a:pt x="247650" y="31750"/>
                </a:lnTo>
                <a:lnTo>
                  <a:pt x="254000" y="31750"/>
                </a:lnTo>
                <a:lnTo>
                  <a:pt x="254000" y="31750"/>
                </a:lnTo>
                <a:lnTo>
                  <a:pt x="260350" y="31750"/>
                </a:lnTo>
                <a:lnTo>
                  <a:pt x="266700" y="31750"/>
                </a:lnTo>
                <a:lnTo>
                  <a:pt x="273050" y="31750"/>
                </a:lnTo>
                <a:lnTo>
                  <a:pt x="273050" y="31750"/>
                </a:lnTo>
                <a:lnTo>
                  <a:pt x="285750" y="31750"/>
                </a:lnTo>
                <a:lnTo>
                  <a:pt x="285750" y="31750"/>
                </a:lnTo>
                <a:lnTo>
                  <a:pt x="292100" y="31750"/>
                </a:lnTo>
                <a:lnTo>
                  <a:pt x="292100" y="31750"/>
                </a:lnTo>
                <a:lnTo>
                  <a:pt x="298450" y="31750"/>
                </a:lnTo>
                <a:lnTo>
                  <a:pt x="298450" y="38100"/>
                </a:lnTo>
                <a:lnTo>
                  <a:pt x="304800" y="38100"/>
                </a:lnTo>
                <a:lnTo>
                  <a:pt x="311150" y="38100"/>
                </a:lnTo>
                <a:lnTo>
                  <a:pt x="317500" y="38100"/>
                </a:lnTo>
                <a:lnTo>
                  <a:pt x="317500" y="38100"/>
                </a:lnTo>
                <a:lnTo>
                  <a:pt x="323850" y="38100"/>
                </a:lnTo>
                <a:lnTo>
                  <a:pt x="330200" y="38100"/>
                </a:lnTo>
                <a:lnTo>
                  <a:pt x="330200" y="38100"/>
                </a:lnTo>
                <a:lnTo>
                  <a:pt x="336550" y="38100"/>
                </a:lnTo>
                <a:lnTo>
                  <a:pt x="336550" y="38100"/>
                </a:lnTo>
                <a:lnTo>
                  <a:pt x="342900" y="38100"/>
                </a:lnTo>
                <a:lnTo>
                  <a:pt x="342900" y="38100"/>
                </a:lnTo>
                <a:lnTo>
                  <a:pt x="349250" y="38100"/>
                </a:lnTo>
                <a:lnTo>
                  <a:pt x="355600" y="38100"/>
                </a:lnTo>
                <a:lnTo>
                  <a:pt x="355600" y="38100"/>
                </a:lnTo>
                <a:lnTo>
                  <a:pt x="361950" y="44450"/>
                </a:lnTo>
                <a:lnTo>
                  <a:pt x="368300" y="44450"/>
                </a:lnTo>
                <a:lnTo>
                  <a:pt x="368300" y="44450"/>
                </a:lnTo>
                <a:lnTo>
                  <a:pt x="374650" y="44450"/>
                </a:lnTo>
                <a:lnTo>
                  <a:pt x="381000" y="44450"/>
                </a:lnTo>
                <a:lnTo>
                  <a:pt x="381000" y="44450"/>
                </a:lnTo>
                <a:lnTo>
                  <a:pt x="387350" y="44450"/>
                </a:lnTo>
                <a:lnTo>
                  <a:pt x="393700" y="44450"/>
                </a:lnTo>
                <a:lnTo>
                  <a:pt x="400050" y="44450"/>
                </a:lnTo>
                <a:lnTo>
                  <a:pt x="400050" y="44450"/>
                </a:lnTo>
                <a:lnTo>
                  <a:pt x="406400" y="44450"/>
                </a:lnTo>
                <a:lnTo>
                  <a:pt x="412750" y="44450"/>
                </a:lnTo>
                <a:lnTo>
                  <a:pt x="419100" y="44450"/>
                </a:lnTo>
                <a:lnTo>
                  <a:pt x="419100" y="44450"/>
                </a:lnTo>
                <a:lnTo>
                  <a:pt x="425450" y="44450"/>
                </a:lnTo>
                <a:lnTo>
                  <a:pt x="431800" y="44450"/>
                </a:lnTo>
                <a:lnTo>
                  <a:pt x="438150" y="44450"/>
                </a:lnTo>
                <a:lnTo>
                  <a:pt x="438150" y="44450"/>
                </a:lnTo>
                <a:lnTo>
                  <a:pt x="444500" y="44450"/>
                </a:lnTo>
                <a:lnTo>
                  <a:pt x="444500" y="44450"/>
                </a:lnTo>
                <a:lnTo>
                  <a:pt x="450850" y="44450"/>
                </a:lnTo>
                <a:lnTo>
                  <a:pt x="457200" y="44450"/>
                </a:lnTo>
                <a:lnTo>
                  <a:pt x="457200" y="44450"/>
                </a:lnTo>
                <a:lnTo>
                  <a:pt x="463550" y="44450"/>
                </a:lnTo>
                <a:lnTo>
                  <a:pt x="469900" y="44450"/>
                </a:lnTo>
                <a:lnTo>
                  <a:pt x="476250" y="44450"/>
                </a:lnTo>
                <a:lnTo>
                  <a:pt x="476250" y="44450"/>
                </a:lnTo>
                <a:lnTo>
                  <a:pt x="482600" y="44450"/>
                </a:lnTo>
                <a:lnTo>
                  <a:pt x="488950" y="44450"/>
                </a:lnTo>
                <a:lnTo>
                  <a:pt x="495300" y="44450"/>
                </a:lnTo>
                <a:lnTo>
                  <a:pt x="501650" y="38100"/>
                </a:lnTo>
                <a:lnTo>
                  <a:pt x="508000" y="38100"/>
                </a:lnTo>
                <a:lnTo>
                  <a:pt x="508000" y="38100"/>
                </a:lnTo>
                <a:lnTo>
                  <a:pt x="514350" y="38100"/>
                </a:lnTo>
                <a:lnTo>
                  <a:pt x="520700" y="38100"/>
                </a:lnTo>
                <a:lnTo>
                  <a:pt x="527050" y="38100"/>
                </a:lnTo>
                <a:lnTo>
                  <a:pt x="533400" y="38100"/>
                </a:lnTo>
                <a:lnTo>
                  <a:pt x="533400" y="38100"/>
                </a:lnTo>
                <a:lnTo>
                  <a:pt x="539750" y="31750"/>
                </a:lnTo>
                <a:lnTo>
                  <a:pt x="546100" y="31750"/>
                </a:lnTo>
                <a:lnTo>
                  <a:pt x="552450" y="31750"/>
                </a:lnTo>
                <a:lnTo>
                  <a:pt x="558800" y="31750"/>
                </a:lnTo>
                <a:lnTo>
                  <a:pt x="565150" y="31750"/>
                </a:lnTo>
                <a:lnTo>
                  <a:pt x="565150" y="31750"/>
                </a:lnTo>
                <a:lnTo>
                  <a:pt x="571500" y="31750"/>
                </a:lnTo>
                <a:lnTo>
                  <a:pt x="577850" y="31750"/>
                </a:lnTo>
                <a:lnTo>
                  <a:pt x="584200" y="31750"/>
                </a:lnTo>
                <a:lnTo>
                  <a:pt x="590550" y="31750"/>
                </a:lnTo>
                <a:lnTo>
                  <a:pt x="596900" y="31750"/>
                </a:lnTo>
                <a:lnTo>
                  <a:pt x="603250" y="25400"/>
                </a:lnTo>
                <a:lnTo>
                  <a:pt x="609600" y="25400"/>
                </a:lnTo>
                <a:lnTo>
                  <a:pt x="615950" y="25400"/>
                </a:lnTo>
                <a:lnTo>
                  <a:pt x="622300" y="25400"/>
                </a:lnTo>
                <a:lnTo>
                  <a:pt x="628650" y="25400"/>
                </a:lnTo>
                <a:lnTo>
                  <a:pt x="628650" y="25400"/>
                </a:lnTo>
                <a:lnTo>
                  <a:pt x="635000" y="25400"/>
                </a:lnTo>
                <a:lnTo>
                  <a:pt x="641350" y="25400"/>
                </a:lnTo>
                <a:lnTo>
                  <a:pt x="647700" y="25400"/>
                </a:lnTo>
                <a:lnTo>
                  <a:pt x="654050" y="25400"/>
                </a:lnTo>
                <a:lnTo>
                  <a:pt x="660400" y="19050"/>
                </a:lnTo>
                <a:lnTo>
                  <a:pt x="666750" y="19050"/>
                </a:lnTo>
                <a:lnTo>
                  <a:pt x="673100" y="19050"/>
                </a:lnTo>
                <a:lnTo>
                  <a:pt x="679450" y="19050"/>
                </a:lnTo>
                <a:lnTo>
                  <a:pt x="685800" y="19050"/>
                </a:lnTo>
                <a:lnTo>
                  <a:pt x="692150" y="19050"/>
                </a:lnTo>
                <a:lnTo>
                  <a:pt x="698500" y="19050"/>
                </a:lnTo>
                <a:lnTo>
                  <a:pt x="704850" y="19050"/>
                </a:lnTo>
                <a:lnTo>
                  <a:pt x="711200" y="19050"/>
                </a:lnTo>
                <a:lnTo>
                  <a:pt x="717550" y="19050"/>
                </a:lnTo>
                <a:lnTo>
                  <a:pt x="723900" y="19050"/>
                </a:lnTo>
                <a:lnTo>
                  <a:pt x="730250" y="19050"/>
                </a:lnTo>
                <a:lnTo>
                  <a:pt x="736600" y="19050"/>
                </a:lnTo>
                <a:lnTo>
                  <a:pt x="742950" y="12700"/>
                </a:lnTo>
                <a:lnTo>
                  <a:pt x="749300" y="12700"/>
                </a:lnTo>
                <a:lnTo>
                  <a:pt x="755650" y="12700"/>
                </a:lnTo>
                <a:lnTo>
                  <a:pt x="762000" y="12700"/>
                </a:lnTo>
                <a:lnTo>
                  <a:pt x="768350" y="12700"/>
                </a:lnTo>
                <a:lnTo>
                  <a:pt x="768350" y="12700"/>
                </a:lnTo>
                <a:lnTo>
                  <a:pt x="781050" y="12700"/>
                </a:lnTo>
                <a:lnTo>
                  <a:pt x="787400" y="12700"/>
                </a:lnTo>
                <a:lnTo>
                  <a:pt x="793750" y="12700"/>
                </a:lnTo>
                <a:lnTo>
                  <a:pt x="800100" y="12700"/>
                </a:lnTo>
                <a:lnTo>
                  <a:pt x="806450" y="12700"/>
                </a:lnTo>
                <a:lnTo>
                  <a:pt x="812800" y="12700"/>
                </a:lnTo>
                <a:lnTo>
                  <a:pt x="819150" y="12700"/>
                </a:lnTo>
                <a:lnTo>
                  <a:pt x="825500" y="12700"/>
                </a:lnTo>
                <a:lnTo>
                  <a:pt x="831850" y="12700"/>
                </a:lnTo>
                <a:lnTo>
                  <a:pt x="831850" y="12700"/>
                </a:lnTo>
                <a:lnTo>
                  <a:pt x="838200" y="12700"/>
                </a:lnTo>
                <a:lnTo>
                  <a:pt x="844550" y="12700"/>
                </a:lnTo>
                <a:lnTo>
                  <a:pt x="844550" y="12700"/>
                </a:lnTo>
                <a:lnTo>
                  <a:pt x="850900" y="12700"/>
                </a:lnTo>
                <a:lnTo>
                  <a:pt x="857250" y="12700"/>
                </a:lnTo>
                <a:lnTo>
                  <a:pt x="857250" y="12700"/>
                </a:lnTo>
                <a:lnTo>
                  <a:pt x="857250" y="12700"/>
                </a:lnTo>
                <a:lnTo>
                  <a:pt x="857250" y="12700"/>
                </a:lnTo>
                <a:lnTo>
                  <a:pt x="857250" y="12700"/>
                </a:lnTo>
                <a:lnTo>
                  <a:pt x="863600" y="12700"/>
                </a:lnTo>
                <a:lnTo>
                  <a:pt x="863600" y="12700"/>
                </a:lnTo>
                <a:lnTo>
                  <a:pt x="863600" y="12700"/>
                </a:lnTo>
                <a:lnTo>
                  <a:pt x="857250" y="12700"/>
                </a:lnTo>
                <a:lnTo>
                  <a:pt x="857250" y="12700"/>
                </a:lnTo>
                <a:lnTo>
                  <a:pt x="857250" y="12700"/>
                </a:lnTo>
                <a:lnTo>
                  <a:pt x="857250" y="12700"/>
                </a:lnTo>
                <a:lnTo>
                  <a:pt x="850900" y="12700"/>
                </a:lnTo>
                <a:lnTo>
                  <a:pt x="844550" y="12700"/>
                </a:lnTo>
                <a:lnTo>
                  <a:pt x="844550" y="12700"/>
                </a:lnTo>
                <a:lnTo>
                  <a:pt x="838200" y="19050"/>
                </a:lnTo>
                <a:lnTo>
                  <a:pt x="831850" y="19050"/>
                </a:lnTo>
                <a:lnTo>
                  <a:pt x="825500" y="19050"/>
                </a:lnTo>
                <a:lnTo>
                  <a:pt x="819150" y="19050"/>
                </a:lnTo>
                <a:lnTo>
                  <a:pt x="812800" y="19050"/>
                </a:lnTo>
                <a:lnTo>
                  <a:pt x="800100" y="19050"/>
                </a:lnTo>
                <a:lnTo>
                  <a:pt x="793750" y="19050"/>
                </a:lnTo>
                <a:lnTo>
                  <a:pt x="787400" y="19050"/>
                </a:lnTo>
                <a:lnTo>
                  <a:pt x="774700" y="19050"/>
                </a:lnTo>
                <a:lnTo>
                  <a:pt x="768350" y="25400"/>
                </a:lnTo>
                <a:lnTo>
                  <a:pt x="762000" y="25400"/>
                </a:lnTo>
                <a:lnTo>
                  <a:pt x="749300" y="25400"/>
                </a:lnTo>
                <a:lnTo>
                  <a:pt x="742950" y="25400"/>
                </a:lnTo>
                <a:lnTo>
                  <a:pt x="730250" y="25400"/>
                </a:lnTo>
                <a:lnTo>
                  <a:pt x="723900" y="25400"/>
                </a:lnTo>
                <a:lnTo>
                  <a:pt x="717550" y="25400"/>
                </a:lnTo>
                <a:lnTo>
                  <a:pt x="704850" y="25400"/>
                </a:lnTo>
                <a:lnTo>
                  <a:pt x="692150" y="25400"/>
                </a:lnTo>
                <a:lnTo>
                  <a:pt x="685800" y="25400"/>
                </a:lnTo>
                <a:lnTo>
                  <a:pt x="673100" y="25400"/>
                </a:lnTo>
                <a:lnTo>
                  <a:pt x="666750" y="25400"/>
                </a:lnTo>
                <a:lnTo>
                  <a:pt x="654050" y="25400"/>
                </a:lnTo>
                <a:lnTo>
                  <a:pt x="647700" y="25400"/>
                </a:lnTo>
                <a:lnTo>
                  <a:pt x="635000" y="25400"/>
                </a:lnTo>
                <a:lnTo>
                  <a:pt x="628650" y="25400"/>
                </a:lnTo>
                <a:lnTo>
                  <a:pt x="615950" y="19050"/>
                </a:lnTo>
                <a:lnTo>
                  <a:pt x="609600" y="19050"/>
                </a:lnTo>
                <a:lnTo>
                  <a:pt x="596900" y="19050"/>
                </a:lnTo>
                <a:lnTo>
                  <a:pt x="584200" y="19050"/>
                </a:lnTo>
                <a:lnTo>
                  <a:pt x="577850" y="19050"/>
                </a:lnTo>
                <a:lnTo>
                  <a:pt x="565150" y="19050"/>
                </a:lnTo>
                <a:lnTo>
                  <a:pt x="558800" y="19050"/>
                </a:lnTo>
                <a:lnTo>
                  <a:pt x="546100" y="12700"/>
                </a:lnTo>
                <a:lnTo>
                  <a:pt x="539750" y="12700"/>
                </a:lnTo>
                <a:lnTo>
                  <a:pt x="533400" y="12700"/>
                </a:lnTo>
                <a:lnTo>
                  <a:pt x="520700" y="12700"/>
                </a:lnTo>
                <a:lnTo>
                  <a:pt x="514350" y="12700"/>
                </a:lnTo>
                <a:lnTo>
                  <a:pt x="501650" y="12700"/>
                </a:lnTo>
                <a:lnTo>
                  <a:pt x="495300" y="19050"/>
                </a:lnTo>
                <a:lnTo>
                  <a:pt x="482600" y="19050"/>
                </a:lnTo>
                <a:lnTo>
                  <a:pt x="476250" y="19050"/>
                </a:lnTo>
                <a:lnTo>
                  <a:pt x="463550" y="19050"/>
                </a:lnTo>
                <a:lnTo>
                  <a:pt x="457200" y="19050"/>
                </a:lnTo>
                <a:lnTo>
                  <a:pt x="444500" y="19050"/>
                </a:lnTo>
                <a:lnTo>
                  <a:pt x="438150" y="19050"/>
                </a:lnTo>
                <a:lnTo>
                  <a:pt x="431800" y="19050"/>
                </a:lnTo>
                <a:lnTo>
                  <a:pt x="425450" y="19050"/>
                </a:lnTo>
                <a:lnTo>
                  <a:pt x="412750" y="19050"/>
                </a:lnTo>
                <a:lnTo>
                  <a:pt x="406400" y="19050"/>
                </a:lnTo>
                <a:lnTo>
                  <a:pt x="400050" y="19050"/>
                </a:lnTo>
                <a:lnTo>
                  <a:pt x="387350" y="25400"/>
                </a:lnTo>
                <a:lnTo>
                  <a:pt x="381000" y="25400"/>
                </a:lnTo>
                <a:lnTo>
                  <a:pt x="374650" y="25400"/>
                </a:lnTo>
                <a:lnTo>
                  <a:pt x="361950" y="25400"/>
                </a:lnTo>
                <a:lnTo>
                  <a:pt x="355600" y="25400"/>
                </a:lnTo>
                <a:lnTo>
                  <a:pt x="349250" y="25400"/>
                </a:lnTo>
                <a:lnTo>
                  <a:pt x="342900" y="25400"/>
                </a:lnTo>
                <a:lnTo>
                  <a:pt x="336550" y="25400"/>
                </a:lnTo>
                <a:lnTo>
                  <a:pt x="330200" y="25400"/>
                </a:lnTo>
                <a:lnTo>
                  <a:pt x="317500" y="25400"/>
                </a:lnTo>
                <a:lnTo>
                  <a:pt x="311150" y="25400"/>
                </a:lnTo>
                <a:lnTo>
                  <a:pt x="304800" y="25400"/>
                </a:lnTo>
                <a:lnTo>
                  <a:pt x="298450" y="25400"/>
                </a:lnTo>
                <a:lnTo>
                  <a:pt x="292100" y="25400"/>
                </a:lnTo>
                <a:lnTo>
                  <a:pt x="279400" y="25400"/>
                </a:lnTo>
                <a:lnTo>
                  <a:pt x="273050" y="25400"/>
                </a:lnTo>
                <a:lnTo>
                  <a:pt x="266700" y="25400"/>
                </a:lnTo>
                <a:lnTo>
                  <a:pt x="260350" y="25400"/>
                </a:lnTo>
                <a:lnTo>
                  <a:pt x="254000" y="25400"/>
                </a:lnTo>
                <a:lnTo>
                  <a:pt x="247650" y="19050"/>
                </a:lnTo>
                <a:lnTo>
                  <a:pt x="241300" y="19050"/>
                </a:lnTo>
                <a:lnTo>
                  <a:pt x="234950" y="19050"/>
                </a:lnTo>
                <a:lnTo>
                  <a:pt x="228600" y="19050"/>
                </a:lnTo>
                <a:lnTo>
                  <a:pt x="222250" y="19050"/>
                </a:lnTo>
                <a:lnTo>
                  <a:pt x="215900" y="19050"/>
                </a:lnTo>
                <a:lnTo>
                  <a:pt x="209550" y="19050"/>
                </a:lnTo>
                <a:lnTo>
                  <a:pt x="203200" y="19050"/>
                </a:lnTo>
                <a:lnTo>
                  <a:pt x="196850" y="19050"/>
                </a:lnTo>
                <a:lnTo>
                  <a:pt x="196850" y="19050"/>
                </a:lnTo>
                <a:lnTo>
                  <a:pt x="190500" y="19050"/>
                </a:lnTo>
                <a:lnTo>
                  <a:pt x="184150" y="19050"/>
                </a:lnTo>
                <a:lnTo>
                  <a:pt x="171450" y="12700"/>
                </a:lnTo>
                <a:lnTo>
                  <a:pt x="165100" y="12700"/>
                </a:lnTo>
                <a:lnTo>
                  <a:pt x="158750" y="12700"/>
                </a:lnTo>
                <a:lnTo>
                  <a:pt x="152400" y="12700"/>
                </a:lnTo>
                <a:lnTo>
                  <a:pt x="152400" y="12700"/>
                </a:lnTo>
                <a:lnTo>
                  <a:pt x="146050" y="12700"/>
                </a:lnTo>
                <a:lnTo>
                  <a:pt x="133350" y="12700"/>
                </a:lnTo>
                <a:lnTo>
                  <a:pt x="127000" y="6350"/>
                </a:lnTo>
                <a:lnTo>
                  <a:pt x="120650" y="6350"/>
                </a:lnTo>
                <a:lnTo>
                  <a:pt x="114300" y="6350"/>
                </a:lnTo>
                <a:lnTo>
                  <a:pt x="107950" y="6350"/>
                </a:lnTo>
                <a:lnTo>
                  <a:pt x="101600" y="6350"/>
                </a:lnTo>
                <a:lnTo>
                  <a:pt x="95250" y="6350"/>
                </a:lnTo>
                <a:lnTo>
                  <a:pt x="88900" y="6350"/>
                </a:lnTo>
                <a:lnTo>
                  <a:pt x="82550" y="6350"/>
                </a:lnTo>
                <a:lnTo>
                  <a:pt x="69850" y="6350"/>
                </a:lnTo>
                <a:lnTo>
                  <a:pt x="63500" y="6350"/>
                </a:lnTo>
                <a:lnTo>
                  <a:pt x="57150" y="6350"/>
                </a:lnTo>
                <a:lnTo>
                  <a:pt x="50800" y="12700"/>
                </a:lnTo>
                <a:lnTo>
                  <a:pt x="44450" y="12700"/>
                </a:lnTo>
                <a:lnTo>
                  <a:pt x="38100" y="12700"/>
                </a:lnTo>
                <a:lnTo>
                  <a:pt x="31750" y="12700"/>
                </a:lnTo>
                <a:lnTo>
                  <a:pt x="25400" y="12700"/>
                </a:lnTo>
                <a:lnTo>
                  <a:pt x="19050" y="12700"/>
                </a:lnTo>
                <a:lnTo>
                  <a:pt x="12700" y="12700"/>
                </a:lnTo>
                <a:lnTo>
                  <a:pt x="12700" y="12700"/>
                </a:lnTo>
                <a:lnTo>
                  <a:pt x="6350" y="6350"/>
                </a:lnTo>
                <a:lnTo>
                  <a:pt x="6350" y="6350"/>
                </a:lnTo>
              </a:path>
            </a:pathLst>
          </a:custGeom>
          <a:noFill/>
          <a:ln w="38160">
            <a:solidFill>
              <a:srgbClr val="ff0000"/>
            </a:solidFill>
            <a:round/>
          </a:ln>
        </p:spPr>
        <p:style>
          <a:lnRef idx="0"/>
          <a:fillRef idx="0"/>
          <a:effectRef idx="0"/>
          <a:fontRef idx="minor"/>
        </p:style>
        <p:txBody>
          <a:bodyPr tIns="-720" bIns="-720" anchor="ctr">
            <a:noAutofit/>
          </a:bodyPr>
          <a:p>
            <a:endParaRPr b="0" lang="en-US" sz="1800" spc="-1" strike="noStrike">
              <a:solidFill>
                <a:srgbClr val="000000"/>
              </a:solidFill>
              <a:latin typeface="Verdana"/>
            </a:endParaRPr>
          </a:p>
        </p:txBody>
      </p:sp>
    </p:spTree>
  </p:cSld>
  <p:transition>
    <p:wipe dir="r"/>
  </p:transition>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22" presetSubtype="1">
                                  <p:stCondLst>
                                    <p:cond delay="0"/>
                                  </p:stCondLst>
                                  <p:childTnLst>
                                    <p:set>
                                      <p:cBhvr>
                                        <p:cTn id="115" dur="1" fill="hold">
                                          <p:stCondLst>
                                            <p:cond delay="0"/>
                                          </p:stCondLst>
                                        </p:cTn>
                                        <p:tgtEl>
                                          <p:spTgt spid="117"/>
                                        </p:tgtEl>
                                        <p:attrNameLst>
                                          <p:attrName>style.visibility</p:attrName>
                                        </p:attrNameLst>
                                      </p:cBhvr>
                                      <p:to>
                                        <p:strVal val="visible"/>
                                      </p:to>
                                    </p:set>
                                    <p:animEffect filter="wipe(up)" transition="in">
                                      <p:cBhvr additive="repl">
                                        <p:cTn id="116" dur="500"/>
                                        <p:tgtEl>
                                          <p:spTgt spid="117"/>
                                        </p:tgtEl>
                                      </p:cBhvr>
                                    </p:animEffect>
                                  </p:childTnLst>
                                </p:cTn>
                              </p:par>
                              <p:par>
                                <p:cTn id="117" nodeType="withEffect" fill="hold" presetClass="entr" presetID="22" presetSubtype="1">
                                  <p:stCondLst>
                                    <p:cond delay="0"/>
                                  </p:stCondLst>
                                  <p:childTnLst>
                                    <p:set>
                                      <p:cBhvr>
                                        <p:cTn id="118" dur="1" fill="hold">
                                          <p:stCondLst>
                                            <p:cond delay="0"/>
                                          </p:stCondLst>
                                        </p:cTn>
                                        <p:tgtEl>
                                          <p:spTgt spid="119"/>
                                        </p:tgtEl>
                                        <p:attrNameLst>
                                          <p:attrName>style.visibility</p:attrName>
                                        </p:attrNameLst>
                                      </p:cBhvr>
                                      <p:to>
                                        <p:strVal val="visible"/>
                                      </p:to>
                                    </p:set>
                                    <p:animEffect filter="wipe(up)" transition="in">
                                      <p:cBhvr additive="repl">
                                        <p:cTn id="119" dur="500"/>
                                        <p:tgtEl>
                                          <p:spTgt spid="119"/>
                                        </p:tgtEl>
                                      </p:cBhvr>
                                    </p:animEffect>
                                  </p:childTnLst>
                                </p:cTn>
                              </p:par>
                            </p:childTnLst>
                          </p:cTn>
                        </p:par>
                        <p:par>
                          <p:cTn id="120" nodeType="afterEffect" fill="hold">
                            <p:stCondLst>
                              <p:cond delay="500"/>
                            </p:stCondLst>
                            <p:childTnLst>
                              <p:par>
                                <p:cTn id="121" nodeType="afterEffect" fill="hold" presetClass="entr" presetID="1">
                                  <p:stCondLst>
                                    <p:cond delay="0"/>
                                  </p:stCondLst>
                                  <p:childTnLst>
                                    <p:set>
                                      <p:cBhvr>
                                        <p:cTn id="122" dur="1" fill="hold">
                                          <p:stCondLst>
                                            <p:cond delay="0"/>
                                          </p:stCondLst>
                                        </p:cTn>
                                        <p:tgtEl>
                                          <p:spTgt spid="122"/>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18"/>
                                        </p:tgtEl>
                                        <p:attrNameLst>
                                          <p:attrName>style.visibility</p:attrName>
                                        </p:attrNameLst>
                                      </p:cBhvr>
                                      <p:to>
                                        <p:strVal val="visible"/>
                                      </p:to>
                                    </p:set>
                                    <p:animEffect filter="wipe(left)" transition="in">
                                      <p:cBhvr additive="repl">
                                        <p:cTn id="127" dur="500"/>
                                        <p:tgtEl>
                                          <p:spTgt spid="118"/>
                                        </p:tgtEl>
                                      </p:cBhvr>
                                    </p:animEffect>
                                  </p:childTnLst>
                                </p:cTn>
                              </p:par>
                            </p:childTnLst>
                          </p:cTn>
                        </p:par>
                        <p:par>
                          <p:cTn id="128" nodeType="afterEffect" fill="hold">
                            <p:stCondLst>
                              <p:cond delay="500"/>
                            </p:stCondLst>
                            <p:childTnLst>
                              <p:par>
                                <p:cTn id="129" nodeType="afterEffect" fill="hold" presetClass="entr" presetID="22" presetSubtype="1">
                                  <p:stCondLst>
                                    <p:cond delay="0"/>
                                  </p:stCondLst>
                                  <p:childTnLst>
                                    <p:set>
                                      <p:cBhvr>
                                        <p:cTn id="130" dur="1" fill="hold">
                                          <p:stCondLst>
                                            <p:cond delay="0"/>
                                          </p:stCondLst>
                                        </p:cTn>
                                        <p:tgtEl>
                                          <p:spTgt spid="116"/>
                                        </p:tgtEl>
                                        <p:attrNameLst>
                                          <p:attrName>style.visibility</p:attrName>
                                        </p:attrNameLst>
                                      </p:cBhvr>
                                      <p:to>
                                        <p:strVal val="visible"/>
                                      </p:to>
                                    </p:set>
                                    <p:animEffect filter="wipe(up)" transition="in">
                                      <p:cBhvr additive="repl">
                                        <p:cTn id="131" dur="500"/>
                                        <p:tgtEl>
                                          <p:spTgt spid="116"/>
                                        </p:tgtEl>
                                      </p:cBhvr>
                                    </p:animEffect>
                                  </p:childTnLst>
                                </p:cTn>
                              </p:par>
                              <p:par>
                                <p:cTn id="132" nodeType="withEffect" fill="hold" presetClass="entr" presetID="22" presetSubtype="1">
                                  <p:stCondLst>
                                    <p:cond delay="0"/>
                                  </p:stCondLst>
                                  <p:childTnLst>
                                    <p:set>
                                      <p:cBhvr>
                                        <p:cTn id="133" dur="1" fill="hold">
                                          <p:stCondLst>
                                            <p:cond delay="0"/>
                                          </p:stCondLst>
                                        </p:cTn>
                                        <p:tgtEl>
                                          <p:spTgt spid="120"/>
                                        </p:tgtEl>
                                        <p:attrNameLst>
                                          <p:attrName>style.visibility</p:attrName>
                                        </p:attrNameLst>
                                      </p:cBhvr>
                                      <p:to>
                                        <p:strVal val="visible"/>
                                      </p:to>
                                    </p:set>
                                    <p:animEffect filter="wipe(up)" transition="in">
                                      <p:cBhvr additive="repl">
                                        <p:cTn id="134" dur="500"/>
                                        <p:tgtEl>
                                          <p:spTgt spid="120"/>
                                        </p:tgtEl>
                                      </p:cBhvr>
                                    </p:animEffect>
                                  </p:childTnLst>
                                </p:cTn>
                              </p:par>
                              <p:par>
                                <p:cTn id="135" nodeType="withEffect" fill="hold" presetClass="entr" presetID="1">
                                  <p:stCondLst>
                                    <p:cond delay="0"/>
                                  </p:stCondLst>
                                  <p:childTnLst>
                                    <p:set>
                                      <p:cBhvr>
                                        <p:cTn id="13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28480" y="528120"/>
            <a:ext cx="8082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ffc000"/>
                </a:solidFill>
                <a:uFillTx/>
                <a:latin typeface="Verdana"/>
              </a:rPr>
              <a:t>Setting and Character</a:t>
            </a:r>
            <a:endParaRPr b="0" lang="en-US" sz="3500" spc="-1" strike="noStrike">
              <a:solidFill>
                <a:srgbClr val="ffff99"/>
              </a:solidFill>
              <a:latin typeface="Verdana"/>
            </a:endParaRPr>
          </a:p>
        </p:txBody>
      </p:sp>
      <p:sp>
        <p:nvSpPr>
          <p:cNvPr id="132" name="Text Box 3"/>
          <p:cNvSpPr/>
          <p:nvPr/>
        </p:nvSpPr>
        <p:spPr>
          <a:xfrm>
            <a:off x="304920" y="137016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Verdana"/>
              </a:rPr>
              <a:t>Sometimes writers place characters in settings that </a:t>
            </a:r>
            <a:r>
              <a:rPr b="1" lang="en-US" sz="2400" spc="-1" strike="noStrike" u="sng">
                <a:solidFill>
                  <a:srgbClr val="ffff00"/>
                </a:solidFill>
                <a:uFillTx/>
                <a:latin typeface="Verdana"/>
              </a:rPr>
              <a:t>reflect the characters’ personalities</a:t>
            </a:r>
            <a:r>
              <a:rPr b="1" lang="en-US" sz="2400" spc="-1" strike="noStrike">
                <a:solidFill>
                  <a:srgbClr val="ffff99"/>
                </a:solidFill>
                <a:latin typeface="Verdana"/>
              </a:rPr>
              <a:t>. </a:t>
            </a:r>
            <a:endParaRPr b="0" lang="en-US" sz="2400" spc="-1" strike="noStrike">
              <a:solidFill>
                <a:srgbClr val="000000"/>
              </a:solidFill>
              <a:latin typeface="Verdana"/>
            </a:endParaRPr>
          </a:p>
        </p:txBody>
      </p:sp>
      <p:pic>
        <p:nvPicPr>
          <p:cNvPr id="133" name="Picture 10" descr="WGE0030D.JPG"/>
          <p:cNvPicPr/>
          <p:nvPr/>
        </p:nvPicPr>
        <p:blipFill>
          <a:blip r:embed="rId1"/>
          <a:stretch/>
        </p:blipFill>
        <p:spPr>
          <a:xfrm>
            <a:off x="304920" y="3048120"/>
            <a:ext cx="2209680" cy="2965320"/>
          </a:xfrm>
          <a:prstGeom prst="rect">
            <a:avLst/>
          </a:prstGeom>
          <a:ln w="0">
            <a:noFill/>
          </a:ln>
        </p:spPr>
      </p:pic>
      <p:pic>
        <p:nvPicPr>
          <p:cNvPr id="134" name="Picture 11" descr="57106.JPG"/>
          <p:cNvPicPr/>
          <p:nvPr/>
        </p:nvPicPr>
        <p:blipFill>
          <a:blip r:embed="rId2"/>
          <a:stretch/>
        </p:blipFill>
        <p:spPr>
          <a:xfrm>
            <a:off x="3429000" y="3048120"/>
            <a:ext cx="2209680" cy="2985840"/>
          </a:xfrm>
          <a:prstGeom prst="rect">
            <a:avLst/>
          </a:prstGeom>
          <a:ln w="0">
            <a:noFill/>
          </a:ln>
        </p:spPr>
      </p:pic>
      <p:pic>
        <p:nvPicPr>
          <p:cNvPr id="135" name="Picture 12" descr="STB0010D.jpg"/>
          <p:cNvPicPr/>
          <p:nvPr/>
        </p:nvPicPr>
        <p:blipFill>
          <a:blip r:embed="rId3"/>
          <a:stretch/>
        </p:blipFill>
        <p:spPr>
          <a:xfrm>
            <a:off x="6553080" y="2971800"/>
            <a:ext cx="2057400" cy="3079800"/>
          </a:xfrm>
          <a:prstGeom prst="rect">
            <a:avLst/>
          </a:prstGeom>
          <a:ln w="0">
            <a:noFill/>
          </a:ln>
        </p:spPr>
      </p:pic>
      <p:sp>
        <p:nvSpPr>
          <p:cNvPr id="136" name="Text Box 13"/>
          <p:cNvSpPr/>
          <p:nvPr/>
        </p:nvSpPr>
        <p:spPr>
          <a:xfrm>
            <a:off x="533520" y="230184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6600"/>
                </a:solidFill>
                <a:uFillTx/>
                <a:latin typeface="Verdana"/>
              </a:rPr>
              <a:t>What do you think these characters are like? </a:t>
            </a:r>
            <a:endParaRPr b="0" lang="en-US" sz="2400" spc="-1" strike="noStrike">
              <a:solidFill>
                <a:srgbClr val="000000"/>
              </a:solidFill>
              <a:latin typeface="Verdana"/>
            </a:endParaRPr>
          </a:p>
        </p:txBody>
      </p:sp>
      <p:pic>
        <p:nvPicPr>
          <p:cNvPr id="137" name="Picture 14" descr=""/>
          <p:cNvPicPr/>
          <p:nvPr/>
        </p:nvPicPr>
        <p:blipFill>
          <a:blip r:embed="rId4"/>
          <a:stretch/>
        </p:blipFill>
        <p:spPr>
          <a:xfrm>
            <a:off x="7105680" y="1968480"/>
            <a:ext cx="133200" cy="88920"/>
          </a:xfrm>
          <a:prstGeom prst="rect">
            <a:avLst/>
          </a:prstGeom>
          <a:ln w="0">
            <a:noFill/>
          </a:ln>
        </p:spPr>
      </p:pic>
      <p:sp>
        <p:nvSpPr>
          <p:cNvPr id="138" name="Text Box 15"/>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39" name="Freeform 1"/>
          <p:cNvSpPr/>
          <p:nvPr/>
        </p:nvSpPr>
        <p:spPr>
          <a:xfrm>
            <a:off x="4902120" y="1689120"/>
            <a:ext cx="2711520" cy="558720"/>
          </a:xfrm>
          <a:custGeom>
            <a:avLst/>
            <a:gdLst>
              <a:gd name="textAreaLeft" fmla="*/ 0 w 2711520"/>
              <a:gd name="textAreaRight" fmla="*/ 2711880 w 2711520"/>
              <a:gd name="textAreaTop" fmla="*/ 0 h 558720"/>
              <a:gd name="textAreaBottom" fmla="*/ 559080 h 558720"/>
            </a:gdLst>
            <a:ahLst/>
            <a:rect l="textAreaLeft" t="textAreaTop" r="textAreaRight" b="textAreaBottom"/>
            <a:pathLst>
              <a:path w="2711451" h="558801">
                <a:moveTo>
                  <a:pt x="736600" y="184150"/>
                </a:moveTo>
                <a:lnTo>
                  <a:pt x="736600" y="184150"/>
                </a:lnTo>
                <a:lnTo>
                  <a:pt x="736600" y="177800"/>
                </a:lnTo>
                <a:lnTo>
                  <a:pt x="736600" y="177800"/>
                </a:lnTo>
                <a:lnTo>
                  <a:pt x="736600" y="171450"/>
                </a:lnTo>
                <a:lnTo>
                  <a:pt x="736600" y="171450"/>
                </a:lnTo>
                <a:lnTo>
                  <a:pt x="730250" y="165100"/>
                </a:lnTo>
                <a:lnTo>
                  <a:pt x="723900" y="165100"/>
                </a:lnTo>
                <a:lnTo>
                  <a:pt x="717550" y="158750"/>
                </a:lnTo>
                <a:lnTo>
                  <a:pt x="711200" y="152400"/>
                </a:lnTo>
                <a:lnTo>
                  <a:pt x="698500" y="152400"/>
                </a:lnTo>
                <a:lnTo>
                  <a:pt x="685800" y="146050"/>
                </a:lnTo>
                <a:lnTo>
                  <a:pt x="666750" y="146050"/>
                </a:lnTo>
                <a:lnTo>
                  <a:pt x="647700" y="139700"/>
                </a:lnTo>
                <a:lnTo>
                  <a:pt x="628650" y="133350"/>
                </a:lnTo>
                <a:lnTo>
                  <a:pt x="603250" y="133350"/>
                </a:lnTo>
                <a:lnTo>
                  <a:pt x="577850" y="133350"/>
                </a:lnTo>
                <a:lnTo>
                  <a:pt x="552450" y="127000"/>
                </a:lnTo>
                <a:lnTo>
                  <a:pt x="520700" y="127000"/>
                </a:lnTo>
                <a:lnTo>
                  <a:pt x="488950" y="127000"/>
                </a:lnTo>
                <a:lnTo>
                  <a:pt x="457200" y="127000"/>
                </a:lnTo>
                <a:lnTo>
                  <a:pt x="419100" y="133350"/>
                </a:lnTo>
                <a:lnTo>
                  <a:pt x="381000" y="133350"/>
                </a:lnTo>
                <a:lnTo>
                  <a:pt x="342900" y="139700"/>
                </a:lnTo>
                <a:lnTo>
                  <a:pt x="311150" y="152400"/>
                </a:lnTo>
                <a:lnTo>
                  <a:pt x="273050" y="158750"/>
                </a:lnTo>
                <a:lnTo>
                  <a:pt x="234950" y="171450"/>
                </a:lnTo>
                <a:lnTo>
                  <a:pt x="196850" y="184150"/>
                </a:lnTo>
                <a:lnTo>
                  <a:pt x="165100" y="196850"/>
                </a:lnTo>
                <a:lnTo>
                  <a:pt x="139700" y="215900"/>
                </a:lnTo>
                <a:lnTo>
                  <a:pt x="114300" y="228600"/>
                </a:lnTo>
                <a:lnTo>
                  <a:pt x="88900" y="247650"/>
                </a:lnTo>
                <a:lnTo>
                  <a:pt x="63500" y="273050"/>
                </a:lnTo>
                <a:lnTo>
                  <a:pt x="50800" y="292100"/>
                </a:lnTo>
                <a:lnTo>
                  <a:pt x="31750" y="311150"/>
                </a:lnTo>
                <a:lnTo>
                  <a:pt x="19050" y="336550"/>
                </a:lnTo>
                <a:lnTo>
                  <a:pt x="12700" y="355600"/>
                </a:lnTo>
                <a:lnTo>
                  <a:pt x="6350" y="381000"/>
                </a:lnTo>
                <a:lnTo>
                  <a:pt x="0" y="400050"/>
                </a:lnTo>
                <a:lnTo>
                  <a:pt x="0" y="425450"/>
                </a:lnTo>
                <a:lnTo>
                  <a:pt x="6350" y="444500"/>
                </a:lnTo>
                <a:lnTo>
                  <a:pt x="12700" y="463550"/>
                </a:lnTo>
                <a:lnTo>
                  <a:pt x="31750" y="476250"/>
                </a:lnTo>
                <a:lnTo>
                  <a:pt x="50800" y="495300"/>
                </a:lnTo>
                <a:lnTo>
                  <a:pt x="69850" y="508000"/>
                </a:lnTo>
                <a:lnTo>
                  <a:pt x="95250" y="520700"/>
                </a:lnTo>
                <a:lnTo>
                  <a:pt x="120650" y="533400"/>
                </a:lnTo>
                <a:lnTo>
                  <a:pt x="152400" y="546100"/>
                </a:lnTo>
                <a:lnTo>
                  <a:pt x="190500" y="546100"/>
                </a:lnTo>
                <a:lnTo>
                  <a:pt x="228600" y="552450"/>
                </a:lnTo>
                <a:lnTo>
                  <a:pt x="266700" y="558800"/>
                </a:lnTo>
                <a:lnTo>
                  <a:pt x="304800" y="558800"/>
                </a:lnTo>
                <a:lnTo>
                  <a:pt x="349250" y="558800"/>
                </a:lnTo>
                <a:lnTo>
                  <a:pt x="393700" y="558800"/>
                </a:lnTo>
                <a:lnTo>
                  <a:pt x="438150" y="558800"/>
                </a:lnTo>
                <a:lnTo>
                  <a:pt x="488950" y="558800"/>
                </a:lnTo>
                <a:lnTo>
                  <a:pt x="533400" y="558800"/>
                </a:lnTo>
                <a:lnTo>
                  <a:pt x="577850" y="552450"/>
                </a:lnTo>
                <a:lnTo>
                  <a:pt x="628650" y="552450"/>
                </a:lnTo>
                <a:lnTo>
                  <a:pt x="673100" y="546100"/>
                </a:lnTo>
                <a:lnTo>
                  <a:pt x="717550" y="546100"/>
                </a:lnTo>
                <a:lnTo>
                  <a:pt x="768350" y="539750"/>
                </a:lnTo>
                <a:lnTo>
                  <a:pt x="812800" y="533400"/>
                </a:lnTo>
                <a:lnTo>
                  <a:pt x="863600" y="533400"/>
                </a:lnTo>
                <a:lnTo>
                  <a:pt x="908050" y="527050"/>
                </a:lnTo>
                <a:lnTo>
                  <a:pt x="952500" y="527050"/>
                </a:lnTo>
                <a:lnTo>
                  <a:pt x="1003300" y="520700"/>
                </a:lnTo>
                <a:lnTo>
                  <a:pt x="1047750" y="520700"/>
                </a:lnTo>
                <a:lnTo>
                  <a:pt x="1098550" y="514350"/>
                </a:lnTo>
                <a:lnTo>
                  <a:pt x="1143000" y="514350"/>
                </a:lnTo>
                <a:lnTo>
                  <a:pt x="1193800" y="508000"/>
                </a:lnTo>
                <a:lnTo>
                  <a:pt x="1238250" y="508000"/>
                </a:lnTo>
                <a:lnTo>
                  <a:pt x="1289050" y="508000"/>
                </a:lnTo>
                <a:lnTo>
                  <a:pt x="1339850" y="501650"/>
                </a:lnTo>
                <a:lnTo>
                  <a:pt x="1390650" y="501650"/>
                </a:lnTo>
                <a:lnTo>
                  <a:pt x="1441450" y="501650"/>
                </a:lnTo>
                <a:lnTo>
                  <a:pt x="1492250" y="501650"/>
                </a:lnTo>
                <a:lnTo>
                  <a:pt x="1543050" y="501650"/>
                </a:lnTo>
                <a:lnTo>
                  <a:pt x="1593850" y="495300"/>
                </a:lnTo>
                <a:lnTo>
                  <a:pt x="1644650" y="495300"/>
                </a:lnTo>
                <a:lnTo>
                  <a:pt x="1695450" y="488950"/>
                </a:lnTo>
                <a:lnTo>
                  <a:pt x="1752600" y="488950"/>
                </a:lnTo>
                <a:lnTo>
                  <a:pt x="1803400" y="488950"/>
                </a:lnTo>
                <a:lnTo>
                  <a:pt x="1854200" y="488950"/>
                </a:lnTo>
                <a:lnTo>
                  <a:pt x="1905000" y="488950"/>
                </a:lnTo>
                <a:lnTo>
                  <a:pt x="1955800" y="482600"/>
                </a:lnTo>
                <a:lnTo>
                  <a:pt x="2006600" y="476250"/>
                </a:lnTo>
                <a:lnTo>
                  <a:pt x="2057400" y="476250"/>
                </a:lnTo>
                <a:lnTo>
                  <a:pt x="2101850" y="469900"/>
                </a:lnTo>
                <a:lnTo>
                  <a:pt x="2159000" y="469900"/>
                </a:lnTo>
                <a:lnTo>
                  <a:pt x="2203450" y="469900"/>
                </a:lnTo>
                <a:lnTo>
                  <a:pt x="2254250" y="463550"/>
                </a:lnTo>
                <a:lnTo>
                  <a:pt x="2298700" y="463550"/>
                </a:lnTo>
                <a:lnTo>
                  <a:pt x="2343150" y="457200"/>
                </a:lnTo>
                <a:lnTo>
                  <a:pt x="2387600" y="457200"/>
                </a:lnTo>
                <a:lnTo>
                  <a:pt x="2432050" y="450850"/>
                </a:lnTo>
                <a:lnTo>
                  <a:pt x="2476500" y="444500"/>
                </a:lnTo>
                <a:lnTo>
                  <a:pt x="2514600" y="444500"/>
                </a:lnTo>
                <a:lnTo>
                  <a:pt x="2552700" y="431800"/>
                </a:lnTo>
                <a:lnTo>
                  <a:pt x="2584450" y="425450"/>
                </a:lnTo>
                <a:lnTo>
                  <a:pt x="2616200" y="419100"/>
                </a:lnTo>
                <a:lnTo>
                  <a:pt x="2641600" y="412750"/>
                </a:lnTo>
                <a:lnTo>
                  <a:pt x="2667000" y="400050"/>
                </a:lnTo>
                <a:lnTo>
                  <a:pt x="2679700" y="387350"/>
                </a:lnTo>
                <a:lnTo>
                  <a:pt x="2692400" y="374650"/>
                </a:lnTo>
                <a:lnTo>
                  <a:pt x="2705100" y="361950"/>
                </a:lnTo>
                <a:lnTo>
                  <a:pt x="2711450" y="342900"/>
                </a:lnTo>
                <a:lnTo>
                  <a:pt x="2711450" y="323850"/>
                </a:lnTo>
                <a:lnTo>
                  <a:pt x="2705100" y="311150"/>
                </a:lnTo>
                <a:lnTo>
                  <a:pt x="2692400" y="292100"/>
                </a:lnTo>
                <a:lnTo>
                  <a:pt x="2679700" y="273050"/>
                </a:lnTo>
                <a:lnTo>
                  <a:pt x="2667000" y="254000"/>
                </a:lnTo>
                <a:lnTo>
                  <a:pt x="2641600" y="234950"/>
                </a:lnTo>
                <a:lnTo>
                  <a:pt x="2616200" y="215900"/>
                </a:lnTo>
                <a:lnTo>
                  <a:pt x="2578100" y="190500"/>
                </a:lnTo>
                <a:lnTo>
                  <a:pt x="2540000" y="171450"/>
                </a:lnTo>
                <a:lnTo>
                  <a:pt x="2495550" y="152400"/>
                </a:lnTo>
                <a:lnTo>
                  <a:pt x="2444750" y="127000"/>
                </a:lnTo>
                <a:lnTo>
                  <a:pt x="2393950" y="107950"/>
                </a:lnTo>
                <a:lnTo>
                  <a:pt x="2330450" y="88900"/>
                </a:lnTo>
                <a:lnTo>
                  <a:pt x="2260600" y="69850"/>
                </a:lnTo>
                <a:lnTo>
                  <a:pt x="2190750" y="50800"/>
                </a:lnTo>
                <a:lnTo>
                  <a:pt x="2101850" y="31750"/>
                </a:lnTo>
                <a:lnTo>
                  <a:pt x="2019300" y="19050"/>
                </a:lnTo>
                <a:lnTo>
                  <a:pt x="1924050" y="6350"/>
                </a:lnTo>
                <a:lnTo>
                  <a:pt x="1822450" y="0"/>
                </a:lnTo>
                <a:lnTo>
                  <a:pt x="1720850" y="0"/>
                </a:lnTo>
                <a:lnTo>
                  <a:pt x="1612900" y="0"/>
                </a:lnTo>
                <a:lnTo>
                  <a:pt x="1498600" y="6350"/>
                </a:lnTo>
                <a:lnTo>
                  <a:pt x="1377950" y="19050"/>
                </a:lnTo>
                <a:lnTo>
                  <a:pt x="1244600" y="38100"/>
                </a:lnTo>
                <a:lnTo>
                  <a:pt x="1104900" y="63500"/>
                </a:lnTo>
                <a:lnTo>
                  <a:pt x="965200" y="101600"/>
                </a:lnTo>
                <a:lnTo>
                  <a:pt x="844550" y="146050"/>
                </a:lnTo>
                <a:lnTo>
                  <a:pt x="730250" y="190500"/>
                </a:lnTo>
                <a:lnTo>
                  <a:pt x="635000" y="228600"/>
                </a:lnTo>
                <a:lnTo>
                  <a:pt x="558800" y="260350"/>
                </a:lnTo>
                <a:lnTo>
                  <a:pt x="482600" y="298450"/>
                </a:lnTo>
                <a:lnTo>
                  <a:pt x="419100" y="330200"/>
                </a:lnTo>
                <a:lnTo>
                  <a:pt x="361950" y="361950"/>
                </a:lnTo>
                <a:lnTo>
                  <a:pt x="361950" y="361950"/>
                </a:lnTo>
                <a:lnTo>
                  <a:pt x="311150" y="387350"/>
                </a:lnTo>
                <a:lnTo>
                  <a:pt x="311150" y="3873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p:transition>
    <p:wipe dir="r"/>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36"/>
                                        </p:tgtEl>
                                        <p:attrNameLst>
                                          <p:attrName>style.visibility</p:attrName>
                                        </p:attrNameLst>
                                      </p:cBhvr>
                                      <p:to>
                                        <p:strVal val="visible"/>
                                      </p:to>
                                    </p:set>
                                    <p:animEffect filter="wipe(left)" transition="in">
                                      <p:cBhvr additive="repl">
                                        <p:cTn id="143" dur="500"/>
                                        <p:tgtEl>
                                          <p:spTgt spid="136"/>
                                        </p:tgtEl>
                                      </p:cBhvr>
                                    </p:animEffect>
                                  </p:childTnLst>
                                </p:cTn>
                              </p:par>
                            </p:childTnLst>
                          </p:cTn>
                        </p:par>
                        <p:par>
                          <p:cTn id="144" nodeType="afterEffect" fill="hold">
                            <p:stCondLst>
                              <p:cond delay="500"/>
                            </p:stCondLst>
                            <p:childTnLst>
                              <p:par>
                                <p:cTn id="145" nodeType="afterEffect" fill="hold" presetClass="entr" presetID="22" presetSubtype="1">
                                  <p:stCondLst>
                                    <p:cond delay="0"/>
                                  </p:stCondLst>
                                  <p:childTnLst>
                                    <p:set>
                                      <p:cBhvr>
                                        <p:cTn id="146" dur="1" fill="hold">
                                          <p:stCondLst>
                                            <p:cond delay="0"/>
                                          </p:stCondLst>
                                        </p:cTn>
                                        <p:tgtEl>
                                          <p:spTgt spid="133"/>
                                        </p:tgtEl>
                                        <p:attrNameLst>
                                          <p:attrName>style.visibility</p:attrName>
                                        </p:attrNameLst>
                                      </p:cBhvr>
                                      <p:to>
                                        <p:strVal val="visible"/>
                                      </p:to>
                                    </p:set>
                                    <p:animEffect filter="wipe(up)" transition="in">
                                      <p:cBhvr additive="repl">
                                        <p:cTn id="147" dur="500"/>
                                        <p:tgtEl>
                                          <p:spTgt spid="133"/>
                                        </p:tgtEl>
                                      </p:cBhvr>
                                    </p:animEffect>
                                  </p:childTnLst>
                                </p:cTn>
                              </p:par>
                            </p:childTnLst>
                          </p:cTn>
                        </p:par>
                        <p:par>
                          <p:cTn id="148" nodeType="afterEffect" fill="hold">
                            <p:stCondLst>
                              <p:cond delay="1000"/>
                            </p:stCondLst>
                            <p:childTnLst>
                              <p:par>
                                <p:cTn id="149" nodeType="afterEffect" fill="hold" presetClass="entr" presetID="22" presetSubtype="1">
                                  <p:stCondLst>
                                    <p:cond delay="0"/>
                                  </p:stCondLst>
                                  <p:childTnLst>
                                    <p:set>
                                      <p:cBhvr>
                                        <p:cTn id="150" dur="1" fill="hold">
                                          <p:stCondLst>
                                            <p:cond delay="0"/>
                                          </p:stCondLst>
                                        </p:cTn>
                                        <p:tgtEl>
                                          <p:spTgt spid="134"/>
                                        </p:tgtEl>
                                        <p:attrNameLst>
                                          <p:attrName>style.visibility</p:attrName>
                                        </p:attrNameLst>
                                      </p:cBhvr>
                                      <p:to>
                                        <p:strVal val="visible"/>
                                      </p:to>
                                    </p:set>
                                    <p:animEffect filter="wipe(up)" transition="in">
                                      <p:cBhvr additive="repl">
                                        <p:cTn id="151" dur="500"/>
                                        <p:tgtEl>
                                          <p:spTgt spid="134"/>
                                        </p:tgtEl>
                                      </p:cBhvr>
                                    </p:animEffect>
                                  </p:childTnLst>
                                </p:cTn>
                              </p:par>
                            </p:childTnLst>
                          </p:cTn>
                        </p:par>
                        <p:par>
                          <p:cTn id="152" nodeType="afterEffect" fill="hold">
                            <p:stCondLst>
                              <p:cond delay="1500"/>
                            </p:stCondLst>
                            <p:childTnLst>
                              <p:par>
                                <p:cTn id="153" nodeType="afterEffect" fill="hold" presetClass="entr" presetID="22" presetSubtype="1">
                                  <p:stCondLst>
                                    <p:cond delay="0"/>
                                  </p:stCondLst>
                                  <p:childTnLst>
                                    <p:set>
                                      <p:cBhvr>
                                        <p:cTn id="154" dur="1" fill="hold">
                                          <p:stCondLst>
                                            <p:cond delay="0"/>
                                          </p:stCondLst>
                                        </p:cTn>
                                        <p:tgtEl>
                                          <p:spTgt spid="135"/>
                                        </p:tgtEl>
                                        <p:attrNameLst>
                                          <p:attrName>style.visibility</p:attrName>
                                        </p:attrNameLst>
                                      </p:cBhvr>
                                      <p:to>
                                        <p:strVal val="visible"/>
                                      </p:to>
                                    </p:set>
                                    <p:animEffect filter="wipe(up)" transition="in">
                                      <p:cBhvr additive="repl">
                                        <p:cTn id="155" dur="500"/>
                                        <p:tgtEl>
                                          <p:spTgt spid="135"/>
                                        </p:tgtEl>
                                      </p:cBhvr>
                                    </p:animEffect>
                                  </p:childTnLst>
                                </p:cTn>
                              </p:par>
                            </p:childTnLst>
                          </p:cTn>
                        </p:par>
                        <p:par>
                          <p:cTn id="156" nodeType="afterEffect" fill="hold">
                            <p:stCondLst>
                              <p:cond delay="2000"/>
                            </p:stCondLst>
                            <p:childTnLst>
                              <p:par>
                                <p:cTn id="157" nodeType="afterEffect" fill="hold" presetClass="entr" presetID="1">
                                  <p:stCondLst>
                                    <p:cond delay="0"/>
                                  </p:stCondLst>
                                  <p:childTnLst>
                                    <p:set>
                                      <p:cBhvr>
                                        <p:cTn id="158"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0" y="0"/>
            <a:ext cx="9144000" cy="6858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1" name="Picture 10" descr="WGE0030D.JPG"/>
          <p:cNvPicPr/>
          <p:nvPr/>
        </p:nvPicPr>
        <p:blipFill>
          <a:blip r:embed="rId1"/>
          <a:stretch/>
        </p:blipFill>
        <p:spPr>
          <a:xfrm>
            <a:off x="304920" y="285840"/>
            <a:ext cx="4267080" cy="6267240"/>
          </a:xfrm>
          <a:prstGeom prst="rect">
            <a:avLst/>
          </a:prstGeom>
          <a:ln w="0">
            <a:noFill/>
          </a:ln>
        </p:spPr>
      </p:pic>
      <p:sp>
        <p:nvSpPr>
          <p:cNvPr id="142" name="Text Box 13"/>
          <p:cNvSpPr/>
          <p:nvPr/>
        </p:nvSpPr>
        <p:spPr>
          <a:xfrm rot="990600">
            <a:off x="4955040" y="773280"/>
            <a:ext cx="3962160" cy="169452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u="sng">
                <a:solidFill>
                  <a:srgbClr val="ff6600"/>
                </a:solidFill>
                <a:uFillTx/>
                <a:latin typeface="Verdana"/>
              </a:rPr>
              <a:t>What do you think this character is like? </a:t>
            </a:r>
            <a:endParaRPr b="0" lang="en-US" sz="3500" spc="-1" strike="noStrike">
              <a:solidFill>
                <a:srgbClr val="000000"/>
              </a:solidFill>
              <a:latin typeface="Verdana"/>
            </a:endParaRPr>
          </a:p>
        </p:txBody>
      </p:sp>
      <p:sp>
        <p:nvSpPr>
          <p:cNvPr id="143" name="Freeform 1"/>
          <p:cNvSpPr/>
          <p:nvPr/>
        </p:nvSpPr>
        <p:spPr>
          <a:xfrm>
            <a:off x="444600" y="2063880"/>
            <a:ext cx="139680" cy="399960"/>
          </a:xfrm>
          <a:custGeom>
            <a:avLst/>
            <a:gdLst>
              <a:gd name="textAreaLeft" fmla="*/ 0 w 139680"/>
              <a:gd name="textAreaRight" fmla="*/ 140040 w 139680"/>
              <a:gd name="textAreaTop" fmla="*/ 0 h 399960"/>
              <a:gd name="textAreaBottom" fmla="*/ 400320 h 399960"/>
            </a:gdLst>
            <a:ahLst/>
            <a:rect l="textAreaLeft" t="textAreaTop" r="textAreaRight" b="textAreaBottom"/>
            <a:pathLst>
              <a:path w="139701" h="400051">
                <a:moveTo>
                  <a:pt x="0" y="0"/>
                </a:moveTo>
                <a:lnTo>
                  <a:pt x="0" y="0"/>
                </a:lnTo>
                <a:lnTo>
                  <a:pt x="0" y="0"/>
                </a:lnTo>
                <a:lnTo>
                  <a:pt x="0" y="0"/>
                </a:lnTo>
                <a:lnTo>
                  <a:pt x="0" y="0"/>
                </a:lnTo>
                <a:lnTo>
                  <a:pt x="0" y="0"/>
                </a:lnTo>
                <a:lnTo>
                  <a:pt x="0" y="0"/>
                </a:lnTo>
                <a:lnTo>
                  <a:pt x="6350" y="6350"/>
                </a:lnTo>
                <a:lnTo>
                  <a:pt x="6350" y="6350"/>
                </a:lnTo>
                <a:lnTo>
                  <a:pt x="12700" y="12700"/>
                </a:lnTo>
                <a:lnTo>
                  <a:pt x="12700" y="19050"/>
                </a:lnTo>
                <a:lnTo>
                  <a:pt x="19050" y="31750"/>
                </a:lnTo>
                <a:lnTo>
                  <a:pt x="19050" y="38100"/>
                </a:lnTo>
                <a:lnTo>
                  <a:pt x="25400" y="50800"/>
                </a:lnTo>
                <a:lnTo>
                  <a:pt x="25400" y="63500"/>
                </a:lnTo>
                <a:lnTo>
                  <a:pt x="31750" y="76200"/>
                </a:lnTo>
                <a:lnTo>
                  <a:pt x="31750" y="95250"/>
                </a:lnTo>
                <a:lnTo>
                  <a:pt x="38100" y="114300"/>
                </a:lnTo>
                <a:lnTo>
                  <a:pt x="44450" y="133350"/>
                </a:lnTo>
                <a:lnTo>
                  <a:pt x="50800" y="152400"/>
                </a:lnTo>
                <a:lnTo>
                  <a:pt x="50800" y="177800"/>
                </a:lnTo>
                <a:lnTo>
                  <a:pt x="63500" y="203200"/>
                </a:lnTo>
                <a:lnTo>
                  <a:pt x="69850" y="228600"/>
                </a:lnTo>
                <a:lnTo>
                  <a:pt x="76200" y="254000"/>
                </a:lnTo>
                <a:lnTo>
                  <a:pt x="82550" y="279400"/>
                </a:lnTo>
                <a:lnTo>
                  <a:pt x="95250" y="298450"/>
                </a:lnTo>
                <a:lnTo>
                  <a:pt x="101600" y="317500"/>
                </a:lnTo>
                <a:lnTo>
                  <a:pt x="114300" y="342900"/>
                </a:lnTo>
                <a:lnTo>
                  <a:pt x="120650" y="361950"/>
                </a:lnTo>
                <a:lnTo>
                  <a:pt x="127000" y="374650"/>
                </a:lnTo>
                <a:lnTo>
                  <a:pt x="127000" y="387350"/>
                </a:lnTo>
                <a:lnTo>
                  <a:pt x="133350" y="393700"/>
                </a:lnTo>
                <a:lnTo>
                  <a:pt x="139700" y="400050"/>
                </a:lnTo>
                <a:lnTo>
                  <a:pt x="139700" y="400050"/>
                </a:lnTo>
                <a:lnTo>
                  <a:pt x="139700" y="400050"/>
                </a:lnTo>
                <a:lnTo>
                  <a:pt x="139700" y="400050"/>
                </a:lnTo>
                <a:lnTo>
                  <a:pt x="139700" y="393700"/>
                </a:lnTo>
                <a:lnTo>
                  <a:pt x="139700" y="3937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44" name="Freeform 5"/>
          <p:cNvSpPr/>
          <p:nvPr/>
        </p:nvSpPr>
        <p:spPr>
          <a:xfrm>
            <a:off x="412920" y="1968480"/>
            <a:ext cx="558720" cy="520560"/>
          </a:xfrm>
          <a:custGeom>
            <a:avLst/>
            <a:gdLst>
              <a:gd name="textAreaLeft" fmla="*/ 0 w 558720"/>
              <a:gd name="textAreaRight" fmla="*/ 559080 w 558720"/>
              <a:gd name="textAreaTop" fmla="*/ 0 h 520560"/>
              <a:gd name="textAreaBottom" fmla="*/ 520920 h 520560"/>
            </a:gdLst>
            <a:ahLst/>
            <a:rect l="textAreaLeft" t="textAreaTop" r="textAreaRight" b="textAreaBottom"/>
            <a:pathLst>
              <a:path w="558801" h="520701">
                <a:moveTo>
                  <a:pt x="6350" y="133350"/>
                </a:moveTo>
                <a:lnTo>
                  <a:pt x="6350" y="133350"/>
                </a:lnTo>
                <a:lnTo>
                  <a:pt x="0" y="127000"/>
                </a:lnTo>
                <a:lnTo>
                  <a:pt x="0" y="127000"/>
                </a:lnTo>
                <a:lnTo>
                  <a:pt x="0" y="120650"/>
                </a:lnTo>
                <a:lnTo>
                  <a:pt x="0" y="114300"/>
                </a:lnTo>
                <a:lnTo>
                  <a:pt x="0" y="107950"/>
                </a:lnTo>
                <a:lnTo>
                  <a:pt x="0" y="101600"/>
                </a:lnTo>
                <a:lnTo>
                  <a:pt x="6350" y="88900"/>
                </a:lnTo>
                <a:lnTo>
                  <a:pt x="6350" y="76200"/>
                </a:lnTo>
                <a:lnTo>
                  <a:pt x="12700" y="69850"/>
                </a:lnTo>
                <a:lnTo>
                  <a:pt x="19050" y="57150"/>
                </a:lnTo>
                <a:lnTo>
                  <a:pt x="31750" y="44450"/>
                </a:lnTo>
                <a:lnTo>
                  <a:pt x="38100" y="38100"/>
                </a:lnTo>
                <a:lnTo>
                  <a:pt x="57150" y="31750"/>
                </a:lnTo>
                <a:lnTo>
                  <a:pt x="69850" y="19050"/>
                </a:lnTo>
                <a:lnTo>
                  <a:pt x="88900" y="12700"/>
                </a:lnTo>
                <a:lnTo>
                  <a:pt x="107950" y="6350"/>
                </a:lnTo>
                <a:lnTo>
                  <a:pt x="127000" y="6350"/>
                </a:lnTo>
                <a:lnTo>
                  <a:pt x="146050" y="0"/>
                </a:lnTo>
                <a:lnTo>
                  <a:pt x="165100" y="0"/>
                </a:lnTo>
                <a:lnTo>
                  <a:pt x="190500" y="6350"/>
                </a:lnTo>
                <a:lnTo>
                  <a:pt x="209550" y="6350"/>
                </a:lnTo>
                <a:lnTo>
                  <a:pt x="228600" y="12700"/>
                </a:lnTo>
                <a:lnTo>
                  <a:pt x="247650" y="25400"/>
                </a:lnTo>
                <a:lnTo>
                  <a:pt x="266700" y="31750"/>
                </a:lnTo>
                <a:lnTo>
                  <a:pt x="279400" y="44450"/>
                </a:lnTo>
                <a:lnTo>
                  <a:pt x="285750" y="57150"/>
                </a:lnTo>
                <a:lnTo>
                  <a:pt x="298450" y="69850"/>
                </a:lnTo>
                <a:lnTo>
                  <a:pt x="298450" y="82550"/>
                </a:lnTo>
                <a:lnTo>
                  <a:pt x="298450" y="101600"/>
                </a:lnTo>
                <a:lnTo>
                  <a:pt x="292100" y="120650"/>
                </a:lnTo>
                <a:lnTo>
                  <a:pt x="279400" y="133350"/>
                </a:lnTo>
                <a:lnTo>
                  <a:pt x="266700" y="152400"/>
                </a:lnTo>
                <a:lnTo>
                  <a:pt x="254000" y="171450"/>
                </a:lnTo>
                <a:lnTo>
                  <a:pt x="241300" y="190500"/>
                </a:lnTo>
                <a:lnTo>
                  <a:pt x="222250" y="209550"/>
                </a:lnTo>
                <a:lnTo>
                  <a:pt x="203200" y="222250"/>
                </a:lnTo>
                <a:lnTo>
                  <a:pt x="190500" y="241300"/>
                </a:lnTo>
                <a:lnTo>
                  <a:pt x="171450" y="254000"/>
                </a:lnTo>
                <a:lnTo>
                  <a:pt x="158750" y="266700"/>
                </a:lnTo>
                <a:lnTo>
                  <a:pt x="146050" y="273050"/>
                </a:lnTo>
                <a:lnTo>
                  <a:pt x="133350" y="279400"/>
                </a:lnTo>
                <a:lnTo>
                  <a:pt x="127000" y="279400"/>
                </a:lnTo>
                <a:lnTo>
                  <a:pt x="127000" y="285750"/>
                </a:lnTo>
                <a:lnTo>
                  <a:pt x="127000" y="285750"/>
                </a:lnTo>
                <a:lnTo>
                  <a:pt x="127000" y="285750"/>
                </a:lnTo>
                <a:lnTo>
                  <a:pt x="133350" y="279400"/>
                </a:lnTo>
                <a:lnTo>
                  <a:pt x="139700" y="273050"/>
                </a:lnTo>
                <a:lnTo>
                  <a:pt x="152400" y="266700"/>
                </a:lnTo>
                <a:lnTo>
                  <a:pt x="158750" y="260350"/>
                </a:lnTo>
                <a:lnTo>
                  <a:pt x="184150" y="247650"/>
                </a:lnTo>
                <a:lnTo>
                  <a:pt x="203200" y="241300"/>
                </a:lnTo>
                <a:lnTo>
                  <a:pt x="222250" y="228600"/>
                </a:lnTo>
                <a:lnTo>
                  <a:pt x="247650" y="222250"/>
                </a:lnTo>
                <a:lnTo>
                  <a:pt x="266700" y="215900"/>
                </a:lnTo>
                <a:lnTo>
                  <a:pt x="292100" y="209550"/>
                </a:lnTo>
                <a:lnTo>
                  <a:pt x="317500" y="203200"/>
                </a:lnTo>
                <a:lnTo>
                  <a:pt x="349250" y="203200"/>
                </a:lnTo>
                <a:lnTo>
                  <a:pt x="374650" y="196850"/>
                </a:lnTo>
                <a:lnTo>
                  <a:pt x="393700" y="203200"/>
                </a:lnTo>
                <a:lnTo>
                  <a:pt x="425450" y="203200"/>
                </a:lnTo>
                <a:lnTo>
                  <a:pt x="444500" y="209550"/>
                </a:lnTo>
                <a:lnTo>
                  <a:pt x="469900" y="215900"/>
                </a:lnTo>
                <a:lnTo>
                  <a:pt x="488950" y="222250"/>
                </a:lnTo>
                <a:lnTo>
                  <a:pt x="508000" y="228600"/>
                </a:lnTo>
                <a:lnTo>
                  <a:pt x="527050" y="241300"/>
                </a:lnTo>
                <a:lnTo>
                  <a:pt x="539750" y="247650"/>
                </a:lnTo>
                <a:lnTo>
                  <a:pt x="546100" y="266700"/>
                </a:lnTo>
                <a:lnTo>
                  <a:pt x="552450" y="273050"/>
                </a:lnTo>
                <a:lnTo>
                  <a:pt x="558800" y="292100"/>
                </a:lnTo>
                <a:lnTo>
                  <a:pt x="558800" y="304800"/>
                </a:lnTo>
                <a:lnTo>
                  <a:pt x="552450" y="317500"/>
                </a:lnTo>
                <a:lnTo>
                  <a:pt x="546100" y="336550"/>
                </a:lnTo>
                <a:lnTo>
                  <a:pt x="533400" y="349250"/>
                </a:lnTo>
                <a:lnTo>
                  <a:pt x="520700" y="368300"/>
                </a:lnTo>
                <a:lnTo>
                  <a:pt x="501650" y="387350"/>
                </a:lnTo>
                <a:lnTo>
                  <a:pt x="488950" y="406400"/>
                </a:lnTo>
                <a:lnTo>
                  <a:pt x="463550" y="419100"/>
                </a:lnTo>
                <a:lnTo>
                  <a:pt x="444500" y="431800"/>
                </a:lnTo>
                <a:lnTo>
                  <a:pt x="419100" y="450850"/>
                </a:lnTo>
                <a:lnTo>
                  <a:pt x="393700" y="463550"/>
                </a:lnTo>
                <a:lnTo>
                  <a:pt x="368300" y="476250"/>
                </a:lnTo>
                <a:lnTo>
                  <a:pt x="342900" y="482600"/>
                </a:lnTo>
                <a:lnTo>
                  <a:pt x="317500" y="495300"/>
                </a:lnTo>
                <a:lnTo>
                  <a:pt x="298450" y="501650"/>
                </a:lnTo>
                <a:lnTo>
                  <a:pt x="273050" y="514350"/>
                </a:lnTo>
                <a:lnTo>
                  <a:pt x="254000" y="514350"/>
                </a:lnTo>
                <a:lnTo>
                  <a:pt x="241300" y="520700"/>
                </a:lnTo>
                <a:lnTo>
                  <a:pt x="222250" y="520700"/>
                </a:lnTo>
                <a:lnTo>
                  <a:pt x="209550" y="520700"/>
                </a:lnTo>
                <a:lnTo>
                  <a:pt x="203200" y="520700"/>
                </a:lnTo>
                <a:lnTo>
                  <a:pt x="203200" y="520700"/>
                </a:lnTo>
                <a:lnTo>
                  <a:pt x="196850" y="514350"/>
                </a:lnTo>
                <a:lnTo>
                  <a:pt x="196850" y="5143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45" name="Freeform 6"/>
          <p:cNvSpPr/>
          <p:nvPr/>
        </p:nvSpPr>
        <p:spPr>
          <a:xfrm>
            <a:off x="977760" y="2025720"/>
            <a:ext cx="279720" cy="272880"/>
          </a:xfrm>
          <a:custGeom>
            <a:avLst/>
            <a:gdLst>
              <a:gd name="textAreaLeft" fmla="*/ 0 w 279720"/>
              <a:gd name="textAreaRight" fmla="*/ 280080 w 279720"/>
              <a:gd name="textAreaTop" fmla="*/ 0 h 272880"/>
              <a:gd name="textAreaBottom" fmla="*/ 273240 h 272880"/>
            </a:gdLst>
            <a:ahLst/>
            <a:rect l="textAreaLeft" t="textAreaTop" r="textAreaRight" b="textAreaBottom"/>
            <a:pathLst>
              <a:path w="279401" h="273051">
                <a:moveTo>
                  <a:pt x="69850" y="222250"/>
                </a:moveTo>
                <a:lnTo>
                  <a:pt x="69850" y="222250"/>
                </a:lnTo>
                <a:lnTo>
                  <a:pt x="69850" y="222250"/>
                </a:lnTo>
                <a:lnTo>
                  <a:pt x="69850" y="222250"/>
                </a:lnTo>
                <a:lnTo>
                  <a:pt x="69850" y="222250"/>
                </a:lnTo>
                <a:lnTo>
                  <a:pt x="69850" y="215900"/>
                </a:lnTo>
                <a:lnTo>
                  <a:pt x="76200" y="215900"/>
                </a:lnTo>
                <a:lnTo>
                  <a:pt x="82550" y="209550"/>
                </a:lnTo>
                <a:lnTo>
                  <a:pt x="88900" y="203200"/>
                </a:lnTo>
                <a:lnTo>
                  <a:pt x="95250" y="196850"/>
                </a:lnTo>
                <a:lnTo>
                  <a:pt x="107950" y="184150"/>
                </a:lnTo>
                <a:lnTo>
                  <a:pt x="114300" y="171450"/>
                </a:lnTo>
                <a:lnTo>
                  <a:pt x="127000" y="165100"/>
                </a:lnTo>
                <a:lnTo>
                  <a:pt x="139700" y="146050"/>
                </a:lnTo>
                <a:lnTo>
                  <a:pt x="146050" y="133350"/>
                </a:lnTo>
                <a:lnTo>
                  <a:pt x="158750" y="120650"/>
                </a:lnTo>
                <a:lnTo>
                  <a:pt x="165100" y="107950"/>
                </a:lnTo>
                <a:lnTo>
                  <a:pt x="171450" y="95250"/>
                </a:lnTo>
                <a:lnTo>
                  <a:pt x="177800" y="82550"/>
                </a:lnTo>
                <a:lnTo>
                  <a:pt x="184150" y="69850"/>
                </a:lnTo>
                <a:lnTo>
                  <a:pt x="190500" y="57150"/>
                </a:lnTo>
                <a:lnTo>
                  <a:pt x="190500" y="50800"/>
                </a:lnTo>
                <a:lnTo>
                  <a:pt x="190500" y="38100"/>
                </a:lnTo>
                <a:lnTo>
                  <a:pt x="184150" y="31750"/>
                </a:lnTo>
                <a:lnTo>
                  <a:pt x="184150" y="19050"/>
                </a:lnTo>
                <a:lnTo>
                  <a:pt x="177800" y="12700"/>
                </a:lnTo>
                <a:lnTo>
                  <a:pt x="165100" y="6350"/>
                </a:lnTo>
                <a:lnTo>
                  <a:pt x="158750" y="6350"/>
                </a:lnTo>
                <a:lnTo>
                  <a:pt x="146050" y="6350"/>
                </a:lnTo>
                <a:lnTo>
                  <a:pt x="133350" y="0"/>
                </a:lnTo>
                <a:lnTo>
                  <a:pt x="120650" y="6350"/>
                </a:lnTo>
                <a:lnTo>
                  <a:pt x="107950" y="6350"/>
                </a:lnTo>
                <a:lnTo>
                  <a:pt x="95250" y="12700"/>
                </a:lnTo>
                <a:lnTo>
                  <a:pt x="82550" y="19050"/>
                </a:lnTo>
                <a:lnTo>
                  <a:pt x="69850" y="31750"/>
                </a:lnTo>
                <a:lnTo>
                  <a:pt x="57150" y="44450"/>
                </a:lnTo>
                <a:lnTo>
                  <a:pt x="38100" y="57150"/>
                </a:lnTo>
                <a:lnTo>
                  <a:pt x="25400" y="63500"/>
                </a:lnTo>
                <a:lnTo>
                  <a:pt x="19050" y="82550"/>
                </a:lnTo>
                <a:lnTo>
                  <a:pt x="12700" y="95250"/>
                </a:lnTo>
                <a:lnTo>
                  <a:pt x="6350" y="107950"/>
                </a:lnTo>
                <a:lnTo>
                  <a:pt x="0" y="127000"/>
                </a:lnTo>
                <a:lnTo>
                  <a:pt x="0" y="139700"/>
                </a:lnTo>
                <a:lnTo>
                  <a:pt x="0" y="158750"/>
                </a:lnTo>
                <a:lnTo>
                  <a:pt x="0" y="171450"/>
                </a:lnTo>
                <a:lnTo>
                  <a:pt x="6350" y="184150"/>
                </a:lnTo>
                <a:lnTo>
                  <a:pt x="12700" y="203200"/>
                </a:lnTo>
                <a:lnTo>
                  <a:pt x="19050" y="215900"/>
                </a:lnTo>
                <a:lnTo>
                  <a:pt x="25400" y="228600"/>
                </a:lnTo>
                <a:lnTo>
                  <a:pt x="31750" y="241300"/>
                </a:lnTo>
                <a:lnTo>
                  <a:pt x="44450" y="247650"/>
                </a:lnTo>
                <a:lnTo>
                  <a:pt x="63500" y="254000"/>
                </a:lnTo>
                <a:lnTo>
                  <a:pt x="76200" y="260350"/>
                </a:lnTo>
                <a:lnTo>
                  <a:pt x="88900" y="266700"/>
                </a:lnTo>
                <a:lnTo>
                  <a:pt x="107950" y="273050"/>
                </a:lnTo>
                <a:lnTo>
                  <a:pt x="127000" y="273050"/>
                </a:lnTo>
                <a:lnTo>
                  <a:pt x="146050" y="266700"/>
                </a:lnTo>
                <a:lnTo>
                  <a:pt x="165100" y="266700"/>
                </a:lnTo>
                <a:lnTo>
                  <a:pt x="184150" y="260350"/>
                </a:lnTo>
                <a:lnTo>
                  <a:pt x="203200" y="254000"/>
                </a:lnTo>
                <a:lnTo>
                  <a:pt x="215900" y="241300"/>
                </a:lnTo>
                <a:lnTo>
                  <a:pt x="234950" y="234950"/>
                </a:lnTo>
                <a:lnTo>
                  <a:pt x="247650" y="222250"/>
                </a:lnTo>
                <a:lnTo>
                  <a:pt x="260350" y="215900"/>
                </a:lnTo>
                <a:lnTo>
                  <a:pt x="266700" y="196850"/>
                </a:lnTo>
                <a:lnTo>
                  <a:pt x="273050" y="190500"/>
                </a:lnTo>
                <a:lnTo>
                  <a:pt x="273050" y="190500"/>
                </a:lnTo>
                <a:lnTo>
                  <a:pt x="279400" y="177800"/>
                </a:lnTo>
                <a:lnTo>
                  <a:pt x="279400" y="1778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46" name="Freeform 7"/>
          <p:cNvSpPr/>
          <p:nvPr/>
        </p:nvSpPr>
        <p:spPr>
          <a:xfrm>
            <a:off x="1219320" y="1930320"/>
            <a:ext cx="399960" cy="292320"/>
          </a:xfrm>
          <a:custGeom>
            <a:avLst/>
            <a:gdLst>
              <a:gd name="textAreaLeft" fmla="*/ 0 w 399960"/>
              <a:gd name="textAreaRight" fmla="*/ 400320 w 399960"/>
              <a:gd name="textAreaTop" fmla="*/ 0 h 292320"/>
              <a:gd name="textAreaBottom" fmla="*/ 292680 h 292320"/>
            </a:gdLst>
            <a:ahLst/>
            <a:rect l="textAreaLeft" t="textAreaTop" r="textAreaRight" b="textAreaBottom"/>
            <a:pathLst>
              <a:path w="400051" h="292101">
                <a:moveTo>
                  <a:pt x="0" y="139700"/>
                </a:moveTo>
                <a:lnTo>
                  <a:pt x="0" y="139700"/>
                </a:lnTo>
                <a:lnTo>
                  <a:pt x="0" y="139700"/>
                </a:lnTo>
                <a:lnTo>
                  <a:pt x="0" y="133350"/>
                </a:lnTo>
                <a:lnTo>
                  <a:pt x="0" y="120650"/>
                </a:lnTo>
                <a:lnTo>
                  <a:pt x="0" y="114300"/>
                </a:lnTo>
                <a:lnTo>
                  <a:pt x="6350" y="101600"/>
                </a:lnTo>
                <a:lnTo>
                  <a:pt x="12700" y="88900"/>
                </a:lnTo>
                <a:lnTo>
                  <a:pt x="19050" y="76200"/>
                </a:lnTo>
                <a:lnTo>
                  <a:pt x="25400" y="63500"/>
                </a:lnTo>
                <a:lnTo>
                  <a:pt x="38100" y="44450"/>
                </a:lnTo>
                <a:lnTo>
                  <a:pt x="50800" y="38100"/>
                </a:lnTo>
                <a:lnTo>
                  <a:pt x="63500" y="25400"/>
                </a:lnTo>
                <a:lnTo>
                  <a:pt x="82550" y="19050"/>
                </a:lnTo>
                <a:lnTo>
                  <a:pt x="101600" y="12700"/>
                </a:lnTo>
                <a:lnTo>
                  <a:pt x="120650" y="6350"/>
                </a:lnTo>
                <a:lnTo>
                  <a:pt x="139700" y="0"/>
                </a:lnTo>
                <a:lnTo>
                  <a:pt x="158750" y="0"/>
                </a:lnTo>
                <a:lnTo>
                  <a:pt x="177800" y="6350"/>
                </a:lnTo>
                <a:lnTo>
                  <a:pt x="196850" y="6350"/>
                </a:lnTo>
                <a:lnTo>
                  <a:pt x="215900" y="12700"/>
                </a:lnTo>
                <a:lnTo>
                  <a:pt x="234950" y="25400"/>
                </a:lnTo>
                <a:lnTo>
                  <a:pt x="254000" y="38100"/>
                </a:lnTo>
                <a:lnTo>
                  <a:pt x="273050" y="57150"/>
                </a:lnTo>
                <a:lnTo>
                  <a:pt x="292100" y="69850"/>
                </a:lnTo>
                <a:lnTo>
                  <a:pt x="304800" y="95250"/>
                </a:lnTo>
                <a:lnTo>
                  <a:pt x="317500" y="107950"/>
                </a:lnTo>
                <a:lnTo>
                  <a:pt x="330200" y="127000"/>
                </a:lnTo>
                <a:lnTo>
                  <a:pt x="342900" y="146050"/>
                </a:lnTo>
                <a:lnTo>
                  <a:pt x="355600" y="158750"/>
                </a:lnTo>
                <a:lnTo>
                  <a:pt x="361950" y="177800"/>
                </a:lnTo>
                <a:lnTo>
                  <a:pt x="368300" y="190500"/>
                </a:lnTo>
                <a:lnTo>
                  <a:pt x="374650" y="196850"/>
                </a:lnTo>
                <a:lnTo>
                  <a:pt x="381000" y="203200"/>
                </a:lnTo>
                <a:lnTo>
                  <a:pt x="387350" y="209550"/>
                </a:lnTo>
                <a:lnTo>
                  <a:pt x="387350" y="215900"/>
                </a:lnTo>
                <a:lnTo>
                  <a:pt x="393700" y="215900"/>
                </a:lnTo>
                <a:lnTo>
                  <a:pt x="393700" y="209550"/>
                </a:lnTo>
                <a:lnTo>
                  <a:pt x="387350" y="209550"/>
                </a:lnTo>
                <a:lnTo>
                  <a:pt x="387350" y="203200"/>
                </a:lnTo>
                <a:lnTo>
                  <a:pt x="381000" y="196850"/>
                </a:lnTo>
                <a:lnTo>
                  <a:pt x="368300" y="184150"/>
                </a:lnTo>
                <a:lnTo>
                  <a:pt x="361950" y="171450"/>
                </a:lnTo>
                <a:lnTo>
                  <a:pt x="349250" y="158750"/>
                </a:lnTo>
                <a:lnTo>
                  <a:pt x="336550" y="146050"/>
                </a:lnTo>
                <a:lnTo>
                  <a:pt x="317500" y="133350"/>
                </a:lnTo>
                <a:lnTo>
                  <a:pt x="304800" y="127000"/>
                </a:lnTo>
                <a:lnTo>
                  <a:pt x="285750" y="120650"/>
                </a:lnTo>
                <a:lnTo>
                  <a:pt x="260350" y="114300"/>
                </a:lnTo>
                <a:lnTo>
                  <a:pt x="241300" y="107950"/>
                </a:lnTo>
                <a:lnTo>
                  <a:pt x="222250" y="107950"/>
                </a:lnTo>
                <a:lnTo>
                  <a:pt x="196850" y="107950"/>
                </a:lnTo>
                <a:lnTo>
                  <a:pt x="171450" y="114300"/>
                </a:lnTo>
                <a:lnTo>
                  <a:pt x="152400" y="114300"/>
                </a:lnTo>
                <a:lnTo>
                  <a:pt x="133350" y="127000"/>
                </a:lnTo>
                <a:lnTo>
                  <a:pt x="114300" y="133350"/>
                </a:lnTo>
                <a:lnTo>
                  <a:pt x="95250" y="139700"/>
                </a:lnTo>
                <a:lnTo>
                  <a:pt x="82550" y="152400"/>
                </a:lnTo>
                <a:lnTo>
                  <a:pt x="69850" y="165100"/>
                </a:lnTo>
                <a:lnTo>
                  <a:pt x="63500" y="171450"/>
                </a:lnTo>
                <a:lnTo>
                  <a:pt x="57150" y="190500"/>
                </a:lnTo>
                <a:lnTo>
                  <a:pt x="57150" y="196850"/>
                </a:lnTo>
                <a:lnTo>
                  <a:pt x="57150" y="209550"/>
                </a:lnTo>
                <a:lnTo>
                  <a:pt x="57150" y="222250"/>
                </a:lnTo>
                <a:lnTo>
                  <a:pt x="63500" y="234950"/>
                </a:lnTo>
                <a:lnTo>
                  <a:pt x="76200" y="247650"/>
                </a:lnTo>
                <a:lnTo>
                  <a:pt x="88900" y="254000"/>
                </a:lnTo>
                <a:lnTo>
                  <a:pt x="101600" y="266700"/>
                </a:lnTo>
                <a:lnTo>
                  <a:pt x="114300" y="273050"/>
                </a:lnTo>
                <a:lnTo>
                  <a:pt x="139700" y="279400"/>
                </a:lnTo>
                <a:lnTo>
                  <a:pt x="158750" y="285750"/>
                </a:lnTo>
                <a:lnTo>
                  <a:pt x="177800" y="292100"/>
                </a:lnTo>
                <a:lnTo>
                  <a:pt x="209550" y="292100"/>
                </a:lnTo>
                <a:lnTo>
                  <a:pt x="234950" y="292100"/>
                </a:lnTo>
                <a:lnTo>
                  <a:pt x="260350" y="292100"/>
                </a:lnTo>
                <a:lnTo>
                  <a:pt x="285750" y="285750"/>
                </a:lnTo>
                <a:lnTo>
                  <a:pt x="311150" y="279400"/>
                </a:lnTo>
                <a:lnTo>
                  <a:pt x="330200" y="273050"/>
                </a:lnTo>
                <a:lnTo>
                  <a:pt x="355600" y="260350"/>
                </a:lnTo>
                <a:lnTo>
                  <a:pt x="374650" y="254000"/>
                </a:lnTo>
                <a:lnTo>
                  <a:pt x="387350" y="241300"/>
                </a:lnTo>
                <a:lnTo>
                  <a:pt x="387350" y="241300"/>
                </a:lnTo>
                <a:lnTo>
                  <a:pt x="400050" y="228600"/>
                </a:lnTo>
                <a:lnTo>
                  <a:pt x="400050" y="2286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47" name="Freeform 8"/>
          <p:cNvSpPr/>
          <p:nvPr/>
        </p:nvSpPr>
        <p:spPr>
          <a:xfrm>
            <a:off x="1606680" y="1860480"/>
            <a:ext cx="374400" cy="298440"/>
          </a:xfrm>
          <a:custGeom>
            <a:avLst/>
            <a:gdLst>
              <a:gd name="textAreaLeft" fmla="*/ 0 w 374400"/>
              <a:gd name="textAreaRight" fmla="*/ 374760 w 374400"/>
              <a:gd name="textAreaTop" fmla="*/ 0 h 298440"/>
              <a:gd name="textAreaBottom" fmla="*/ 298800 h 298440"/>
            </a:gdLst>
            <a:ahLst/>
            <a:rect l="textAreaLeft" t="textAreaTop" r="textAreaRight" b="textAreaBottom"/>
            <a:pathLst>
              <a:path w="374651" h="298451">
                <a:moveTo>
                  <a:pt x="241300" y="57150"/>
                </a:moveTo>
                <a:lnTo>
                  <a:pt x="241300" y="57150"/>
                </a:lnTo>
                <a:lnTo>
                  <a:pt x="241300" y="50800"/>
                </a:lnTo>
                <a:lnTo>
                  <a:pt x="241300" y="44450"/>
                </a:lnTo>
                <a:lnTo>
                  <a:pt x="234950" y="44450"/>
                </a:lnTo>
                <a:lnTo>
                  <a:pt x="228600" y="31750"/>
                </a:lnTo>
                <a:lnTo>
                  <a:pt x="222250" y="25400"/>
                </a:lnTo>
                <a:lnTo>
                  <a:pt x="209550" y="19050"/>
                </a:lnTo>
                <a:lnTo>
                  <a:pt x="203200" y="19050"/>
                </a:lnTo>
                <a:lnTo>
                  <a:pt x="190500" y="12700"/>
                </a:lnTo>
                <a:lnTo>
                  <a:pt x="177800" y="6350"/>
                </a:lnTo>
                <a:lnTo>
                  <a:pt x="158750" y="0"/>
                </a:lnTo>
                <a:lnTo>
                  <a:pt x="146050" y="0"/>
                </a:lnTo>
                <a:lnTo>
                  <a:pt x="127000" y="6350"/>
                </a:lnTo>
                <a:lnTo>
                  <a:pt x="107950" y="6350"/>
                </a:lnTo>
                <a:lnTo>
                  <a:pt x="88900" y="12700"/>
                </a:lnTo>
                <a:lnTo>
                  <a:pt x="69850" y="19050"/>
                </a:lnTo>
                <a:lnTo>
                  <a:pt x="57150" y="25400"/>
                </a:lnTo>
                <a:lnTo>
                  <a:pt x="44450" y="38100"/>
                </a:lnTo>
                <a:lnTo>
                  <a:pt x="31750" y="50800"/>
                </a:lnTo>
                <a:lnTo>
                  <a:pt x="19050" y="63500"/>
                </a:lnTo>
                <a:lnTo>
                  <a:pt x="12700" y="76200"/>
                </a:lnTo>
                <a:lnTo>
                  <a:pt x="6350" y="88900"/>
                </a:lnTo>
                <a:lnTo>
                  <a:pt x="0" y="107950"/>
                </a:lnTo>
                <a:lnTo>
                  <a:pt x="0" y="120650"/>
                </a:lnTo>
                <a:lnTo>
                  <a:pt x="6350" y="139700"/>
                </a:lnTo>
                <a:lnTo>
                  <a:pt x="12700" y="152400"/>
                </a:lnTo>
                <a:lnTo>
                  <a:pt x="19050" y="171450"/>
                </a:lnTo>
                <a:lnTo>
                  <a:pt x="31750" y="190500"/>
                </a:lnTo>
                <a:lnTo>
                  <a:pt x="44450" y="203200"/>
                </a:lnTo>
                <a:lnTo>
                  <a:pt x="57150" y="222250"/>
                </a:lnTo>
                <a:lnTo>
                  <a:pt x="82550" y="234950"/>
                </a:lnTo>
                <a:lnTo>
                  <a:pt x="107950" y="254000"/>
                </a:lnTo>
                <a:lnTo>
                  <a:pt x="127000" y="260350"/>
                </a:lnTo>
                <a:lnTo>
                  <a:pt x="152400" y="273050"/>
                </a:lnTo>
                <a:lnTo>
                  <a:pt x="177800" y="285750"/>
                </a:lnTo>
                <a:lnTo>
                  <a:pt x="203200" y="292100"/>
                </a:lnTo>
                <a:lnTo>
                  <a:pt x="234950" y="298450"/>
                </a:lnTo>
                <a:lnTo>
                  <a:pt x="260350" y="298450"/>
                </a:lnTo>
                <a:lnTo>
                  <a:pt x="285750" y="298450"/>
                </a:lnTo>
                <a:lnTo>
                  <a:pt x="304800" y="298450"/>
                </a:lnTo>
                <a:lnTo>
                  <a:pt x="323850" y="292100"/>
                </a:lnTo>
                <a:lnTo>
                  <a:pt x="342900" y="285750"/>
                </a:lnTo>
                <a:lnTo>
                  <a:pt x="355600" y="273050"/>
                </a:lnTo>
                <a:lnTo>
                  <a:pt x="361950" y="254000"/>
                </a:lnTo>
                <a:lnTo>
                  <a:pt x="368300" y="234950"/>
                </a:lnTo>
                <a:lnTo>
                  <a:pt x="368300" y="234950"/>
                </a:lnTo>
                <a:lnTo>
                  <a:pt x="374650" y="215900"/>
                </a:lnTo>
                <a:lnTo>
                  <a:pt x="374650" y="2159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48" name="Freeform 9"/>
          <p:cNvSpPr/>
          <p:nvPr/>
        </p:nvSpPr>
        <p:spPr>
          <a:xfrm>
            <a:off x="1835280" y="1689120"/>
            <a:ext cx="672840" cy="431640"/>
          </a:xfrm>
          <a:custGeom>
            <a:avLst/>
            <a:gdLst>
              <a:gd name="textAreaLeft" fmla="*/ 0 w 672840"/>
              <a:gd name="textAreaRight" fmla="*/ 673200 w 672840"/>
              <a:gd name="textAreaTop" fmla="*/ 0 h 431640"/>
              <a:gd name="textAreaBottom" fmla="*/ 432000 h 431640"/>
            </a:gdLst>
            <a:ahLst/>
            <a:rect l="textAreaLeft" t="textAreaTop" r="textAreaRight" b="textAreaBottom"/>
            <a:pathLst>
              <a:path w="673101" h="431801">
                <a:moveTo>
                  <a:pt x="0" y="0"/>
                </a:moveTo>
                <a:lnTo>
                  <a:pt x="6350" y="0"/>
                </a:lnTo>
                <a:lnTo>
                  <a:pt x="6350" y="0"/>
                </a:lnTo>
                <a:lnTo>
                  <a:pt x="6350" y="0"/>
                </a:lnTo>
                <a:lnTo>
                  <a:pt x="12700" y="0"/>
                </a:lnTo>
                <a:lnTo>
                  <a:pt x="12700" y="0"/>
                </a:lnTo>
                <a:lnTo>
                  <a:pt x="19050" y="0"/>
                </a:lnTo>
                <a:lnTo>
                  <a:pt x="25400" y="6350"/>
                </a:lnTo>
                <a:lnTo>
                  <a:pt x="38100" y="19050"/>
                </a:lnTo>
                <a:lnTo>
                  <a:pt x="44450" y="31750"/>
                </a:lnTo>
                <a:lnTo>
                  <a:pt x="57150" y="44450"/>
                </a:lnTo>
                <a:lnTo>
                  <a:pt x="63500" y="63500"/>
                </a:lnTo>
                <a:lnTo>
                  <a:pt x="76200" y="82550"/>
                </a:lnTo>
                <a:lnTo>
                  <a:pt x="88900" y="101600"/>
                </a:lnTo>
                <a:lnTo>
                  <a:pt x="101600" y="127000"/>
                </a:lnTo>
                <a:lnTo>
                  <a:pt x="114300" y="158750"/>
                </a:lnTo>
                <a:lnTo>
                  <a:pt x="120650" y="184150"/>
                </a:lnTo>
                <a:lnTo>
                  <a:pt x="139700" y="209550"/>
                </a:lnTo>
                <a:lnTo>
                  <a:pt x="152400" y="241300"/>
                </a:lnTo>
                <a:lnTo>
                  <a:pt x="165100" y="266700"/>
                </a:lnTo>
                <a:lnTo>
                  <a:pt x="177800" y="292100"/>
                </a:lnTo>
                <a:lnTo>
                  <a:pt x="190500" y="317500"/>
                </a:lnTo>
                <a:lnTo>
                  <a:pt x="209550" y="342900"/>
                </a:lnTo>
                <a:lnTo>
                  <a:pt x="215900" y="361950"/>
                </a:lnTo>
                <a:lnTo>
                  <a:pt x="234950" y="381000"/>
                </a:lnTo>
                <a:lnTo>
                  <a:pt x="241300" y="400050"/>
                </a:lnTo>
                <a:lnTo>
                  <a:pt x="254000" y="412750"/>
                </a:lnTo>
                <a:lnTo>
                  <a:pt x="260350" y="419100"/>
                </a:lnTo>
                <a:lnTo>
                  <a:pt x="266700" y="431800"/>
                </a:lnTo>
                <a:lnTo>
                  <a:pt x="266700" y="431800"/>
                </a:lnTo>
                <a:lnTo>
                  <a:pt x="273050" y="431800"/>
                </a:lnTo>
                <a:lnTo>
                  <a:pt x="273050" y="431800"/>
                </a:lnTo>
                <a:lnTo>
                  <a:pt x="273050" y="425450"/>
                </a:lnTo>
                <a:lnTo>
                  <a:pt x="273050" y="419100"/>
                </a:lnTo>
                <a:lnTo>
                  <a:pt x="273050" y="406400"/>
                </a:lnTo>
                <a:lnTo>
                  <a:pt x="273050" y="393700"/>
                </a:lnTo>
                <a:lnTo>
                  <a:pt x="266700" y="381000"/>
                </a:lnTo>
                <a:lnTo>
                  <a:pt x="260350" y="361950"/>
                </a:lnTo>
                <a:lnTo>
                  <a:pt x="260350" y="342900"/>
                </a:lnTo>
                <a:lnTo>
                  <a:pt x="260350" y="323850"/>
                </a:lnTo>
                <a:lnTo>
                  <a:pt x="260350" y="304800"/>
                </a:lnTo>
                <a:lnTo>
                  <a:pt x="254000" y="279400"/>
                </a:lnTo>
                <a:lnTo>
                  <a:pt x="254000" y="260350"/>
                </a:lnTo>
                <a:lnTo>
                  <a:pt x="254000" y="247650"/>
                </a:lnTo>
                <a:lnTo>
                  <a:pt x="254000" y="228600"/>
                </a:lnTo>
                <a:lnTo>
                  <a:pt x="260350" y="209550"/>
                </a:lnTo>
                <a:lnTo>
                  <a:pt x="260350" y="196850"/>
                </a:lnTo>
                <a:lnTo>
                  <a:pt x="273050" y="184150"/>
                </a:lnTo>
                <a:lnTo>
                  <a:pt x="285750" y="171450"/>
                </a:lnTo>
                <a:lnTo>
                  <a:pt x="298450" y="158750"/>
                </a:lnTo>
                <a:lnTo>
                  <a:pt x="311150" y="152400"/>
                </a:lnTo>
                <a:lnTo>
                  <a:pt x="330200" y="146050"/>
                </a:lnTo>
                <a:lnTo>
                  <a:pt x="349250" y="139700"/>
                </a:lnTo>
                <a:lnTo>
                  <a:pt x="374650" y="139700"/>
                </a:lnTo>
                <a:lnTo>
                  <a:pt x="400050" y="133350"/>
                </a:lnTo>
                <a:lnTo>
                  <a:pt x="425450" y="139700"/>
                </a:lnTo>
                <a:lnTo>
                  <a:pt x="450850" y="139700"/>
                </a:lnTo>
                <a:lnTo>
                  <a:pt x="476250" y="146050"/>
                </a:lnTo>
                <a:lnTo>
                  <a:pt x="501650" y="152400"/>
                </a:lnTo>
                <a:lnTo>
                  <a:pt x="527050" y="165100"/>
                </a:lnTo>
                <a:lnTo>
                  <a:pt x="552450" y="177800"/>
                </a:lnTo>
                <a:lnTo>
                  <a:pt x="571500" y="190500"/>
                </a:lnTo>
                <a:lnTo>
                  <a:pt x="590550" y="203200"/>
                </a:lnTo>
                <a:lnTo>
                  <a:pt x="609600" y="215900"/>
                </a:lnTo>
                <a:lnTo>
                  <a:pt x="622300" y="234950"/>
                </a:lnTo>
                <a:lnTo>
                  <a:pt x="635000" y="247650"/>
                </a:lnTo>
                <a:lnTo>
                  <a:pt x="641350" y="260350"/>
                </a:lnTo>
                <a:lnTo>
                  <a:pt x="654050" y="273050"/>
                </a:lnTo>
                <a:lnTo>
                  <a:pt x="660400" y="285750"/>
                </a:lnTo>
                <a:lnTo>
                  <a:pt x="666750" y="298450"/>
                </a:lnTo>
                <a:lnTo>
                  <a:pt x="666750" y="298450"/>
                </a:lnTo>
                <a:lnTo>
                  <a:pt x="673100" y="304800"/>
                </a:lnTo>
                <a:lnTo>
                  <a:pt x="673100" y="3048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49" name="Freeform 10"/>
          <p:cNvSpPr/>
          <p:nvPr/>
        </p:nvSpPr>
        <p:spPr>
          <a:xfrm>
            <a:off x="514440" y="2127240"/>
            <a:ext cx="2127240" cy="571680"/>
          </a:xfrm>
          <a:custGeom>
            <a:avLst/>
            <a:gdLst>
              <a:gd name="textAreaLeft" fmla="*/ 0 w 2127240"/>
              <a:gd name="textAreaRight" fmla="*/ 2127600 w 2127240"/>
              <a:gd name="textAreaTop" fmla="*/ 0 h 571680"/>
              <a:gd name="textAreaBottom" fmla="*/ 572040 h 571680"/>
            </a:gdLst>
            <a:ahLst/>
            <a:rect l="textAreaLeft" t="textAreaTop" r="textAreaRight" b="textAreaBottom"/>
            <a:pathLst>
              <a:path w="2127251" h="571501">
                <a:moveTo>
                  <a:pt x="0" y="571500"/>
                </a:moveTo>
                <a:lnTo>
                  <a:pt x="0" y="571500"/>
                </a:lnTo>
                <a:lnTo>
                  <a:pt x="0" y="571500"/>
                </a:lnTo>
                <a:lnTo>
                  <a:pt x="0" y="571500"/>
                </a:lnTo>
                <a:lnTo>
                  <a:pt x="6350" y="571500"/>
                </a:lnTo>
                <a:lnTo>
                  <a:pt x="12700" y="571500"/>
                </a:lnTo>
                <a:lnTo>
                  <a:pt x="19050" y="565150"/>
                </a:lnTo>
                <a:lnTo>
                  <a:pt x="31750" y="558800"/>
                </a:lnTo>
                <a:lnTo>
                  <a:pt x="44450" y="558800"/>
                </a:lnTo>
                <a:lnTo>
                  <a:pt x="57150" y="552450"/>
                </a:lnTo>
                <a:lnTo>
                  <a:pt x="76200" y="546100"/>
                </a:lnTo>
                <a:lnTo>
                  <a:pt x="95250" y="539750"/>
                </a:lnTo>
                <a:lnTo>
                  <a:pt x="107950" y="533400"/>
                </a:lnTo>
                <a:lnTo>
                  <a:pt x="133350" y="527050"/>
                </a:lnTo>
                <a:lnTo>
                  <a:pt x="152400" y="520700"/>
                </a:lnTo>
                <a:lnTo>
                  <a:pt x="177800" y="514350"/>
                </a:lnTo>
                <a:lnTo>
                  <a:pt x="203200" y="501650"/>
                </a:lnTo>
                <a:lnTo>
                  <a:pt x="228600" y="495300"/>
                </a:lnTo>
                <a:lnTo>
                  <a:pt x="260350" y="482600"/>
                </a:lnTo>
                <a:lnTo>
                  <a:pt x="292100" y="476250"/>
                </a:lnTo>
                <a:lnTo>
                  <a:pt x="323850" y="463550"/>
                </a:lnTo>
                <a:lnTo>
                  <a:pt x="355600" y="457200"/>
                </a:lnTo>
                <a:lnTo>
                  <a:pt x="393700" y="444500"/>
                </a:lnTo>
                <a:lnTo>
                  <a:pt x="431800" y="431800"/>
                </a:lnTo>
                <a:lnTo>
                  <a:pt x="469900" y="419100"/>
                </a:lnTo>
                <a:lnTo>
                  <a:pt x="508000" y="412750"/>
                </a:lnTo>
                <a:lnTo>
                  <a:pt x="552450" y="400050"/>
                </a:lnTo>
                <a:lnTo>
                  <a:pt x="590550" y="387350"/>
                </a:lnTo>
                <a:lnTo>
                  <a:pt x="628650" y="374650"/>
                </a:lnTo>
                <a:lnTo>
                  <a:pt x="673100" y="368300"/>
                </a:lnTo>
                <a:lnTo>
                  <a:pt x="717550" y="355600"/>
                </a:lnTo>
                <a:lnTo>
                  <a:pt x="762000" y="342900"/>
                </a:lnTo>
                <a:lnTo>
                  <a:pt x="800100" y="336550"/>
                </a:lnTo>
                <a:lnTo>
                  <a:pt x="844550" y="330200"/>
                </a:lnTo>
                <a:lnTo>
                  <a:pt x="889000" y="317500"/>
                </a:lnTo>
                <a:lnTo>
                  <a:pt x="927100" y="304800"/>
                </a:lnTo>
                <a:lnTo>
                  <a:pt x="971550" y="298450"/>
                </a:lnTo>
                <a:lnTo>
                  <a:pt x="1009650" y="292100"/>
                </a:lnTo>
                <a:lnTo>
                  <a:pt x="1054100" y="279400"/>
                </a:lnTo>
                <a:lnTo>
                  <a:pt x="1092200" y="266700"/>
                </a:lnTo>
                <a:lnTo>
                  <a:pt x="1136650" y="260350"/>
                </a:lnTo>
                <a:lnTo>
                  <a:pt x="1174750" y="254000"/>
                </a:lnTo>
                <a:lnTo>
                  <a:pt x="1212850" y="241300"/>
                </a:lnTo>
                <a:lnTo>
                  <a:pt x="1257300" y="234950"/>
                </a:lnTo>
                <a:lnTo>
                  <a:pt x="1295400" y="222250"/>
                </a:lnTo>
                <a:lnTo>
                  <a:pt x="1333500" y="215900"/>
                </a:lnTo>
                <a:lnTo>
                  <a:pt x="1371600" y="203200"/>
                </a:lnTo>
                <a:lnTo>
                  <a:pt x="1409700" y="190500"/>
                </a:lnTo>
                <a:lnTo>
                  <a:pt x="1447800" y="184150"/>
                </a:lnTo>
                <a:lnTo>
                  <a:pt x="1485900" y="171450"/>
                </a:lnTo>
                <a:lnTo>
                  <a:pt x="1524000" y="158750"/>
                </a:lnTo>
                <a:lnTo>
                  <a:pt x="1562100" y="152400"/>
                </a:lnTo>
                <a:lnTo>
                  <a:pt x="1600200" y="139700"/>
                </a:lnTo>
                <a:lnTo>
                  <a:pt x="1631950" y="127000"/>
                </a:lnTo>
                <a:lnTo>
                  <a:pt x="1670050" y="114300"/>
                </a:lnTo>
                <a:lnTo>
                  <a:pt x="1708150" y="107950"/>
                </a:lnTo>
                <a:lnTo>
                  <a:pt x="1746250" y="88900"/>
                </a:lnTo>
                <a:lnTo>
                  <a:pt x="1778000" y="82550"/>
                </a:lnTo>
                <a:lnTo>
                  <a:pt x="1816100" y="69850"/>
                </a:lnTo>
                <a:lnTo>
                  <a:pt x="1854200" y="63500"/>
                </a:lnTo>
                <a:lnTo>
                  <a:pt x="1885950" y="50800"/>
                </a:lnTo>
                <a:lnTo>
                  <a:pt x="1917700" y="44450"/>
                </a:lnTo>
                <a:lnTo>
                  <a:pt x="1955800" y="31750"/>
                </a:lnTo>
                <a:lnTo>
                  <a:pt x="1987550" y="25400"/>
                </a:lnTo>
                <a:lnTo>
                  <a:pt x="2019300" y="19050"/>
                </a:lnTo>
                <a:lnTo>
                  <a:pt x="2044700" y="12700"/>
                </a:lnTo>
                <a:lnTo>
                  <a:pt x="2070100" y="6350"/>
                </a:lnTo>
                <a:lnTo>
                  <a:pt x="2095500" y="6350"/>
                </a:lnTo>
                <a:lnTo>
                  <a:pt x="2108200" y="0"/>
                </a:lnTo>
                <a:lnTo>
                  <a:pt x="2108200" y="0"/>
                </a:lnTo>
                <a:lnTo>
                  <a:pt x="2127250" y="0"/>
                </a:lnTo>
                <a:lnTo>
                  <a:pt x="2127250" y="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50" name="Freeform 11"/>
          <p:cNvSpPr/>
          <p:nvPr/>
        </p:nvSpPr>
        <p:spPr>
          <a:xfrm>
            <a:off x="368280" y="2952720"/>
            <a:ext cx="69840" cy="63360"/>
          </a:xfrm>
          <a:custGeom>
            <a:avLst/>
            <a:gdLst>
              <a:gd name="textAreaLeft" fmla="*/ 0 w 69840"/>
              <a:gd name="textAreaRight" fmla="*/ 70200 w 69840"/>
              <a:gd name="textAreaTop" fmla="*/ 0 h 63360"/>
              <a:gd name="textAreaBottom" fmla="*/ 63720 h 63360"/>
            </a:gdLst>
            <a:ahLst/>
            <a:rect l="textAreaLeft" t="textAreaTop" r="textAreaRight" b="textAreaBottom"/>
            <a:pathLst>
              <a:path w="69851" h="63501">
                <a:moveTo>
                  <a:pt x="50800" y="19050"/>
                </a:moveTo>
                <a:lnTo>
                  <a:pt x="50800" y="19050"/>
                </a:lnTo>
                <a:lnTo>
                  <a:pt x="44450" y="19050"/>
                </a:lnTo>
                <a:lnTo>
                  <a:pt x="44450" y="12700"/>
                </a:lnTo>
                <a:lnTo>
                  <a:pt x="44450" y="12700"/>
                </a:lnTo>
                <a:lnTo>
                  <a:pt x="38100" y="12700"/>
                </a:lnTo>
                <a:lnTo>
                  <a:pt x="38100" y="12700"/>
                </a:lnTo>
                <a:lnTo>
                  <a:pt x="31750" y="12700"/>
                </a:lnTo>
                <a:lnTo>
                  <a:pt x="31750" y="12700"/>
                </a:lnTo>
                <a:lnTo>
                  <a:pt x="31750" y="12700"/>
                </a:lnTo>
                <a:lnTo>
                  <a:pt x="25400" y="12700"/>
                </a:lnTo>
                <a:lnTo>
                  <a:pt x="25400" y="19050"/>
                </a:lnTo>
                <a:lnTo>
                  <a:pt x="19050" y="19050"/>
                </a:lnTo>
                <a:lnTo>
                  <a:pt x="19050" y="25400"/>
                </a:lnTo>
                <a:lnTo>
                  <a:pt x="19050" y="31750"/>
                </a:lnTo>
                <a:lnTo>
                  <a:pt x="19050" y="38100"/>
                </a:lnTo>
                <a:lnTo>
                  <a:pt x="19050" y="44450"/>
                </a:lnTo>
                <a:lnTo>
                  <a:pt x="19050" y="50800"/>
                </a:lnTo>
                <a:lnTo>
                  <a:pt x="25400" y="57150"/>
                </a:lnTo>
                <a:lnTo>
                  <a:pt x="25400" y="57150"/>
                </a:lnTo>
                <a:lnTo>
                  <a:pt x="31750" y="63500"/>
                </a:lnTo>
                <a:lnTo>
                  <a:pt x="38100" y="63500"/>
                </a:lnTo>
                <a:lnTo>
                  <a:pt x="44450" y="63500"/>
                </a:lnTo>
                <a:lnTo>
                  <a:pt x="50800" y="63500"/>
                </a:lnTo>
                <a:lnTo>
                  <a:pt x="57150" y="57150"/>
                </a:lnTo>
                <a:lnTo>
                  <a:pt x="57150" y="57150"/>
                </a:lnTo>
                <a:lnTo>
                  <a:pt x="63500" y="50800"/>
                </a:lnTo>
                <a:lnTo>
                  <a:pt x="69850" y="44450"/>
                </a:lnTo>
                <a:lnTo>
                  <a:pt x="69850" y="38100"/>
                </a:lnTo>
                <a:lnTo>
                  <a:pt x="69850" y="31750"/>
                </a:lnTo>
                <a:lnTo>
                  <a:pt x="69850" y="25400"/>
                </a:lnTo>
                <a:lnTo>
                  <a:pt x="63500" y="25400"/>
                </a:lnTo>
                <a:lnTo>
                  <a:pt x="63500" y="19050"/>
                </a:lnTo>
                <a:lnTo>
                  <a:pt x="57150" y="12700"/>
                </a:lnTo>
                <a:lnTo>
                  <a:pt x="57150" y="6350"/>
                </a:lnTo>
                <a:lnTo>
                  <a:pt x="50800" y="6350"/>
                </a:lnTo>
                <a:lnTo>
                  <a:pt x="44450" y="0"/>
                </a:lnTo>
                <a:lnTo>
                  <a:pt x="31750" y="0"/>
                </a:lnTo>
                <a:lnTo>
                  <a:pt x="25400" y="0"/>
                </a:lnTo>
                <a:lnTo>
                  <a:pt x="19050" y="0"/>
                </a:lnTo>
                <a:lnTo>
                  <a:pt x="12700" y="6350"/>
                </a:lnTo>
                <a:lnTo>
                  <a:pt x="12700" y="12700"/>
                </a:lnTo>
                <a:lnTo>
                  <a:pt x="6350" y="12700"/>
                </a:lnTo>
                <a:lnTo>
                  <a:pt x="6350" y="19050"/>
                </a:lnTo>
                <a:lnTo>
                  <a:pt x="0" y="25400"/>
                </a:lnTo>
                <a:lnTo>
                  <a:pt x="0" y="31750"/>
                </a:lnTo>
                <a:lnTo>
                  <a:pt x="0" y="38100"/>
                </a:lnTo>
                <a:lnTo>
                  <a:pt x="6350" y="44450"/>
                </a:lnTo>
                <a:lnTo>
                  <a:pt x="6350" y="50800"/>
                </a:lnTo>
                <a:lnTo>
                  <a:pt x="12700" y="57150"/>
                </a:lnTo>
                <a:lnTo>
                  <a:pt x="19050" y="57150"/>
                </a:lnTo>
                <a:lnTo>
                  <a:pt x="25400" y="57150"/>
                </a:lnTo>
                <a:lnTo>
                  <a:pt x="31750" y="57150"/>
                </a:lnTo>
                <a:lnTo>
                  <a:pt x="38100" y="57150"/>
                </a:lnTo>
                <a:lnTo>
                  <a:pt x="44450" y="57150"/>
                </a:lnTo>
                <a:lnTo>
                  <a:pt x="50800" y="57150"/>
                </a:lnTo>
                <a:lnTo>
                  <a:pt x="57150" y="50800"/>
                </a:lnTo>
                <a:lnTo>
                  <a:pt x="57150" y="44450"/>
                </a:lnTo>
                <a:lnTo>
                  <a:pt x="63500" y="44450"/>
                </a:lnTo>
                <a:lnTo>
                  <a:pt x="63500" y="38100"/>
                </a:lnTo>
                <a:lnTo>
                  <a:pt x="63500" y="31750"/>
                </a:lnTo>
                <a:lnTo>
                  <a:pt x="63500" y="31750"/>
                </a:lnTo>
                <a:lnTo>
                  <a:pt x="57150" y="25400"/>
                </a:lnTo>
                <a:lnTo>
                  <a:pt x="57150" y="19050"/>
                </a:lnTo>
                <a:lnTo>
                  <a:pt x="50800" y="19050"/>
                </a:lnTo>
                <a:lnTo>
                  <a:pt x="44450" y="19050"/>
                </a:lnTo>
                <a:lnTo>
                  <a:pt x="38100" y="12700"/>
                </a:lnTo>
                <a:lnTo>
                  <a:pt x="31750" y="19050"/>
                </a:lnTo>
                <a:lnTo>
                  <a:pt x="31750" y="19050"/>
                </a:lnTo>
                <a:lnTo>
                  <a:pt x="25400" y="19050"/>
                </a:lnTo>
                <a:lnTo>
                  <a:pt x="19050" y="25400"/>
                </a:lnTo>
                <a:lnTo>
                  <a:pt x="19050" y="25400"/>
                </a:lnTo>
                <a:lnTo>
                  <a:pt x="12700" y="31750"/>
                </a:lnTo>
                <a:lnTo>
                  <a:pt x="12700" y="38100"/>
                </a:lnTo>
                <a:lnTo>
                  <a:pt x="12700" y="44450"/>
                </a:lnTo>
                <a:lnTo>
                  <a:pt x="19050" y="50800"/>
                </a:lnTo>
                <a:lnTo>
                  <a:pt x="19050" y="57150"/>
                </a:lnTo>
                <a:lnTo>
                  <a:pt x="25400" y="57150"/>
                </a:lnTo>
                <a:lnTo>
                  <a:pt x="31750" y="57150"/>
                </a:lnTo>
                <a:lnTo>
                  <a:pt x="38100" y="63500"/>
                </a:lnTo>
                <a:lnTo>
                  <a:pt x="44450" y="63500"/>
                </a:lnTo>
                <a:lnTo>
                  <a:pt x="50800" y="63500"/>
                </a:lnTo>
                <a:lnTo>
                  <a:pt x="50800" y="57150"/>
                </a:lnTo>
                <a:lnTo>
                  <a:pt x="50800" y="57150"/>
                </a:lnTo>
                <a:lnTo>
                  <a:pt x="57150" y="57150"/>
                </a:lnTo>
                <a:lnTo>
                  <a:pt x="57150" y="57150"/>
                </a:lnTo>
              </a:path>
            </a:pathLst>
          </a:custGeom>
          <a:noFill/>
          <a:ln w="38160">
            <a:solidFill>
              <a:srgbClr val="ff0000"/>
            </a:solidFill>
            <a:round/>
          </a:ln>
        </p:spPr>
        <p:style>
          <a:lnRef idx="0"/>
          <a:fillRef idx="0"/>
          <a:effectRef idx="0"/>
          <a:fontRef idx="minor"/>
        </p:style>
        <p:txBody>
          <a:bodyPr tIns="18000" bIns="18000" anchor="ctr">
            <a:noAutofit/>
          </a:bodyPr>
          <a:p>
            <a:endParaRPr b="0" lang="en-US" sz="1800" spc="-1" strike="noStrike">
              <a:solidFill>
                <a:srgbClr val="000000"/>
              </a:solidFill>
              <a:latin typeface="Verdana"/>
            </a:endParaRPr>
          </a:p>
        </p:txBody>
      </p:sp>
      <p:sp>
        <p:nvSpPr>
          <p:cNvPr id="151" name="Freeform 12"/>
          <p:cNvSpPr/>
          <p:nvPr/>
        </p:nvSpPr>
        <p:spPr>
          <a:xfrm>
            <a:off x="514440" y="2870280"/>
            <a:ext cx="279360" cy="291960"/>
          </a:xfrm>
          <a:custGeom>
            <a:avLst/>
            <a:gdLst>
              <a:gd name="textAreaLeft" fmla="*/ 0 w 279360"/>
              <a:gd name="textAreaRight" fmla="*/ 279720 w 279360"/>
              <a:gd name="textAreaTop" fmla="*/ 0 h 291960"/>
              <a:gd name="textAreaBottom" fmla="*/ 291960 h 291960"/>
            </a:gdLst>
            <a:ahLst/>
            <a:rect l="textAreaLeft" t="textAreaTop" r="textAreaRight" b="textAreaBottom"/>
            <a:pathLst>
              <a:path w="279401" h="292101">
                <a:moveTo>
                  <a:pt x="171450" y="101600"/>
                </a:moveTo>
                <a:lnTo>
                  <a:pt x="171450" y="101600"/>
                </a:lnTo>
                <a:lnTo>
                  <a:pt x="171450" y="101600"/>
                </a:lnTo>
                <a:lnTo>
                  <a:pt x="171450" y="101600"/>
                </a:lnTo>
                <a:lnTo>
                  <a:pt x="177800" y="101600"/>
                </a:lnTo>
                <a:lnTo>
                  <a:pt x="177800" y="95250"/>
                </a:lnTo>
                <a:lnTo>
                  <a:pt x="177800" y="88900"/>
                </a:lnTo>
                <a:lnTo>
                  <a:pt x="177800" y="82550"/>
                </a:lnTo>
                <a:lnTo>
                  <a:pt x="177800" y="76200"/>
                </a:lnTo>
                <a:lnTo>
                  <a:pt x="171450" y="69850"/>
                </a:lnTo>
                <a:lnTo>
                  <a:pt x="171450" y="63500"/>
                </a:lnTo>
                <a:lnTo>
                  <a:pt x="165100" y="57150"/>
                </a:lnTo>
                <a:lnTo>
                  <a:pt x="158750" y="44450"/>
                </a:lnTo>
                <a:lnTo>
                  <a:pt x="152400" y="38100"/>
                </a:lnTo>
                <a:lnTo>
                  <a:pt x="146050" y="31750"/>
                </a:lnTo>
                <a:lnTo>
                  <a:pt x="133350" y="25400"/>
                </a:lnTo>
                <a:lnTo>
                  <a:pt x="120650" y="12700"/>
                </a:lnTo>
                <a:lnTo>
                  <a:pt x="107950" y="12700"/>
                </a:lnTo>
                <a:lnTo>
                  <a:pt x="101600" y="6350"/>
                </a:lnTo>
                <a:lnTo>
                  <a:pt x="88900" y="0"/>
                </a:lnTo>
                <a:lnTo>
                  <a:pt x="82550" y="0"/>
                </a:lnTo>
                <a:lnTo>
                  <a:pt x="69850" y="0"/>
                </a:lnTo>
                <a:lnTo>
                  <a:pt x="57150" y="0"/>
                </a:lnTo>
                <a:lnTo>
                  <a:pt x="50800" y="0"/>
                </a:lnTo>
                <a:lnTo>
                  <a:pt x="38100" y="6350"/>
                </a:lnTo>
                <a:lnTo>
                  <a:pt x="31750" y="6350"/>
                </a:lnTo>
                <a:lnTo>
                  <a:pt x="19050" y="12700"/>
                </a:lnTo>
                <a:lnTo>
                  <a:pt x="12700" y="19050"/>
                </a:lnTo>
                <a:lnTo>
                  <a:pt x="6350" y="31750"/>
                </a:lnTo>
                <a:lnTo>
                  <a:pt x="6350" y="38100"/>
                </a:lnTo>
                <a:lnTo>
                  <a:pt x="6350" y="50800"/>
                </a:lnTo>
                <a:lnTo>
                  <a:pt x="0" y="63500"/>
                </a:lnTo>
                <a:lnTo>
                  <a:pt x="0" y="76200"/>
                </a:lnTo>
                <a:lnTo>
                  <a:pt x="0" y="95250"/>
                </a:lnTo>
                <a:lnTo>
                  <a:pt x="6350" y="107950"/>
                </a:lnTo>
                <a:lnTo>
                  <a:pt x="6350" y="127000"/>
                </a:lnTo>
                <a:lnTo>
                  <a:pt x="6350" y="146050"/>
                </a:lnTo>
                <a:lnTo>
                  <a:pt x="12700" y="158750"/>
                </a:lnTo>
                <a:lnTo>
                  <a:pt x="25400" y="177800"/>
                </a:lnTo>
                <a:lnTo>
                  <a:pt x="31750" y="196850"/>
                </a:lnTo>
                <a:lnTo>
                  <a:pt x="44450" y="209550"/>
                </a:lnTo>
                <a:lnTo>
                  <a:pt x="57150" y="222250"/>
                </a:lnTo>
                <a:lnTo>
                  <a:pt x="69850" y="234950"/>
                </a:lnTo>
                <a:lnTo>
                  <a:pt x="82550" y="254000"/>
                </a:lnTo>
                <a:lnTo>
                  <a:pt x="101600" y="260350"/>
                </a:lnTo>
                <a:lnTo>
                  <a:pt x="114300" y="273050"/>
                </a:lnTo>
                <a:lnTo>
                  <a:pt x="133350" y="279400"/>
                </a:lnTo>
                <a:lnTo>
                  <a:pt x="152400" y="285750"/>
                </a:lnTo>
                <a:lnTo>
                  <a:pt x="171450" y="292100"/>
                </a:lnTo>
                <a:lnTo>
                  <a:pt x="190500" y="292100"/>
                </a:lnTo>
                <a:lnTo>
                  <a:pt x="203200" y="285750"/>
                </a:lnTo>
                <a:lnTo>
                  <a:pt x="222250" y="285750"/>
                </a:lnTo>
                <a:lnTo>
                  <a:pt x="234950" y="279400"/>
                </a:lnTo>
                <a:lnTo>
                  <a:pt x="247650" y="273050"/>
                </a:lnTo>
                <a:lnTo>
                  <a:pt x="260350" y="266700"/>
                </a:lnTo>
                <a:lnTo>
                  <a:pt x="273050" y="260350"/>
                </a:lnTo>
                <a:lnTo>
                  <a:pt x="279400" y="247650"/>
                </a:lnTo>
                <a:lnTo>
                  <a:pt x="279400" y="247650"/>
                </a:lnTo>
                <a:lnTo>
                  <a:pt x="279400" y="234950"/>
                </a:lnTo>
                <a:lnTo>
                  <a:pt x="279400" y="2349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52" name="Freeform 13"/>
          <p:cNvSpPr/>
          <p:nvPr/>
        </p:nvSpPr>
        <p:spPr>
          <a:xfrm>
            <a:off x="762120" y="2838600"/>
            <a:ext cx="323640" cy="228600"/>
          </a:xfrm>
          <a:custGeom>
            <a:avLst/>
            <a:gdLst>
              <a:gd name="textAreaLeft" fmla="*/ 0 w 323640"/>
              <a:gd name="textAreaRight" fmla="*/ 324000 w 323640"/>
              <a:gd name="textAreaTop" fmla="*/ 0 h 228600"/>
              <a:gd name="textAreaBottom" fmla="*/ 228960 h 228600"/>
            </a:gdLst>
            <a:ahLst/>
            <a:rect l="textAreaLeft" t="textAreaTop" r="textAreaRight" b="textAreaBottom"/>
            <a:pathLst>
              <a:path w="323851" h="228601">
                <a:moveTo>
                  <a:pt x="0" y="101600"/>
                </a:moveTo>
                <a:lnTo>
                  <a:pt x="0" y="101600"/>
                </a:lnTo>
                <a:lnTo>
                  <a:pt x="0" y="95250"/>
                </a:lnTo>
                <a:lnTo>
                  <a:pt x="0" y="88900"/>
                </a:lnTo>
                <a:lnTo>
                  <a:pt x="0" y="88900"/>
                </a:lnTo>
                <a:lnTo>
                  <a:pt x="0" y="82550"/>
                </a:lnTo>
                <a:lnTo>
                  <a:pt x="0" y="76200"/>
                </a:lnTo>
                <a:lnTo>
                  <a:pt x="0" y="69850"/>
                </a:lnTo>
                <a:lnTo>
                  <a:pt x="0" y="63500"/>
                </a:lnTo>
                <a:lnTo>
                  <a:pt x="6350" y="57150"/>
                </a:lnTo>
                <a:lnTo>
                  <a:pt x="12700" y="50800"/>
                </a:lnTo>
                <a:lnTo>
                  <a:pt x="19050" y="38100"/>
                </a:lnTo>
                <a:lnTo>
                  <a:pt x="25400" y="31750"/>
                </a:lnTo>
                <a:lnTo>
                  <a:pt x="38100" y="25400"/>
                </a:lnTo>
                <a:lnTo>
                  <a:pt x="44450" y="19050"/>
                </a:lnTo>
                <a:lnTo>
                  <a:pt x="63500" y="12700"/>
                </a:lnTo>
                <a:lnTo>
                  <a:pt x="76200" y="6350"/>
                </a:lnTo>
                <a:lnTo>
                  <a:pt x="88900" y="6350"/>
                </a:lnTo>
                <a:lnTo>
                  <a:pt x="107950" y="0"/>
                </a:lnTo>
                <a:lnTo>
                  <a:pt x="127000" y="0"/>
                </a:lnTo>
                <a:lnTo>
                  <a:pt x="139700" y="0"/>
                </a:lnTo>
                <a:lnTo>
                  <a:pt x="158750" y="6350"/>
                </a:lnTo>
                <a:lnTo>
                  <a:pt x="177800" y="12700"/>
                </a:lnTo>
                <a:lnTo>
                  <a:pt x="190500" y="19050"/>
                </a:lnTo>
                <a:lnTo>
                  <a:pt x="209550" y="31750"/>
                </a:lnTo>
                <a:lnTo>
                  <a:pt x="222250" y="38100"/>
                </a:lnTo>
                <a:lnTo>
                  <a:pt x="234950" y="57150"/>
                </a:lnTo>
                <a:lnTo>
                  <a:pt x="247650" y="69850"/>
                </a:lnTo>
                <a:lnTo>
                  <a:pt x="260350" y="82550"/>
                </a:lnTo>
                <a:lnTo>
                  <a:pt x="279400" y="95250"/>
                </a:lnTo>
                <a:lnTo>
                  <a:pt x="285750" y="114300"/>
                </a:lnTo>
                <a:lnTo>
                  <a:pt x="292100" y="127000"/>
                </a:lnTo>
                <a:lnTo>
                  <a:pt x="298450" y="139700"/>
                </a:lnTo>
                <a:lnTo>
                  <a:pt x="304800" y="152400"/>
                </a:lnTo>
                <a:lnTo>
                  <a:pt x="311150" y="158750"/>
                </a:lnTo>
                <a:lnTo>
                  <a:pt x="317500" y="165100"/>
                </a:lnTo>
                <a:lnTo>
                  <a:pt x="323850" y="171450"/>
                </a:lnTo>
                <a:lnTo>
                  <a:pt x="323850" y="177800"/>
                </a:lnTo>
                <a:lnTo>
                  <a:pt x="323850" y="177800"/>
                </a:lnTo>
                <a:lnTo>
                  <a:pt x="323850" y="177800"/>
                </a:lnTo>
                <a:lnTo>
                  <a:pt x="323850" y="177800"/>
                </a:lnTo>
                <a:lnTo>
                  <a:pt x="323850" y="171450"/>
                </a:lnTo>
                <a:lnTo>
                  <a:pt x="317500" y="165100"/>
                </a:lnTo>
                <a:lnTo>
                  <a:pt x="311150" y="158750"/>
                </a:lnTo>
                <a:lnTo>
                  <a:pt x="304800" y="152400"/>
                </a:lnTo>
                <a:lnTo>
                  <a:pt x="298450" y="139700"/>
                </a:lnTo>
                <a:lnTo>
                  <a:pt x="285750" y="133350"/>
                </a:lnTo>
                <a:lnTo>
                  <a:pt x="279400" y="127000"/>
                </a:lnTo>
                <a:lnTo>
                  <a:pt x="266700" y="120650"/>
                </a:lnTo>
                <a:lnTo>
                  <a:pt x="254000" y="114300"/>
                </a:lnTo>
                <a:lnTo>
                  <a:pt x="241300" y="107950"/>
                </a:lnTo>
                <a:lnTo>
                  <a:pt x="228600" y="101600"/>
                </a:lnTo>
                <a:lnTo>
                  <a:pt x="215900" y="101600"/>
                </a:lnTo>
                <a:lnTo>
                  <a:pt x="196850" y="101600"/>
                </a:lnTo>
                <a:lnTo>
                  <a:pt x="184150" y="101600"/>
                </a:lnTo>
                <a:lnTo>
                  <a:pt x="171450" y="101600"/>
                </a:lnTo>
                <a:lnTo>
                  <a:pt x="158750" y="101600"/>
                </a:lnTo>
                <a:lnTo>
                  <a:pt x="139700" y="107950"/>
                </a:lnTo>
                <a:lnTo>
                  <a:pt x="127000" y="114300"/>
                </a:lnTo>
                <a:lnTo>
                  <a:pt x="114300" y="120650"/>
                </a:lnTo>
                <a:lnTo>
                  <a:pt x="107950" y="133350"/>
                </a:lnTo>
                <a:lnTo>
                  <a:pt x="95250" y="139700"/>
                </a:lnTo>
                <a:lnTo>
                  <a:pt x="95250" y="152400"/>
                </a:lnTo>
                <a:lnTo>
                  <a:pt x="95250" y="158750"/>
                </a:lnTo>
                <a:lnTo>
                  <a:pt x="88900" y="171450"/>
                </a:lnTo>
                <a:lnTo>
                  <a:pt x="95250" y="177800"/>
                </a:lnTo>
                <a:lnTo>
                  <a:pt x="95250" y="190500"/>
                </a:lnTo>
                <a:lnTo>
                  <a:pt x="101600" y="196850"/>
                </a:lnTo>
                <a:lnTo>
                  <a:pt x="107950" y="203200"/>
                </a:lnTo>
                <a:lnTo>
                  <a:pt x="120650" y="209550"/>
                </a:lnTo>
                <a:lnTo>
                  <a:pt x="133350" y="215900"/>
                </a:lnTo>
                <a:lnTo>
                  <a:pt x="146050" y="228600"/>
                </a:lnTo>
                <a:lnTo>
                  <a:pt x="165100" y="228600"/>
                </a:lnTo>
                <a:lnTo>
                  <a:pt x="184150" y="228600"/>
                </a:lnTo>
                <a:lnTo>
                  <a:pt x="196850" y="228600"/>
                </a:lnTo>
                <a:lnTo>
                  <a:pt x="215900" y="228600"/>
                </a:lnTo>
                <a:lnTo>
                  <a:pt x="234950" y="228600"/>
                </a:lnTo>
                <a:lnTo>
                  <a:pt x="247650" y="228600"/>
                </a:lnTo>
                <a:lnTo>
                  <a:pt x="260350" y="222250"/>
                </a:lnTo>
                <a:lnTo>
                  <a:pt x="273050" y="215900"/>
                </a:lnTo>
                <a:lnTo>
                  <a:pt x="279400" y="209550"/>
                </a:lnTo>
                <a:lnTo>
                  <a:pt x="285750" y="203200"/>
                </a:lnTo>
                <a:lnTo>
                  <a:pt x="292100" y="196850"/>
                </a:lnTo>
                <a:lnTo>
                  <a:pt x="292100" y="196850"/>
                </a:lnTo>
                <a:lnTo>
                  <a:pt x="298450" y="184150"/>
                </a:lnTo>
                <a:lnTo>
                  <a:pt x="298450" y="1841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53" name="Freeform 14"/>
          <p:cNvSpPr/>
          <p:nvPr/>
        </p:nvSpPr>
        <p:spPr>
          <a:xfrm>
            <a:off x="996840" y="2730600"/>
            <a:ext cx="228600" cy="291960"/>
          </a:xfrm>
          <a:custGeom>
            <a:avLst/>
            <a:gdLst>
              <a:gd name="textAreaLeft" fmla="*/ 0 w 228600"/>
              <a:gd name="textAreaRight" fmla="*/ 228960 w 228600"/>
              <a:gd name="textAreaTop" fmla="*/ 0 h 291960"/>
              <a:gd name="textAreaBottom" fmla="*/ 291960 h 291960"/>
            </a:gdLst>
            <a:ahLst/>
            <a:rect l="textAreaLeft" t="textAreaTop" r="textAreaRight" b="textAreaBottom"/>
            <a:pathLst>
              <a:path w="228601" h="292101">
                <a:moveTo>
                  <a:pt x="0" y="0"/>
                </a:moveTo>
                <a:lnTo>
                  <a:pt x="0" y="0"/>
                </a:lnTo>
                <a:lnTo>
                  <a:pt x="0" y="0"/>
                </a:lnTo>
                <a:lnTo>
                  <a:pt x="0" y="0"/>
                </a:lnTo>
                <a:lnTo>
                  <a:pt x="0" y="0"/>
                </a:lnTo>
                <a:lnTo>
                  <a:pt x="0" y="0"/>
                </a:lnTo>
                <a:lnTo>
                  <a:pt x="0" y="0"/>
                </a:lnTo>
                <a:lnTo>
                  <a:pt x="6350" y="0"/>
                </a:lnTo>
                <a:lnTo>
                  <a:pt x="12700" y="0"/>
                </a:lnTo>
                <a:lnTo>
                  <a:pt x="12700" y="6350"/>
                </a:lnTo>
                <a:lnTo>
                  <a:pt x="25400" y="6350"/>
                </a:lnTo>
                <a:lnTo>
                  <a:pt x="31750" y="19050"/>
                </a:lnTo>
                <a:lnTo>
                  <a:pt x="38100" y="25400"/>
                </a:lnTo>
                <a:lnTo>
                  <a:pt x="44450" y="38100"/>
                </a:lnTo>
                <a:lnTo>
                  <a:pt x="50800" y="50800"/>
                </a:lnTo>
                <a:lnTo>
                  <a:pt x="63500" y="63500"/>
                </a:lnTo>
                <a:lnTo>
                  <a:pt x="69850" y="82550"/>
                </a:lnTo>
                <a:lnTo>
                  <a:pt x="82550" y="101600"/>
                </a:lnTo>
                <a:lnTo>
                  <a:pt x="95250" y="114300"/>
                </a:lnTo>
                <a:lnTo>
                  <a:pt x="101600" y="133350"/>
                </a:lnTo>
                <a:lnTo>
                  <a:pt x="114300" y="152400"/>
                </a:lnTo>
                <a:lnTo>
                  <a:pt x="127000" y="171450"/>
                </a:lnTo>
                <a:lnTo>
                  <a:pt x="139700" y="190500"/>
                </a:lnTo>
                <a:lnTo>
                  <a:pt x="146050" y="203200"/>
                </a:lnTo>
                <a:lnTo>
                  <a:pt x="158750" y="222250"/>
                </a:lnTo>
                <a:lnTo>
                  <a:pt x="171450" y="234950"/>
                </a:lnTo>
                <a:lnTo>
                  <a:pt x="184150" y="247650"/>
                </a:lnTo>
                <a:lnTo>
                  <a:pt x="190500" y="260350"/>
                </a:lnTo>
                <a:lnTo>
                  <a:pt x="196850" y="273050"/>
                </a:lnTo>
                <a:lnTo>
                  <a:pt x="209550" y="279400"/>
                </a:lnTo>
                <a:lnTo>
                  <a:pt x="215900" y="285750"/>
                </a:lnTo>
                <a:lnTo>
                  <a:pt x="222250" y="292100"/>
                </a:lnTo>
                <a:lnTo>
                  <a:pt x="222250" y="292100"/>
                </a:lnTo>
                <a:lnTo>
                  <a:pt x="228600" y="292100"/>
                </a:lnTo>
                <a:lnTo>
                  <a:pt x="228600" y="285750"/>
                </a:lnTo>
                <a:lnTo>
                  <a:pt x="228600" y="285750"/>
                </a:lnTo>
                <a:lnTo>
                  <a:pt x="228600" y="285750"/>
                </a:lnTo>
                <a:lnTo>
                  <a:pt x="228600" y="2857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54" name="Freeform 15"/>
          <p:cNvSpPr/>
          <p:nvPr/>
        </p:nvSpPr>
        <p:spPr>
          <a:xfrm>
            <a:off x="1162080" y="2679840"/>
            <a:ext cx="666720" cy="311040"/>
          </a:xfrm>
          <a:custGeom>
            <a:avLst/>
            <a:gdLst>
              <a:gd name="textAreaLeft" fmla="*/ 0 w 666720"/>
              <a:gd name="textAreaRight" fmla="*/ 667080 w 666720"/>
              <a:gd name="textAreaTop" fmla="*/ 0 h 311040"/>
              <a:gd name="textAreaBottom" fmla="*/ 311400 h 311040"/>
            </a:gdLst>
            <a:ahLst/>
            <a:rect l="textAreaLeft" t="textAreaTop" r="textAreaRight" b="textAreaBottom"/>
            <a:pathLst>
              <a:path w="666751" h="311151">
                <a:moveTo>
                  <a:pt x="0" y="139700"/>
                </a:moveTo>
                <a:lnTo>
                  <a:pt x="0" y="139700"/>
                </a:lnTo>
                <a:lnTo>
                  <a:pt x="0" y="139700"/>
                </a:lnTo>
                <a:lnTo>
                  <a:pt x="0" y="139700"/>
                </a:lnTo>
                <a:lnTo>
                  <a:pt x="6350" y="139700"/>
                </a:lnTo>
                <a:lnTo>
                  <a:pt x="6350" y="139700"/>
                </a:lnTo>
                <a:lnTo>
                  <a:pt x="12700" y="146050"/>
                </a:lnTo>
                <a:lnTo>
                  <a:pt x="12700" y="146050"/>
                </a:lnTo>
                <a:lnTo>
                  <a:pt x="19050" y="152400"/>
                </a:lnTo>
                <a:lnTo>
                  <a:pt x="25400" y="158750"/>
                </a:lnTo>
                <a:lnTo>
                  <a:pt x="31750" y="165100"/>
                </a:lnTo>
                <a:lnTo>
                  <a:pt x="44450" y="171450"/>
                </a:lnTo>
                <a:lnTo>
                  <a:pt x="50800" y="184150"/>
                </a:lnTo>
                <a:lnTo>
                  <a:pt x="63500" y="196850"/>
                </a:lnTo>
                <a:lnTo>
                  <a:pt x="76200" y="209550"/>
                </a:lnTo>
                <a:lnTo>
                  <a:pt x="82550" y="222250"/>
                </a:lnTo>
                <a:lnTo>
                  <a:pt x="95250" y="234950"/>
                </a:lnTo>
                <a:lnTo>
                  <a:pt x="107950" y="247650"/>
                </a:lnTo>
                <a:lnTo>
                  <a:pt x="114300" y="260350"/>
                </a:lnTo>
                <a:lnTo>
                  <a:pt x="127000" y="273050"/>
                </a:lnTo>
                <a:lnTo>
                  <a:pt x="133350" y="279400"/>
                </a:lnTo>
                <a:lnTo>
                  <a:pt x="146050" y="292100"/>
                </a:lnTo>
                <a:lnTo>
                  <a:pt x="152400" y="298450"/>
                </a:lnTo>
                <a:lnTo>
                  <a:pt x="158750" y="304800"/>
                </a:lnTo>
                <a:lnTo>
                  <a:pt x="165100" y="311150"/>
                </a:lnTo>
                <a:lnTo>
                  <a:pt x="171450" y="311150"/>
                </a:lnTo>
                <a:lnTo>
                  <a:pt x="171450" y="311150"/>
                </a:lnTo>
                <a:lnTo>
                  <a:pt x="171450" y="311150"/>
                </a:lnTo>
                <a:lnTo>
                  <a:pt x="171450" y="311150"/>
                </a:lnTo>
                <a:lnTo>
                  <a:pt x="171450" y="311150"/>
                </a:lnTo>
                <a:lnTo>
                  <a:pt x="171450" y="304800"/>
                </a:lnTo>
                <a:lnTo>
                  <a:pt x="165100" y="298450"/>
                </a:lnTo>
                <a:lnTo>
                  <a:pt x="158750" y="285750"/>
                </a:lnTo>
                <a:lnTo>
                  <a:pt x="152400" y="273050"/>
                </a:lnTo>
                <a:lnTo>
                  <a:pt x="146050" y="260350"/>
                </a:lnTo>
                <a:lnTo>
                  <a:pt x="139700" y="247650"/>
                </a:lnTo>
                <a:lnTo>
                  <a:pt x="133350" y="228600"/>
                </a:lnTo>
                <a:lnTo>
                  <a:pt x="120650" y="215900"/>
                </a:lnTo>
                <a:lnTo>
                  <a:pt x="120650" y="203200"/>
                </a:lnTo>
                <a:lnTo>
                  <a:pt x="114300" y="184150"/>
                </a:lnTo>
                <a:lnTo>
                  <a:pt x="107950" y="171450"/>
                </a:lnTo>
                <a:lnTo>
                  <a:pt x="107950" y="158750"/>
                </a:lnTo>
                <a:lnTo>
                  <a:pt x="107950" y="146050"/>
                </a:lnTo>
                <a:lnTo>
                  <a:pt x="114300" y="133350"/>
                </a:lnTo>
                <a:lnTo>
                  <a:pt x="114300" y="127000"/>
                </a:lnTo>
                <a:lnTo>
                  <a:pt x="127000" y="114300"/>
                </a:lnTo>
                <a:lnTo>
                  <a:pt x="133350" y="107950"/>
                </a:lnTo>
                <a:lnTo>
                  <a:pt x="146050" y="101600"/>
                </a:lnTo>
                <a:lnTo>
                  <a:pt x="158750" y="101600"/>
                </a:lnTo>
                <a:lnTo>
                  <a:pt x="171450" y="95250"/>
                </a:lnTo>
                <a:lnTo>
                  <a:pt x="184150" y="95250"/>
                </a:lnTo>
                <a:lnTo>
                  <a:pt x="203200" y="101600"/>
                </a:lnTo>
                <a:lnTo>
                  <a:pt x="215900" y="107950"/>
                </a:lnTo>
                <a:lnTo>
                  <a:pt x="234950" y="114300"/>
                </a:lnTo>
                <a:lnTo>
                  <a:pt x="254000" y="120650"/>
                </a:lnTo>
                <a:lnTo>
                  <a:pt x="266700" y="133350"/>
                </a:lnTo>
                <a:lnTo>
                  <a:pt x="285750" y="146050"/>
                </a:lnTo>
                <a:lnTo>
                  <a:pt x="298450" y="158750"/>
                </a:lnTo>
                <a:lnTo>
                  <a:pt x="311150" y="171450"/>
                </a:lnTo>
                <a:lnTo>
                  <a:pt x="323850" y="190500"/>
                </a:lnTo>
                <a:lnTo>
                  <a:pt x="336550" y="203200"/>
                </a:lnTo>
                <a:lnTo>
                  <a:pt x="342900" y="215900"/>
                </a:lnTo>
                <a:lnTo>
                  <a:pt x="355600" y="222250"/>
                </a:lnTo>
                <a:lnTo>
                  <a:pt x="361950" y="234950"/>
                </a:lnTo>
                <a:lnTo>
                  <a:pt x="361950" y="247650"/>
                </a:lnTo>
                <a:lnTo>
                  <a:pt x="368300" y="254000"/>
                </a:lnTo>
                <a:lnTo>
                  <a:pt x="368300" y="260350"/>
                </a:lnTo>
                <a:lnTo>
                  <a:pt x="368300" y="260350"/>
                </a:lnTo>
                <a:lnTo>
                  <a:pt x="368300" y="260350"/>
                </a:lnTo>
                <a:lnTo>
                  <a:pt x="374650" y="260350"/>
                </a:lnTo>
                <a:lnTo>
                  <a:pt x="374650" y="260350"/>
                </a:lnTo>
                <a:lnTo>
                  <a:pt x="368300" y="260350"/>
                </a:lnTo>
                <a:lnTo>
                  <a:pt x="368300" y="247650"/>
                </a:lnTo>
                <a:lnTo>
                  <a:pt x="368300" y="241300"/>
                </a:lnTo>
                <a:lnTo>
                  <a:pt x="368300" y="228600"/>
                </a:lnTo>
                <a:lnTo>
                  <a:pt x="361950" y="215900"/>
                </a:lnTo>
                <a:lnTo>
                  <a:pt x="361950" y="196850"/>
                </a:lnTo>
                <a:lnTo>
                  <a:pt x="361950" y="184150"/>
                </a:lnTo>
                <a:lnTo>
                  <a:pt x="361950" y="165100"/>
                </a:lnTo>
                <a:lnTo>
                  <a:pt x="361950" y="146050"/>
                </a:lnTo>
                <a:lnTo>
                  <a:pt x="361950" y="133350"/>
                </a:lnTo>
                <a:lnTo>
                  <a:pt x="361950" y="114300"/>
                </a:lnTo>
                <a:lnTo>
                  <a:pt x="361950" y="101600"/>
                </a:lnTo>
                <a:lnTo>
                  <a:pt x="361950" y="82550"/>
                </a:lnTo>
                <a:lnTo>
                  <a:pt x="361950" y="69850"/>
                </a:lnTo>
                <a:lnTo>
                  <a:pt x="368300" y="57150"/>
                </a:lnTo>
                <a:lnTo>
                  <a:pt x="374650" y="44450"/>
                </a:lnTo>
                <a:lnTo>
                  <a:pt x="381000" y="31750"/>
                </a:lnTo>
                <a:lnTo>
                  <a:pt x="393700" y="25400"/>
                </a:lnTo>
                <a:lnTo>
                  <a:pt x="406400" y="19050"/>
                </a:lnTo>
                <a:lnTo>
                  <a:pt x="419100" y="6350"/>
                </a:lnTo>
                <a:lnTo>
                  <a:pt x="431800" y="0"/>
                </a:lnTo>
                <a:lnTo>
                  <a:pt x="450850" y="0"/>
                </a:lnTo>
                <a:lnTo>
                  <a:pt x="463550" y="0"/>
                </a:lnTo>
                <a:lnTo>
                  <a:pt x="482600" y="0"/>
                </a:lnTo>
                <a:lnTo>
                  <a:pt x="501650" y="6350"/>
                </a:lnTo>
                <a:lnTo>
                  <a:pt x="514350" y="12700"/>
                </a:lnTo>
                <a:lnTo>
                  <a:pt x="533400" y="19050"/>
                </a:lnTo>
                <a:lnTo>
                  <a:pt x="552450" y="31750"/>
                </a:lnTo>
                <a:lnTo>
                  <a:pt x="571500" y="38100"/>
                </a:lnTo>
                <a:lnTo>
                  <a:pt x="584200" y="50800"/>
                </a:lnTo>
                <a:lnTo>
                  <a:pt x="596900" y="63500"/>
                </a:lnTo>
                <a:lnTo>
                  <a:pt x="609600" y="76200"/>
                </a:lnTo>
                <a:lnTo>
                  <a:pt x="622300" y="88900"/>
                </a:lnTo>
                <a:lnTo>
                  <a:pt x="628650" y="101600"/>
                </a:lnTo>
                <a:lnTo>
                  <a:pt x="641350" y="114300"/>
                </a:lnTo>
                <a:lnTo>
                  <a:pt x="647700" y="120650"/>
                </a:lnTo>
                <a:lnTo>
                  <a:pt x="654050" y="127000"/>
                </a:lnTo>
                <a:lnTo>
                  <a:pt x="660400" y="139700"/>
                </a:lnTo>
                <a:lnTo>
                  <a:pt x="660400" y="146050"/>
                </a:lnTo>
                <a:lnTo>
                  <a:pt x="666750" y="152400"/>
                </a:lnTo>
                <a:lnTo>
                  <a:pt x="666750" y="152400"/>
                </a:lnTo>
                <a:lnTo>
                  <a:pt x="666750" y="152400"/>
                </a:lnTo>
                <a:lnTo>
                  <a:pt x="666750" y="1524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55" name="Freeform 16"/>
          <p:cNvSpPr/>
          <p:nvPr/>
        </p:nvSpPr>
        <p:spPr>
          <a:xfrm>
            <a:off x="355680" y="344160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95251" h="82551">
                <a:moveTo>
                  <a:pt x="25400" y="38100"/>
                </a:moveTo>
                <a:lnTo>
                  <a:pt x="25400" y="38100"/>
                </a:lnTo>
                <a:lnTo>
                  <a:pt x="25400" y="38100"/>
                </a:lnTo>
                <a:lnTo>
                  <a:pt x="31750" y="38100"/>
                </a:lnTo>
                <a:lnTo>
                  <a:pt x="31750" y="38100"/>
                </a:lnTo>
                <a:lnTo>
                  <a:pt x="38100" y="31750"/>
                </a:lnTo>
                <a:lnTo>
                  <a:pt x="44450" y="31750"/>
                </a:lnTo>
                <a:lnTo>
                  <a:pt x="44450" y="31750"/>
                </a:lnTo>
                <a:lnTo>
                  <a:pt x="50800" y="25400"/>
                </a:lnTo>
                <a:lnTo>
                  <a:pt x="57150" y="25400"/>
                </a:lnTo>
                <a:lnTo>
                  <a:pt x="57150" y="25400"/>
                </a:lnTo>
                <a:lnTo>
                  <a:pt x="63500" y="19050"/>
                </a:lnTo>
                <a:lnTo>
                  <a:pt x="63500" y="19050"/>
                </a:lnTo>
                <a:lnTo>
                  <a:pt x="63500" y="12700"/>
                </a:lnTo>
                <a:lnTo>
                  <a:pt x="63500" y="12700"/>
                </a:lnTo>
                <a:lnTo>
                  <a:pt x="63500" y="6350"/>
                </a:lnTo>
                <a:lnTo>
                  <a:pt x="63500" y="6350"/>
                </a:lnTo>
                <a:lnTo>
                  <a:pt x="63500" y="6350"/>
                </a:lnTo>
                <a:lnTo>
                  <a:pt x="57150" y="0"/>
                </a:lnTo>
                <a:lnTo>
                  <a:pt x="57150" y="0"/>
                </a:lnTo>
                <a:lnTo>
                  <a:pt x="50800" y="0"/>
                </a:lnTo>
                <a:lnTo>
                  <a:pt x="44450" y="0"/>
                </a:lnTo>
                <a:lnTo>
                  <a:pt x="38100" y="6350"/>
                </a:lnTo>
                <a:lnTo>
                  <a:pt x="38100" y="6350"/>
                </a:lnTo>
                <a:lnTo>
                  <a:pt x="31750" y="12700"/>
                </a:lnTo>
                <a:lnTo>
                  <a:pt x="25400" y="19050"/>
                </a:lnTo>
                <a:lnTo>
                  <a:pt x="25400" y="25400"/>
                </a:lnTo>
                <a:lnTo>
                  <a:pt x="25400" y="31750"/>
                </a:lnTo>
                <a:lnTo>
                  <a:pt x="25400" y="38100"/>
                </a:lnTo>
                <a:lnTo>
                  <a:pt x="19050" y="44450"/>
                </a:lnTo>
                <a:lnTo>
                  <a:pt x="25400" y="50800"/>
                </a:lnTo>
                <a:lnTo>
                  <a:pt x="25400" y="57150"/>
                </a:lnTo>
                <a:lnTo>
                  <a:pt x="31750" y="57150"/>
                </a:lnTo>
                <a:lnTo>
                  <a:pt x="44450" y="63500"/>
                </a:lnTo>
                <a:lnTo>
                  <a:pt x="50800" y="63500"/>
                </a:lnTo>
                <a:lnTo>
                  <a:pt x="57150" y="63500"/>
                </a:lnTo>
                <a:lnTo>
                  <a:pt x="69850" y="57150"/>
                </a:lnTo>
                <a:lnTo>
                  <a:pt x="76200" y="57150"/>
                </a:lnTo>
                <a:lnTo>
                  <a:pt x="82550" y="57150"/>
                </a:lnTo>
                <a:lnTo>
                  <a:pt x="88900" y="50800"/>
                </a:lnTo>
                <a:lnTo>
                  <a:pt x="95250" y="44450"/>
                </a:lnTo>
                <a:lnTo>
                  <a:pt x="95250" y="44450"/>
                </a:lnTo>
                <a:lnTo>
                  <a:pt x="95250" y="38100"/>
                </a:lnTo>
                <a:lnTo>
                  <a:pt x="95250" y="31750"/>
                </a:lnTo>
                <a:lnTo>
                  <a:pt x="88900" y="31750"/>
                </a:lnTo>
                <a:lnTo>
                  <a:pt x="88900" y="25400"/>
                </a:lnTo>
                <a:lnTo>
                  <a:pt x="82550" y="25400"/>
                </a:lnTo>
                <a:lnTo>
                  <a:pt x="76200" y="19050"/>
                </a:lnTo>
                <a:lnTo>
                  <a:pt x="69850" y="19050"/>
                </a:lnTo>
                <a:lnTo>
                  <a:pt x="57150" y="19050"/>
                </a:lnTo>
                <a:lnTo>
                  <a:pt x="50800" y="19050"/>
                </a:lnTo>
                <a:lnTo>
                  <a:pt x="38100" y="19050"/>
                </a:lnTo>
                <a:lnTo>
                  <a:pt x="31750" y="19050"/>
                </a:lnTo>
                <a:lnTo>
                  <a:pt x="25400" y="25400"/>
                </a:lnTo>
                <a:lnTo>
                  <a:pt x="12700" y="31750"/>
                </a:lnTo>
                <a:lnTo>
                  <a:pt x="6350" y="38100"/>
                </a:lnTo>
                <a:lnTo>
                  <a:pt x="0" y="44450"/>
                </a:lnTo>
                <a:lnTo>
                  <a:pt x="0" y="50800"/>
                </a:lnTo>
                <a:lnTo>
                  <a:pt x="0" y="63500"/>
                </a:lnTo>
                <a:lnTo>
                  <a:pt x="0" y="69850"/>
                </a:lnTo>
                <a:lnTo>
                  <a:pt x="0" y="69850"/>
                </a:lnTo>
                <a:lnTo>
                  <a:pt x="0" y="76200"/>
                </a:lnTo>
                <a:lnTo>
                  <a:pt x="0" y="76200"/>
                </a:lnTo>
                <a:lnTo>
                  <a:pt x="6350" y="82550"/>
                </a:lnTo>
                <a:lnTo>
                  <a:pt x="6350" y="82550"/>
                </a:lnTo>
              </a:path>
            </a:pathLst>
          </a:custGeom>
          <a:noFill/>
          <a:ln w="38160">
            <a:solidFill>
              <a:srgbClr val="ff0000"/>
            </a:solidFill>
            <a:round/>
          </a:ln>
        </p:spPr>
        <p:style>
          <a:lnRef idx="0"/>
          <a:fillRef idx="0"/>
          <a:effectRef idx="0"/>
          <a:fontRef idx="minor"/>
        </p:style>
        <p:txBody>
          <a:bodyPr tIns="37440" bIns="37440" anchor="ctr">
            <a:noAutofit/>
          </a:bodyPr>
          <a:p>
            <a:endParaRPr b="0" lang="en-US" sz="1800" spc="-1" strike="noStrike">
              <a:solidFill>
                <a:srgbClr val="000000"/>
              </a:solidFill>
              <a:latin typeface="Verdana"/>
            </a:endParaRPr>
          </a:p>
        </p:txBody>
      </p:sp>
      <p:sp>
        <p:nvSpPr>
          <p:cNvPr id="156" name="Freeform 17"/>
          <p:cNvSpPr/>
          <p:nvPr/>
        </p:nvSpPr>
        <p:spPr>
          <a:xfrm>
            <a:off x="533520" y="3397320"/>
            <a:ext cx="95040" cy="330120"/>
          </a:xfrm>
          <a:custGeom>
            <a:avLst/>
            <a:gdLst>
              <a:gd name="textAreaLeft" fmla="*/ 0 w 95040"/>
              <a:gd name="textAreaRight" fmla="*/ 95400 w 95040"/>
              <a:gd name="textAreaTop" fmla="*/ 0 h 330120"/>
              <a:gd name="textAreaBottom" fmla="*/ 330120 h 330120"/>
            </a:gdLst>
            <a:ahLst/>
            <a:rect l="textAreaLeft" t="textAreaTop" r="textAreaRight" b="textAreaBottom"/>
            <a:pathLst>
              <a:path w="95251" h="330201">
                <a:moveTo>
                  <a:pt x="0" y="6350"/>
                </a:moveTo>
                <a:lnTo>
                  <a:pt x="0" y="6350"/>
                </a:lnTo>
                <a:lnTo>
                  <a:pt x="0" y="6350"/>
                </a:lnTo>
                <a:lnTo>
                  <a:pt x="6350" y="6350"/>
                </a:lnTo>
                <a:lnTo>
                  <a:pt x="6350" y="0"/>
                </a:lnTo>
                <a:lnTo>
                  <a:pt x="6350" y="0"/>
                </a:lnTo>
                <a:lnTo>
                  <a:pt x="6350" y="0"/>
                </a:lnTo>
                <a:lnTo>
                  <a:pt x="6350" y="0"/>
                </a:lnTo>
                <a:lnTo>
                  <a:pt x="6350" y="0"/>
                </a:lnTo>
                <a:lnTo>
                  <a:pt x="6350" y="6350"/>
                </a:lnTo>
                <a:lnTo>
                  <a:pt x="6350" y="6350"/>
                </a:lnTo>
                <a:lnTo>
                  <a:pt x="6350" y="12700"/>
                </a:lnTo>
                <a:lnTo>
                  <a:pt x="12700" y="25400"/>
                </a:lnTo>
                <a:lnTo>
                  <a:pt x="12700" y="31750"/>
                </a:lnTo>
                <a:lnTo>
                  <a:pt x="12700" y="44450"/>
                </a:lnTo>
                <a:lnTo>
                  <a:pt x="19050" y="63500"/>
                </a:lnTo>
                <a:lnTo>
                  <a:pt x="19050" y="76200"/>
                </a:lnTo>
                <a:lnTo>
                  <a:pt x="25400" y="95250"/>
                </a:lnTo>
                <a:lnTo>
                  <a:pt x="31750" y="114300"/>
                </a:lnTo>
                <a:lnTo>
                  <a:pt x="38100" y="133350"/>
                </a:lnTo>
                <a:lnTo>
                  <a:pt x="38100" y="152400"/>
                </a:lnTo>
                <a:lnTo>
                  <a:pt x="44450" y="171450"/>
                </a:lnTo>
                <a:lnTo>
                  <a:pt x="50800" y="196850"/>
                </a:lnTo>
                <a:lnTo>
                  <a:pt x="63500" y="215900"/>
                </a:lnTo>
                <a:lnTo>
                  <a:pt x="69850" y="234950"/>
                </a:lnTo>
                <a:lnTo>
                  <a:pt x="76200" y="254000"/>
                </a:lnTo>
                <a:lnTo>
                  <a:pt x="82550" y="273050"/>
                </a:lnTo>
                <a:lnTo>
                  <a:pt x="82550" y="292100"/>
                </a:lnTo>
                <a:lnTo>
                  <a:pt x="88900" y="304800"/>
                </a:lnTo>
                <a:lnTo>
                  <a:pt x="88900" y="317500"/>
                </a:lnTo>
                <a:lnTo>
                  <a:pt x="95250" y="323850"/>
                </a:lnTo>
                <a:lnTo>
                  <a:pt x="95250" y="330200"/>
                </a:lnTo>
                <a:lnTo>
                  <a:pt x="95250" y="330200"/>
                </a:lnTo>
                <a:lnTo>
                  <a:pt x="95250" y="323850"/>
                </a:lnTo>
                <a:lnTo>
                  <a:pt x="88900" y="317500"/>
                </a:lnTo>
                <a:lnTo>
                  <a:pt x="88900" y="317500"/>
                </a:lnTo>
                <a:lnTo>
                  <a:pt x="82550" y="311150"/>
                </a:lnTo>
                <a:lnTo>
                  <a:pt x="82550" y="3111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57" name="Freeform 18"/>
          <p:cNvSpPr/>
          <p:nvPr/>
        </p:nvSpPr>
        <p:spPr>
          <a:xfrm>
            <a:off x="476280" y="3384720"/>
            <a:ext cx="311040" cy="152280"/>
          </a:xfrm>
          <a:custGeom>
            <a:avLst/>
            <a:gdLst>
              <a:gd name="textAreaLeft" fmla="*/ 0 w 311040"/>
              <a:gd name="textAreaRight" fmla="*/ 311400 w 311040"/>
              <a:gd name="textAreaTop" fmla="*/ 0 h 152280"/>
              <a:gd name="textAreaBottom" fmla="*/ 152640 h 152280"/>
            </a:gdLst>
            <a:ahLst/>
            <a:rect l="textAreaLeft" t="textAreaTop" r="textAreaRight" b="textAreaBottom"/>
            <a:pathLst>
              <a:path w="311151" h="152401">
                <a:moveTo>
                  <a:pt x="0" y="31750"/>
                </a:moveTo>
                <a:lnTo>
                  <a:pt x="0" y="31750"/>
                </a:lnTo>
                <a:lnTo>
                  <a:pt x="0" y="25400"/>
                </a:lnTo>
                <a:lnTo>
                  <a:pt x="0" y="25400"/>
                </a:lnTo>
                <a:lnTo>
                  <a:pt x="6350" y="19050"/>
                </a:lnTo>
                <a:lnTo>
                  <a:pt x="12700" y="12700"/>
                </a:lnTo>
                <a:lnTo>
                  <a:pt x="25400" y="6350"/>
                </a:lnTo>
                <a:lnTo>
                  <a:pt x="38100" y="6350"/>
                </a:lnTo>
                <a:lnTo>
                  <a:pt x="50800" y="0"/>
                </a:lnTo>
                <a:lnTo>
                  <a:pt x="63500" y="0"/>
                </a:lnTo>
                <a:lnTo>
                  <a:pt x="82550" y="0"/>
                </a:lnTo>
                <a:lnTo>
                  <a:pt x="101600" y="0"/>
                </a:lnTo>
                <a:lnTo>
                  <a:pt x="120650" y="0"/>
                </a:lnTo>
                <a:lnTo>
                  <a:pt x="139700" y="0"/>
                </a:lnTo>
                <a:lnTo>
                  <a:pt x="165100" y="0"/>
                </a:lnTo>
                <a:lnTo>
                  <a:pt x="190500" y="6350"/>
                </a:lnTo>
                <a:lnTo>
                  <a:pt x="209550" y="6350"/>
                </a:lnTo>
                <a:lnTo>
                  <a:pt x="228600" y="12700"/>
                </a:lnTo>
                <a:lnTo>
                  <a:pt x="241300" y="19050"/>
                </a:lnTo>
                <a:lnTo>
                  <a:pt x="260350" y="25400"/>
                </a:lnTo>
                <a:lnTo>
                  <a:pt x="279400" y="38100"/>
                </a:lnTo>
                <a:lnTo>
                  <a:pt x="285750" y="44450"/>
                </a:lnTo>
                <a:lnTo>
                  <a:pt x="298450" y="50800"/>
                </a:lnTo>
                <a:lnTo>
                  <a:pt x="304800" y="57150"/>
                </a:lnTo>
                <a:lnTo>
                  <a:pt x="311150" y="69850"/>
                </a:lnTo>
                <a:lnTo>
                  <a:pt x="311150" y="76200"/>
                </a:lnTo>
                <a:lnTo>
                  <a:pt x="304800" y="82550"/>
                </a:lnTo>
                <a:lnTo>
                  <a:pt x="304800" y="88900"/>
                </a:lnTo>
                <a:lnTo>
                  <a:pt x="292100" y="95250"/>
                </a:lnTo>
                <a:lnTo>
                  <a:pt x="285750" y="107950"/>
                </a:lnTo>
                <a:lnTo>
                  <a:pt x="266700" y="114300"/>
                </a:lnTo>
                <a:lnTo>
                  <a:pt x="247650" y="120650"/>
                </a:lnTo>
                <a:lnTo>
                  <a:pt x="234950" y="127000"/>
                </a:lnTo>
                <a:lnTo>
                  <a:pt x="209550" y="133350"/>
                </a:lnTo>
                <a:lnTo>
                  <a:pt x="190500" y="139700"/>
                </a:lnTo>
                <a:lnTo>
                  <a:pt x="171450" y="139700"/>
                </a:lnTo>
                <a:lnTo>
                  <a:pt x="158750" y="146050"/>
                </a:lnTo>
                <a:lnTo>
                  <a:pt x="139700" y="152400"/>
                </a:lnTo>
                <a:lnTo>
                  <a:pt x="133350" y="152400"/>
                </a:lnTo>
                <a:lnTo>
                  <a:pt x="120650" y="152400"/>
                </a:lnTo>
                <a:lnTo>
                  <a:pt x="114300" y="152400"/>
                </a:lnTo>
                <a:lnTo>
                  <a:pt x="107950" y="152400"/>
                </a:lnTo>
                <a:lnTo>
                  <a:pt x="107950" y="152400"/>
                </a:lnTo>
                <a:lnTo>
                  <a:pt x="114300" y="146050"/>
                </a:lnTo>
                <a:lnTo>
                  <a:pt x="114300" y="146050"/>
                </a:lnTo>
                <a:lnTo>
                  <a:pt x="120650" y="146050"/>
                </a:lnTo>
                <a:lnTo>
                  <a:pt x="120650" y="1460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58" name="Freeform 19"/>
          <p:cNvSpPr/>
          <p:nvPr/>
        </p:nvSpPr>
        <p:spPr>
          <a:xfrm>
            <a:off x="812880" y="3270240"/>
            <a:ext cx="228600" cy="235080"/>
          </a:xfrm>
          <a:custGeom>
            <a:avLst/>
            <a:gdLst>
              <a:gd name="textAreaLeft" fmla="*/ 0 w 228600"/>
              <a:gd name="textAreaRight" fmla="*/ 228960 w 228600"/>
              <a:gd name="textAreaTop" fmla="*/ 0 h 235080"/>
              <a:gd name="textAreaBottom" fmla="*/ 235440 h 235080"/>
            </a:gdLst>
            <a:ahLst/>
            <a:rect l="textAreaLeft" t="textAreaTop" r="textAreaRight" b="textAreaBottom"/>
            <a:pathLst>
              <a:path w="228601" h="234951">
                <a:moveTo>
                  <a:pt x="25400" y="171450"/>
                </a:moveTo>
                <a:lnTo>
                  <a:pt x="25400" y="171450"/>
                </a:lnTo>
                <a:lnTo>
                  <a:pt x="25400" y="177800"/>
                </a:lnTo>
                <a:lnTo>
                  <a:pt x="19050" y="177800"/>
                </a:lnTo>
                <a:lnTo>
                  <a:pt x="19050" y="177800"/>
                </a:lnTo>
                <a:lnTo>
                  <a:pt x="19050" y="177800"/>
                </a:lnTo>
                <a:lnTo>
                  <a:pt x="19050" y="177800"/>
                </a:lnTo>
                <a:lnTo>
                  <a:pt x="25400" y="171450"/>
                </a:lnTo>
                <a:lnTo>
                  <a:pt x="25400" y="171450"/>
                </a:lnTo>
                <a:lnTo>
                  <a:pt x="38100" y="165100"/>
                </a:lnTo>
                <a:lnTo>
                  <a:pt x="44450" y="165100"/>
                </a:lnTo>
                <a:lnTo>
                  <a:pt x="50800" y="158750"/>
                </a:lnTo>
                <a:lnTo>
                  <a:pt x="69850" y="152400"/>
                </a:lnTo>
                <a:lnTo>
                  <a:pt x="82550" y="146050"/>
                </a:lnTo>
                <a:lnTo>
                  <a:pt x="88900" y="133350"/>
                </a:lnTo>
                <a:lnTo>
                  <a:pt x="107950" y="127000"/>
                </a:lnTo>
                <a:lnTo>
                  <a:pt x="120650" y="114300"/>
                </a:lnTo>
                <a:lnTo>
                  <a:pt x="133350" y="107950"/>
                </a:lnTo>
                <a:lnTo>
                  <a:pt x="139700" y="95250"/>
                </a:lnTo>
                <a:lnTo>
                  <a:pt x="146050" y="82550"/>
                </a:lnTo>
                <a:lnTo>
                  <a:pt x="152400" y="76200"/>
                </a:lnTo>
                <a:lnTo>
                  <a:pt x="152400" y="63500"/>
                </a:lnTo>
                <a:lnTo>
                  <a:pt x="158750" y="50800"/>
                </a:lnTo>
                <a:lnTo>
                  <a:pt x="158750" y="44450"/>
                </a:lnTo>
                <a:lnTo>
                  <a:pt x="152400" y="38100"/>
                </a:lnTo>
                <a:lnTo>
                  <a:pt x="152400" y="25400"/>
                </a:lnTo>
                <a:lnTo>
                  <a:pt x="146050" y="19050"/>
                </a:lnTo>
                <a:lnTo>
                  <a:pt x="139700" y="12700"/>
                </a:lnTo>
                <a:lnTo>
                  <a:pt x="133350" y="6350"/>
                </a:lnTo>
                <a:lnTo>
                  <a:pt x="120650" y="0"/>
                </a:lnTo>
                <a:lnTo>
                  <a:pt x="107950" y="0"/>
                </a:lnTo>
                <a:lnTo>
                  <a:pt x="95250" y="0"/>
                </a:lnTo>
                <a:lnTo>
                  <a:pt x="88900" y="0"/>
                </a:lnTo>
                <a:lnTo>
                  <a:pt x="69850" y="6350"/>
                </a:lnTo>
                <a:lnTo>
                  <a:pt x="57150" y="12700"/>
                </a:lnTo>
                <a:lnTo>
                  <a:pt x="44450" y="19050"/>
                </a:lnTo>
                <a:lnTo>
                  <a:pt x="38100" y="25400"/>
                </a:lnTo>
                <a:lnTo>
                  <a:pt x="25400" y="38100"/>
                </a:lnTo>
                <a:lnTo>
                  <a:pt x="19050" y="50800"/>
                </a:lnTo>
                <a:lnTo>
                  <a:pt x="12700" y="63500"/>
                </a:lnTo>
                <a:lnTo>
                  <a:pt x="6350" y="76200"/>
                </a:lnTo>
                <a:lnTo>
                  <a:pt x="6350" y="88900"/>
                </a:lnTo>
                <a:lnTo>
                  <a:pt x="0" y="107950"/>
                </a:lnTo>
                <a:lnTo>
                  <a:pt x="6350" y="120650"/>
                </a:lnTo>
                <a:lnTo>
                  <a:pt x="6350" y="133350"/>
                </a:lnTo>
                <a:lnTo>
                  <a:pt x="12700" y="152400"/>
                </a:lnTo>
                <a:lnTo>
                  <a:pt x="19050" y="165100"/>
                </a:lnTo>
                <a:lnTo>
                  <a:pt x="25400" y="177800"/>
                </a:lnTo>
                <a:lnTo>
                  <a:pt x="38100" y="190500"/>
                </a:lnTo>
                <a:lnTo>
                  <a:pt x="44450" y="203200"/>
                </a:lnTo>
                <a:lnTo>
                  <a:pt x="57150" y="215900"/>
                </a:lnTo>
                <a:lnTo>
                  <a:pt x="69850" y="222250"/>
                </a:lnTo>
                <a:lnTo>
                  <a:pt x="82550" y="228600"/>
                </a:lnTo>
                <a:lnTo>
                  <a:pt x="95250" y="228600"/>
                </a:lnTo>
                <a:lnTo>
                  <a:pt x="107950" y="234950"/>
                </a:lnTo>
                <a:lnTo>
                  <a:pt x="127000" y="228600"/>
                </a:lnTo>
                <a:lnTo>
                  <a:pt x="139700" y="228600"/>
                </a:lnTo>
                <a:lnTo>
                  <a:pt x="152400" y="222250"/>
                </a:lnTo>
                <a:lnTo>
                  <a:pt x="165100" y="215900"/>
                </a:lnTo>
                <a:lnTo>
                  <a:pt x="184150" y="209550"/>
                </a:lnTo>
                <a:lnTo>
                  <a:pt x="190500" y="196850"/>
                </a:lnTo>
                <a:lnTo>
                  <a:pt x="203200" y="190500"/>
                </a:lnTo>
                <a:lnTo>
                  <a:pt x="209550" y="177800"/>
                </a:lnTo>
                <a:lnTo>
                  <a:pt x="222250" y="165100"/>
                </a:lnTo>
                <a:lnTo>
                  <a:pt x="228600" y="152400"/>
                </a:lnTo>
                <a:lnTo>
                  <a:pt x="228600" y="152400"/>
                </a:lnTo>
                <a:lnTo>
                  <a:pt x="228600" y="146050"/>
                </a:lnTo>
                <a:lnTo>
                  <a:pt x="228600" y="1460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59" name="Freeform 20"/>
          <p:cNvSpPr/>
          <p:nvPr/>
        </p:nvSpPr>
        <p:spPr>
          <a:xfrm>
            <a:off x="1047600" y="3187800"/>
            <a:ext cx="298440" cy="234720"/>
          </a:xfrm>
          <a:custGeom>
            <a:avLst/>
            <a:gdLst>
              <a:gd name="textAreaLeft" fmla="*/ 0 w 298440"/>
              <a:gd name="textAreaRight" fmla="*/ 298800 w 298440"/>
              <a:gd name="textAreaTop" fmla="*/ 0 h 234720"/>
              <a:gd name="textAreaBottom" fmla="*/ 235080 h 234720"/>
            </a:gdLst>
            <a:ahLst/>
            <a:rect l="textAreaLeft" t="textAreaTop" r="textAreaRight" b="textAreaBottom"/>
            <a:pathLst>
              <a:path w="298451" h="234951">
                <a:moveTo>
                  <a:pt x="0" y="82550"/>
                </a:moveTo>
                <a:lnTo>
                  <a:pt x="0" y="76200"/>
                </a:lnTo>
                <a:lnTo>
                  <a:pt x="0" y="76200"/>
                </a:lnTo>
                <a:lnTo>
                  <a:pt x="0" y="69850"/>
                </a:lnTo>
                <a:lnTo>
                  <a:pt x="0" y="63500"/>
                </a:lnTo>
                <a:lnTo>
                  <a:pt x="0" y="57150"/>
                </a:lnTo>
                <a:lnTo>
                  <a:pt x="6350" y="44450"/>
                </a:lnTo>
                <a:lnTo>
                  <a:pt x="12700" y="38100"/>
                </a:lnTo>
                <a:lnTo>
                  <a:pt x="25400" y="31750"/>
                </a:lnTo>
                <a:lnTo>
                  <a:pt x="38100" y="19050"/>
                </a:lnTo>
                <a:lnTo>
                  <a:pt x="44450" y="12700"/>
                </a:lnTo>
                <a:lnTo>
                  <a:pt x="57150" y="12700"/>
                </a:lnTo>
                <a:lnTo>
                  <a:pt x="69850" y="6350"/>
                </a:lnTo>
                <a:lnTo>
                  <a:pt x="88900" y="6350"/>
                </a:lnTo>
                <a:lnTo>
                  <a:pt x="107950" y="0"/>
                </a:lnTo>
                <a:lnTo>
                  <a:pt x="120650" y="6350"/>
                </a:lnTo>
                <a:lnTo>
                  <a:pt x="139700" y="6350"/>
                </a:lnTo>
                <a:lnTo>
                  <a:pt x="158750" y="12700"/>
                </a:lnTo>
                <a:lnTo>
                  <a:pt x="171450" y="19050"/>
                </a:lnTo>
                <a:lnTo>
                  <a:pt x="190500" y="31750"/>
                </a:lnTo>
                <a:lnTo>
                  <a:pt x="203200" y="44450"/>
                </a:lnTo>
                <a:lnTo>
                  <a:pt x="222250" y="50800"/>
                </a:lnTo>
                <a:lnTo>
                  <a:pt x="234950" y="69850"/>
                </a:lnTo>
                <a:lnTo>
                  <a:pt x="241300" y="82550"/>
                </a:lnTo>
                <a:lnTo>
                  <a:pt x="260350" y="95250"/>
                </a:lnTo>
                <a:lnTo>
                  <a:pt x="266700" y="107950"/>
                </a:lnTo>
                <a:lnTo>
                  <a:pt x="279400" y="127000"/>
                </a:lnTo>
                <a:lnTo>
                  <a:pt x="285750" y="139700"/>
                </a:lnTo>
                <a:lnTo>
                  <a:pt x="285750" y="146050"/>
                </a:lnTo>
                <a:lnTo>
                  <a:pt x="292100" y="152400"/>
                </a:lnTo>
                <a:lnTo>
                  <a:pt x="298450" y="158750"/>
                </a:lnTo>
                <a:lnTo>
                  <a:pt x="298450" y="158750"/>
                </a:lnTo>
                <a:lnTo>
                  <a:pt x="298450" y="165100"/>
                </a:lnTo>
                <a:lnTo>
                  <a:pt x="298450" y="158750"/>
                </a:lnTo>
                <a:lnTo>
                  <a:pt x="298450" y="158750"/>
                </a:lnTo>
                <a:lnTo>
                  <a:pt x="292100" y="152400"/>
                </a:lnTo>
                <a:lnTo>
                  <a:pt x="285750" y="146050"/>
                </a:lnTo>
                <a:lnTo>
                  <a:pt x="285750" y="133350"/>
                </a:lnTo>
                <a:lnTo>
                  <a:pt x="273050" y="127000"/>
                </a:lnTo>
                <a:lnTo>
                  <a:pt x="260350" y="114300"/>
                </a:lnTo>
                <a:lnTo>
                  <a:pt x="247650" y="107950"/>
                </a:lnTo>
                <a:lnTo>
                  <a:pt x="234950" y="95250"/>
                </a:lnTo>
                <a:lnTo>
                  <a:pt x="222250" y="88900"/>
                </a:lnTo>
                <a:lnTo>
                  <a:pt x="203200" y="82550"/>
                </a:lnTo>
                <a:lnTo>
                  <a:pt x="184150" y="82550"/>
                </a:lnTo>
                <a:lnTo>
                  <a:pt x="165100" y="76200"/>
                </a:lnTo>
                <a:lnTo>
                  <a:pt x="146050" y="76200"/>
                </a:lnTo>
                <a:lnTo>
                  <a:pt x="127000" y="82550"/>
                </a:lnTo>
                <a:lnTo>
                  <a:pt x="107950" y="88900"/>
                </a:lnTo>
                <a:lnTo>
                  <a:pt x="95250" y="95250"/>
                </a:lnTo>
                <a:lnTo>
                  <a:pt x="76200" y="101600"/>
                </a:lnTo>
                <a:lnTo>
                  <a:pt x="63500" y="107950"/>
                </a:lnTo>
                <a:lnTo>
                  <a:pt x="50800" y="120650"/>
                </a:lnTo>
                <a:lnTo>
                  <a:pt x="44450" y="127000"/>
                </a:lnTo>
                <a:lnTo>
                  <a:pt x="38100" y="139700"/>
                </a:lnTo>
                <a:lnTo>
                  <a:pt x="38100" y="152400"/>
                </a:lnTo>
                <a:lnTo>
                  <a:pt x="38100" y="165100"/>
                </a:lnTo>
                <a:lnTo>
                  <a:pt x="38100" y="177800"/>
                </a:lnTo>
                <a:lnTo>
                  <a:pt x="44450" y="190500"/>
                </a:lnTo>
                <a:lnTo>
                  <a:pt x="44450" y="196850"/>
                </a:lnTo>
                <a:lnTo>
                  <a:pt x="57150" y="209550"/>
                </a:lnTo>
                <a:lnTo>
                  <a:pt x="69850" y="215900"/>
                </a:lnTo>
                <a:lnTo>
                  <a:pt x="82550" y="222250"/>
                </a:lnTo>
                <a:lnTo>
                  <a:pt x="95250" y="228600"/>
                </a:lnTo>
                <a:lnTo>
                  <a:pt x="114300" y="234950"/>
                </a:lnTo>
                <a:lnTo>
                  <a:pt x="133350" y="234950"/>
                </a:lnTo>
                <a:lnTo>
                  <a:pt x="146050" y="234950"/>
                </a:lnTo>
                <a:lnTo>
                  <a:pt x="171450" y="234950"/>
                </a:lnTo>
                <a:lnTo>
                  <a:pt x="190500" y="228600"/>
                </a:lnTo>
                <a:lnTo>
                  <a:pt x="203200" y="228600"/>
                </a:lnTo>
                <a:lnTo>
                  <a:pt x="215900" y="215900"/>
                </a:lnTo>
                <a:lnTo>
                  <a:pt x="234950" y="209550"/>
                </a:lnTo>
                <a:lnTo>
                  <a:pt x="247650" y="203200"/>
                </a:lnTo>
                <a:lnTo>
                  <a:pt x="260350" y="190500"/>
                </a:lnTo>
                <a:lnTo>
                  <a:pt x="260350" y="190500"/>
                </a:lnTo>
                <a:lnTo>
                  <a:pt x="266700" y="184150"/>
                </a:lnTo>
                <a:lnTo>
                  <a:pt x="266700" y="1841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60" name="Freeform 21"/>
          <p:cNvSpPr/>
          <p:nvPr/>
        </p:nvSpPr>
        <p:spPr>
          <a:xfrm>
            <a:off x="1333440" y="3079800"/>
            <a:ext cx="254160" cy="253800"/>
          </a:xfrm>
          <a:custGeom>
            <a:avLst/>
            <a:gdLst>
              <a:gd name="textAreaLeft" fmla="*/ 0 w 254160"/>
              <a:gd name="textAreaRight" fmla="*/ 254520 w 254160"/>
              <a:gd name="textAreaTop" fmla="*/ 0 h 253800"/>
              <a:gd name="textAreaBottom" fmla="*/ 254160 h 253800"/>
            </a:gdLst>
            <a:ahLst/>
            <a:rect l="textAreaLeft" t="textAreaTop" r="textAreaRight" b="textAreaBottom"/>
            <a:pathLst>
              <a:path w="254001" h="254001">
                <a:moveTo>
                  <a:pt x="184150" y="57150"/>
                </a:moveTo>
                <a:lnTo>
                  <a:pt x="184150" y="57150"/>
                </a:lnTo>
                <a:lnTo>
                  <a:pt x="184150" y="50800"/>
                </a:lnTo>
                <a:lnTo>
                  <a:pt x="177800" y="44450"/>
                </a:lnTo>
                <a:lnTo>
                  <a:pt x="177800" y="38100"/>
                </a:lnTo>
                <a:lnTo>
                  <a:pt x="171450" y="31750"/>
                </a:lnTo>
                <a:lnTo>
                  <a:pt x="165100" y="25400"/>
                </a:lnTo>
                <a:lnTo>
                  <a:pt x="158750" y="12700"/>
                </a:lnTo>
                <a:lnTo>
                  <a:pt x="152400" y="12700"/>
                </a:lnTo>
                <a:lnTo>
                  <a:pt x="139700" y="6350"/>
                </a:lnTo>
                <a:lnTo>
                  <a:pt x="127000" y="0"/>
                </a:lnTo>
                <a:lnTo>
                  <a:pt x="114300" y="0"/>
                </a:lnTo>
                <a:lnTo>
                  <a:pt x="95250" y="0"/>
                </a:lnTo>
                <a:lnTo>
                  <a:pt x="82550" y="0"/>
                </a:lnTo>
                <a:lnTo>
                  <a:pt x="69850" y="6350"/>
                </a:lnTo>
                <a:lnTo>
                  <a:pt x="57150" y="12700"/>
                </a:lnTo>
                <a:lnTo>
                  <a:pt x="38100" y="19050"/>
                </a:lnTo>
                <a:lnTo>
                  <a:pt x="31750" y="31750"/>
                </a:lnTo>
                <a:lnTo>
                  <a:pt x="19050" y="44450"/>
                </a:lnTo>
                <a:lnTo>
                  <a:pt x="12700" y="50800"/>
                </a:lnTo>
                <a:lnTo>
                  <a:pt x="6350" y="69850"/>
                </a:lnTo>
                <a:lnTo>
                  <a:pt x="0" y="82550"/>
                </a:lnTo>
                <a:lnTo>
                  <a:pt x="0" y="95250"/>
                </a:lnTo>
                <a:lnTo>
                  <a:pt x="0" y="114300"/>
                </a:lnTo>
                <a:lnTo>
                  <a:pt x="6350" y="133350"/>
                </a:lnTo>
                <a:lnTo>
                  <a:pt x="12700" y="152400"/>
                </a:lnTo>
                <a:lnTo>
                  <a:pt x="25400" y="165100"/>
                </a:lnTo>
                <a:lnTo>
                  <a:pt x="38100" y="184150"/>
                </a:lnTo>
                <a:lnTo>
                  <a:pt x="50800" y="196850"/>
                </a:lnTo>
                <a:lnTo>
                  <a:pt x="63500" y="209550"/>
                </a:lnTo>
                <a:lnTo>
                  <a:pt x="82550" y="222250"/>
                </a:lnTo>
                <a:lnTo>
                  <a:pt x="95250" y="234950"/>
                </a:lnTo>
                <a:lnTo>
                  <a:pt x="120650" y="241300"/>
                </a:lnTo>
                <a:lnTo>
                  <a:pt x="139700" y="247650"/>
                </a:lnTo>
                <a:lnTo>
                  <a:pt x="158750" y="254000"/>
                </a:lnTo>
                <a:lnTo>
                  <a:pt x="177800" y="254000"/>
                </a:lnTo>
                <a:lnTo>
                  <a:pt x="196850" y="247650"/>
                </a:lnTo>
                <a:lnTo>
                  <a:pt x="209550" y="247650"/>
                </a:lnTo>
                <a:lnTo>
                  <a:pt x="228600" y="241300"/>
                </a:lnTo>
                <a:lnTo>
                  <a:pt x="241300" y="228600"/>
                </a:lnTo>
                <a:lnTo>
                  <a:pt x="241300" y="228600"/>
                </a:lnTo>
                <a:lnTo>
                  <a:pt x="254000" y="215900"/>
                </a:lnTo>
                <a:lnTo>
                  <a:pt x="254000" y="2159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61" name="Freeform 22"/>
          <p:cNvSpPr/>
          <p:nvPr/>
        </p:nvSpPr>
        <p:spPr>
          <a:xfrm>
            <a:off x="1555920" y="3041640"/>
            <a:ext cx="279360" cy="216000"/>
          </a:xfrm>
          <a:custGeom>
            <a:avLst/>
            <a:gdLst>
              <a:gd name="textAreaLeft" fmla="*/ 0 w 279360"/>
              <a:gd name="textAreaRight" fmla="*/ 279720 w 279360"/>
              <a:gd name="textAreaTop" fmla="*/ 0 h 216000"/>
              <a:gd name="textAreaBottom" fmla="*/ 216360 h 216000"/>
            </a:gdLst>
            <a:ahLst/>
            <a:rect l="textAreaLeft" t="textAreaTop" r="textAreaRight" b="textAreaBottom"/>
            <a:pathLst>
              <a:path w="279401" h="215901">
                <a:moveTo>
                  <a:pt x="12700" y="120650"/>
                </a:moveTo>
                <a:lnTo>
                  <a:pt x="12700" y="120650"/>
                </a:lnTo>
                <a:lnTo>
                  <a:pt x="12700" y="120650"/>
                </a:lnTo>
                <a:lnTo>
                  <a:pt x="12700" y="120650"/>
                </a:lnTo>
                <a:lnTo>
                  <a:pt x="19050" y="120650"/>
                </a:lnTo>
                <a:lnTo>
                  <a:pt x="25400" y="114300"/>
                </a:lnTo>
                <a:lnTo>
                  <a:pt x="31750" y="107950"/>
                </a:lnTo>
                <a:lnTo>
                  <a:pt x="44450" y="101600"/>
                </a:lnTo>
                <a:lnTo>
                  <a:pt x="63500" y="95250"/>
                </a:lnTo>
                <a:lnTo>
                  <a:pt x="76200" y="88900"/>
                </a:lnTo>
                <a:lnTo>
                  <a:pt x="95250" y="82550"/>
                </a:lnTo>
                <a:lnTo>
                  <a:pt x="107950" y="76200"/>
                </a:lnTo>
                <a:lnTo>
                  <a:pt x="133350" y="69850"/>
                </a:lnTo>
                <a:lnTo>
                  <a:pt x="146050" y="63500"/>
                </a:lnTo>
                <a:lnTo>
                  <a:pt x="158750" y="63500"/>
                </a:lnTo>
                <a:lnTo>
                  <a:pt x="171450" y="63500"/>
                </a:lnTo>
                <a:lnTo>
                  <a:pt x="184150" y="57150"/>
                </a:lnTo>
                <a:lnTo>
                  <a:pt x="190500" y="57150"/>
                </a:lnTo>
                <a:lnTo>
                  <a:pt x="196850" y="57150"/>
                </a:lnTo>
                <a:lnTo>
                  <a:pt x="203200" y="50800"/>
                </a:lnTo>
                <a:lnTo>
                  <a:pt x="203200" y="50800"/>
                </a:lnTo>
                <a:lnTo>
                  <a:pt x="203200" y="50800"/>
                </a:lnTo>
                <a:lnTo>
                  <a:pt x="203200" y="44450"/>
                </a:lnTo>
                <a:lnTo>
                  <a:pt x="203200" y="38100"/>
                </a:lnTo>
                <a:lnTo>
                  <a:pt x="203200" y="31750"/>
                </a:lnTo>
                <a:lnTo>
                  <a:pt x="203200" y="25400"/>
                </a:lnTo>
                <a:lnTo>
                  <a:pt x="196850" y="25400"/>
                </a:lnTo>
                <a:lnTo>
                  <a:pt x="190500" y="19050"/>
                </a:lnTo>
                <a:lnTo>
                  <a:pt x="184150" y="12700"/>
                </a:lnTo>
                <a:lnTo>
                  <a:pt x="171450" y="6350"/>
                </a:lnTo>
                <a:lnTo>
                  <a:pt x="158750" y="6350"/>
                </a:lnTo>
                <a:lnTo>
                  <a:pt x="152400" y="6350"/>
                </a:lnTo>
                <a:lnTo>
                  <a:pt x="139700" y="0"/>
                </a:lnTo>
                <a:lnTo>
                  <a:pt x="127000" y="0"/>
                </a:lnTo>
                <a:lnTo>
                  <a:pt x="107950" y="0"/>
                </a:lnTo>
                <a:lnTo>
                  <a:pt x="95250" y="0"/>
                </a:lnTo>
                <a:lnTo>
                  <a:pt x="76200" y="0"/>
                </a:lnTo>
                <a:lnTo>
                  <a:pt x="63500" y="6350"/>
                </a:lnTo>
                <a:lnTo>
                  <a:pt x="50800" y="6350"/>
                </a:lnTo>
                <a:lnTo>
                  <a:pt x="38100" y="12700"/>
                </a:lnTo>
                <a:lnTo>
                  <a:pt x="25400" y="19050"/>
                </a:lnTo>
                <a:lnTo>
                  <a:pt x="19050" y="25400"/>
                </a:lnTo>
                <a:lnTo>
                  <a:pt x="12700" y="38100"/>
                </a:lnTo>
                <a:lnTo>
                  <a:pt x="6350" y="44450"/>
                </a:lnTo>
                <a:lnTo>
                  <a:pt x="0" y="57150"/>
                </a:lnTo>
                <a:lnTo>
                  <a:pt x="0" y="63500"/>
                </a:lnTo>
                <a:lnTo>
                  <a:pt x="0" y="76200"/>
                </a:lnTo>
                <a:lnTo>
                  <a:pt x="0" y="88900"/>
                </a:lnTo>
                <a:lnTo>
                  <a:pt x="0" y="101600"/>
                </a:lnTo>
                <a:lnTo>
                  <a:pt x="6350" y="120650"/>
                </a:lnTo>
                <a:lnTo>
                  <a:pt x="12700" y="133350"/>
                </a:lnTo>
                <a:lnTo>
                  <a:pt x="25400" y="146050"/>
                </a:lnTo>
                <a:lnTo>
                  <a:pt x="38100" y="158750"/>
                </a:lnTo>
                <a:lnTo>
                  <a:pt x="50800" y="171450"/>
                </a:lnTo>
                <a:lnTo>
                  <a:pt x="63500" y="177800"/>
                </a:lnTo>
                <a:lnTo>
                  <a:pt x="82550" y="190500"/>
                </a:lnTo>
                <a:lnTo>
                  <a:pt x="95250" y="196850"/>
                </a:lnTo>
                <a:lnTo>
                  <a:pt x="114300" y="203200"/>
                </a:lnTo>
                <a:lnTo>
                  <a:pt x="133350" y="209550"/>
                </a:lnTo>
                <a:lnTo>
                  <a:pt x="152400" y="215900"/>
                </a:lnTo>
                <a:lnTo>
                  <a:pt x="171450" y="215900"/>
                </a:lnTo>
                <a:lnTo>
                  <a:pt x="190500" y="215900"/>
                </a:lnTo>
                <a:lnTo>
                  <a:pt x="203200" y="215900"/>
                </a:lnTo>
                <a:lnTo>
                  <a:pt x="215900" y="215900"/>
                </a:lnTo>
                <a:lnTo>
                  <a:pt x="234950" y="209550"/>
                </a:lnTo>
                <a:lnTo>
                  <a:pt x="247650" y="203200"/>
                </a:lnTo>
                <a:lnTo>
                  <a:pt x="260350" y="196850"/>
                </a:lnTo>
                <a:lnTo>
                  <a:pt x="273050" y="184150"/>
                </a:lnTo>
                <a:lnTo>
                  <a:pt x="273050" y="184150"/>
                </a:lnTo>
                <a:lnTo>
                  <a:pt x="279400" y="177800"/>
                </a:lnTo>
                <a:lnTo>
                  <a:pt x="279400" y="1778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62" name="Freeform 23"/>
          <p:cNvSpPr/>
          <p:nvPr/>
        </p:nvSpPr>
        <p:spPr>
          <a:xfrm>
            <a:off x="1905120" y="2825640"/>
            <a:ext cx="247680" cy="406440"/>
          </a:xfrm>
          <a:custGeom>
            <a:avLst/>
            <a:gdLst>
              <a:gd name="textAreaLeft" fmla="*/ 0 w 247680"/>
              <a:gd name="textAreaRight" fmla="*/ 248040 w 247680"/>
              <a:gd name="textAreaTop" fmla="*/ 0 h 406440"/>
              <a:gd name="textAreaBottom" fmla="*/ 406800 h 406440"/>
            </a:gdLst>
            <a:ahLst/>
            <a:rect l="textAreaLeft" t="textAreaTop" r="textAreaRight" b="textAreaBottom"/>
            <a:pathLst>
              <a:path w="247651" h="406401">
                <a:moveTo>
                  <a:pt x="241300" y="120650"/>
                </a:moveTo>
                <a:lnTo>
                  <a:pt x="247650" y="114300"/>
                </a:lnTo>
                <a:lnTo>
                  <a:pt x="247650" y="107950"/>
                </a:lnTo>
                <a:lnTo>
                  <a:pt x="247650" y="101600"/>
                </a:lnTo>
                <a:lnTo>
                  <a:pt x="247650" y="88900"/>
                </a:lnTo>
                <a:lnTo>
                  <a:pt x="247650" y="76200"/>
                </a:lnTo>
                <a:lnTo>
                  <a:pt x="247650" y="69850"/>
                </a:lnTo>
                <a:lnTo>
                  <a:pt x="241300" y="57150"/>
                </a:lnTo>
                <a:lnTo>
                  <a:pt x="234950" y="44450"/>
                </a:lnTo>
                <a:lnTo>
                  <a:pt x="234950" y="38100"/>
                </a:lnTo>
                <a:lnTo>
                  <a:pt x="222250" y="25400"/>
                </a:lnTo>
                <a:lnTo>
                  <a:pt x="209550" y="12700"/>
                </a:lnTo>
                <a:lnTo>
                  <a:pt x="190500" y="6350"/>
                </a:lnTo>
                <a:lnTo>
                  <a:pt x="177800" y="0"/>
                </a:lnTo>
                <a:lnTo>
                  <a:pt x="158750" y="0"/>
                </a:lnTo>
                <a:lnTo>
                  <a:pt x="139700" y="0"/>
                </a:lnTo>
                <a:lnTo>
                  <a:pt x="120650" y="0"/>
                </a:lnTo>
                <a:lnTo>
                  <a:pt x="101600" y="0"/>
                </a:lnTo>
                <a:lnTo>
                  <a:pt x="82550" y="6350"/>
                </a:lnTo>
                <a:lnTo>
                  <a:pt x="63500" y="12700"/>
                </a:lnTo>
                <a:lnTo>
                  <a:pt x="50800" y="25400"/>
                </a:lnTo>
                <a:lnTo>
                  <a:pt x="38100" y="38100"/>
                </a:lnTo>
                <a:lnTo>
                  <a:pt x="25400" y="50800"/>
                </a:lnTo>
                <a:lnTo>
                  <a:pt x="12700" y="63500"/>
                </a:lnTo>
                <a:lnTo>
                  <a:pt x="6350" y="82550"/>
                </a:lnTo>
                <a:lnTo>
                  <a:pt x="0" y="101600"/>
                </a:lnTo>
                <a:lnTo>
                  <a:pt x="0" y="120650"/>
                </a:lnTo>
                <a:lnTo>
                  <a:pt x="6350" y="139700"/>
                </a:lnTo>
                <a:lnTo>
                  <a:pt x="6350" y="158750"/>
                </a:lnTo>
                <a:lnTo>
                  <a:pt x="19050" y="184150"/>
                </a:lnTo>
                <a:lnTo>
                  <a:pt x="25400" y="203200"/>
                </a:lnTo>
                <a:lnTo>
                  <a:pt x="44450" y="222250"/>
                </a:lnTo>
                <a:lnTo>
                  <a:pt x="57150" y="247650"/>
                </a:lnTo>
                <a:lnTo>
                  <a:pt x="69850" y="266700"/>
                </a:lnTo>
                <a:lnTo>
                  <a:pt x="88900" y="285750"/>
                </a:lnTo>
                <a:lnTo>
                  <a:pt x="101600" y="304800"/>
                </a:lnTo>
                <a:lnTo>
                  <a:pt x="114300" y="317500"/>
                </a:lnTo>
                <a:lnTo>
                  <a:pt x="133350" y="336550"/>
                </a:lnTo>
                <a:lnTo>
                  <a:pt x="139700" y="349250"/>
                </a:lnTo>
                <a:lnTo>
                  <a:pt x="152400" y="361950"/>
                </a:lnTo>
                <a:lnTo>
                  <a:pt x="165100" y="374650"/>
                </a:lnTo>
                <a:lnTo>
                  <a:pt x="171450" y="381000"/>
                </a:lnTo>
                <a:lnTo>
                  <a:pt x="171450" y="393700"/>
                </a:lnTo>
                <a:lnTo>
                  <a:pt x="177800" y="400050"/>
                </a:lnTo>
                <a:lnTo>
                  <a:pt x="177800" y="400050"/>
                </a:lnTo>
                <a:lnTo>
                  <a:pt x="177800" y="406400"/>
                </a:lnTo>
                <a:lnTo>
                  <a:pt x="171450" y="406400"/>
                </a:lnTo>
                <a:lnTo>
                  <a:pt x="165100" y="400050"/>
                </a:lnTo>
                <a:lnTo>
                  <a:pt x="165100" y="400050"/>
                </a:lnTo>
                <a:lnTo>
                  <a:pt x="165100" y="400050"/>
                </a:lnTo>
                <a:lnTo>
                  <a:pt x="165100" y="4000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63" name="Freeform 24"/>
          <p:cNvSpPr/>
          <p:nvPr/>
        </p:nvSpPr>
        <p:spPr>
          <a:xfrm>
            <a:off x="1835280" y="3048120"/>
            <a:ext cx="272880" cy="75960"/>
          </a:xfrm>
          <a:custGeom>
            <a:avLst/>
            <a:gdLst>
              <a:gd name="textAreaLeft" fmla="*/ 0 w 272880"/>
              <a:gd name="textAreaRight" fmla="*/ 273240 w 272880"/>
              <a:gd name="textAreaTop" fmla="*/ 0 h 75960"/>
              <a:gd name="textAreaBottom" fmla="*/ 76320 h 75960"/>
            </a:gdLst>
            <a:ahLst/>
            <a:rect l="textAreaLeft" t="textAreaTop" r="textAreaRight" b="textAreaBottom"/>
            <a:pathLst>
              <a:path w="273051" h="76201">
                <a:moveTo>
                  <a:pt x="6350" y="76200"/>
                </a:moveTo>
                <a:lnTo>
                  <a:pt x="6350" y="76200"/>
                </a:lnTo>
                <a:lnTo>
                  <a:pt x="6350" y="76200"/>
                </a:lnTo>
                <a:lnTo>
                  <a:pt x="0" y="69850"/>
                </a:lnTo>
                <a:lnTo>
                  <a:pt x="0" y="69850"/>
                </a:lnTo>
                <a:lnTo>
                  <a:pt x="0" y="63500"/>
                </a:lnTo>
                <a:lnTo>
                  <a:pt x="0" y="63500"/>
                </a:lnTo>
                <a:lnTo>
                  <a:pt x="6350" y="63500"/>
                </a:lnTo>
                <a:lnTo>
                  <a:pt x="12700" y="57150"/>
                </a:lnTo>
                <a:lnTo>
                  <a:pt x="19050" y="50800"/>
                </a:lnTo>
                <a:lnTo>
                  <a:pt x="31750" y="50800"/>
                </a:lnTo>
                <a:lnTo>
                  <a:pt x="44450" y="44450"/>
                </a:lnTo>
                <a:lnTo>
                  <a:pt x="63500" y="44450"/>
                </a:lnTo>
                <a:lnTo>
                  <a:pt x="82550" y="38100"/>
                </a:lnTo>
                <a:lnTo>
                  <a:pt x="101600" y="31750"/>
                </a:lnTo>
                <a:lnTo>
                  <a:pt x="127000" y="31750"/>
                </a:lnTo>
                <a:lnTo>
                  <a:pt x="152400" y="25400"/>
                </a:lnTo>
                <a:lnTo>
                  <a:pt x="171450" y="19050"/>
                </a:lnTo>
                <a:lnTo>
                  <a:pt x="190500" y="19050"/>
                </a:lnTo>
                <a:lnTo>
                  <a:pt x="209550" y="12700"/>
                </a:lnTo>
                <a:lnTo>
                  <a:pt x="228600" y="12700"/>
                </a:lnTo>
                <a:lnTo>
                  <a:pt x="247650" y="6350"/>
                </a:lnTo>
                <a:lnTo>
                  <a:pt x="260350" y="6350"/>
                </a:lnTo>
                <a:lnTo>
                  <a:pt x="260350" y="6350"/>
                </a:lnTo>
                <a:lnTo>
                  <a:pt x="273050" y="0"/>
                </a:lnTo>
                <a:lnTo>
                  <a:pt x="273050" y="0"/>
                </a:lnTo>
              </a:path>
            </a:pathLst>
          </a:custGeom>
          <a:noFill/>
          <a:ln w="38160">
            <a:solidFill>
              <a:srgbClr val="ff0000"/>
            </a:solidFill>
            <a:round/>
          </a:ln>
        </p:spPr>
        <p:style>
          <a:lnRef idx="0"/>
          <a:fillRef idx="0"/>
          <a:effectRef idx="0"/>
          <a:fontRef idx="minor"/>
        </p:style>
        <p:txBody>
          <a:bodyPr tIns="30600" bIns="30600" anchor="ctr">
            <a:noAutofit/>
          </a:bodyPr>
          <a:p>
            <a:endParaRPr b="0" lang="en-US" sz="1800" spc="-1" strike="noStrike">
              <a:solidFill>
                <a:srgbClr val="000000"/>
              </a:solidFill>
              <a:latin typeface="Verdana"/>
            </a:endParaRPr>
          </a:p>
        </p:txBody>
      </p:sp>
      <p:sp>
        <p:nvSpPr>
          <p:cNvPr id="164" name="Freeform 25"/>
          <p:cNvSpPr/>
          <p:nvPr/>
        </p:nvSpPr>
        <p:spPr>
          <a:xfrm>
            <a:off x="2184480" y="295920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228601" h="158751">
                <a:moveTo>
                  <a:pt x="0" y="31750"/>
                </a:moveTo>
                <a:lnTo>
                  <a:pt x="0" y="31750"/>
                </a:lnTo>
                <a:lnTo>
                  <a:pt x="0" y="31750"/>
                </a:lnTo>
                <a:lnTo>
                  <a:pt x="0" y="38100"/>
                </a:lnTo>
                <a:lnTo>
                  <a:pt x="6350" y="38100"/>
                </a:lnTo>
                <a:lnTo>
                  <a:pt x="6350" y="38100"/>
                </a:lnTo>
                <a:lnTo>
                  <a:pt x="6350" y="44450"/>
                </a:lnTo>
                <a:lnTo>
                  <a:pt x="6350" y="50800"/>
                </a:lnTo>
                <a:lnTo>
                  <a:pt x="12700" y="57150"/>
                </a:lnTo>
                <a:lnTo>
                  <a:pt x="12700" y="63500"/>
                </a:lnTo>
                <a:lnTo>
                  <a:pt x="19050" y="76200"/>
                </a:lnTo>
                <a:lnTo>
                  <a:pt x="25400" y="82550"/>
                </a:lnTo>
                <a:lnTo>
                  <a:pt x="31750" y="95250"/>
                </a:lnTo>
                <a:lnTo>
                  <a:pt x="38100" y="107950"/>
                </a:lnTo>
                <a:lnTo>
                  <a:pt x="50800" y="114300"/>
                </a:lnTo>
                <a:lnTo>
                  <a:pt x="57150" y="127000"/>
                </a:lnTo>
                <a:lnTo>
                  <a:pt x="69850" y="139700"/>
                </a:lnTo>
                <a:lnTo>
                  <a:pt x="82550" y="146050"/>
                </a:lnTo>
                <a:lnTo>
                  <a:pt x="101600" y="152400"/>
                </a:lnTo>
                <a:lnTo>
                  <a:pt x="114300" y="158750"/>
                </a:lnTo>
                <a:lnTo>
                  <a:pt x="127000" y="158750"/>
                </a:lnTo>
                <a:lnTo>
                  <a:pt x="146050" y="158750"/>
                </a:lnTo>
                <a:lnTo>
                  <a:pt x="165100" y="152400"/>
                </a:lnTo>
                <a:lnTo>
                  <a:pt x="177800" y="152400"/>
                </a:lnTo>
                <a:lnTo>
                  <a:pt x="196850" y="146050"/>
                </a:lnTo>
                <a:lnTo>
                  <a:pt x="203200" y="139700"/>
                </a:lnTo>
                <a:lnTo>
                  <a:pt x="215900" y="127000"/>
                </a:lnTo>
                <a:lnTo>
                  <a:pt x="222250" y="114300"/>
                </a:lnTo>
                <a:lnTo>
                  <a:pt x="222250" y="107950"/>
                </a:lnTo>
                <a:lnTo>
                  <a:pt x="228600" y="95250"/>
                </a:lnTo>
                <a:lnTo>
                  <a:pt x="228600" y="82550"/>
                </a:lnTo>
                <a:lnTo>
                  <a:pt x="222250" y="69850"/>
                </a:lnTo>
                <a:lnTo>
                  <a:pt x="222250" y="57150"/>
                </a:lnTo>
                <a:lnTo>
                  <a:pt x="215900" y="44450"/>
                </a:lnTo>
                <a:lnTo>
                  <a:pt x="203200" y="31750"/>
                </a:lnTo>
                <a:lnTo>
                  <a:pt x="196850" y="19050"/>
                </a:lnTo>
                <a:lnTo>
                  <a:pt x="196850" y="12700"/>
                </a:lnTo>
                <a:lnTo>
                  <a:pt x="196850" y="12700"/>
                </a:lnTo>
                <a:lnTo>
                  <a:pt x="190500" y="0"/>
                </a:lnTo>
                <a:lnTo>
                  <a:pt x="190500" y="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65" name="Freeform 26"/>
          <p:cNvSpPr/>
          <p:nvPr/>
        </p:nvSpPr>
        <p:spPr>
          <a:xfrm>
            <a:off x="2432160" y="2692440"/>
            <a:ext cx="152280" cy="406440"/>
          </a:xfrm>
          <a:custGeom>
            <a:avLst/>
            <a:gdLst>
              <a:gd name="textAreaLeft" fmla="*/ 0 w 152280"/>
              <a:gd name="textAreaRight" fmla="*/ 152640 w 152280"/>
              <a:gd name="textAreaTop" fmla="*/ 0 h 406440"/>
              <a:gd name="textAreaBottom" fmla="*/ 406800 h 406440"/>
            </a:gdLst>
            <a:ahLst/>
            <a:rect l="textAreaLeft" t="textAreaTop" r="textAreaRight" b="textAreaBottom"/>
            <a:pathLst>
              <a:path w="152401" h="406401">
                <a:moveTo>
                  <a:pt x="0" y="0"/>
                </a:moveTo>
                <a:lnTo>
                  <a:pt x="0" y="0"/>
                </a:lnTo>
                <a:lnTo>
                  <a:pt x="0" y="0"/>
                </a:lnTo>
                <a:lnTo>
                  <a:pt x="0" y="0"/>
                </a:lnTo>
                <a:lnTo>
                  <a:pt x="0" y="0"/>
                </a:lnTo>
                <a:lnTo>
                  <a:pt x="0" y="0"/>
                </a:lnTo>
                <a:lnTo>
                  <a:pt x="0" y="6350"/>
                </a:lnTo>
                <a:lnTo>
                  <a:pt x="0" y="6350"/>
                </a:lnTo>
                <a:lnTo>
                  <a:pt x="6350" y="12700"/>
                </a:lnTo>
                <a:lnTo>
                  <a:pt x="12700" y="25400"/>
                </a:lnTo>
                <a:lnTo>
                  <a:pt x="12700" y="31750"/>
                </a:lnTo>
                <a:lnTo>
                  <a:pt x="19050" y="50800"/>
                </a:lnTo>
                <a:lnTo>
                  <a:pt x="19050" y="63500"/>
                </a:lnTo>
                <a:lnTo>
                  <a:pt x="25400" y="82550"/>
                </a:lnTo>
                <a:lnTo>
                  <a:pt x="31750" y="101600"/>
                </a:lnTo>
                <a:lnTo>
                  <a:pt x="38100" y="120650"/>
                </a:lnTo>
                <a:lnTo>
                  <a:pt x="44450" y="139700"/>
                </a:lnTo>
                <a:lnTo>
                  <a:pt x="50800" y="158750"/>
                </a:lnTo>
                <a:lnTo>
                  <a:pt x="63500" y="184150"/>
                </a:lnTo>
                <a:lnTo>
                  <a:pt x="69850" y="203200"/>
                </a:lnTo>
                <a:lnTo>
                  <a:pt x="76200" y="228600"/>
                </a:lnTo>
                <a:lnTo>
                  <a:pt x="88900" y="247650"/>
                </a:lnTo>
                <a:lnTo>
                  <a:pt x="95250" y="266700"/>
                </a:lnTo>
                <a:lnTo>
                  <a:pt x="101600" y="292100"/>
                </a:lnTo>
                <a:lnTo>
                  <a:pt x="114300" y="311150"/>
                </a:lnTo>
                <a:lnTo>
                  <a:pt x="120650" y="330200"/>
                </a:lnTo>
                <a:lnTo>
                  <a:pt x="133350" y="349250"/>
                </a:lnTo>
                <a:lnTo>
                  <a:pt x="139700" y="361950"/>
                </a:lnTo>
                <a:lnTo>
                  <a:pt x="139700" y="381000"/>
                </a:lnTo>
                <a:lnTo>
                  <a:pt x="146050" y="393700"/>
                </a:lnTo>
                <a:lnTo>
                  <a:pt x="146050" y="393700"/>
                </a:lnTo>
                <a:lnTo>
                  <a:pt x="152400" y="406400"/>
                </a:lnTo>
                <a:lnTo>
                  <a:pt x="152400" y="4064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66" name="Freeform 27"/>
          <p:cNvSpPr/>
          <p:nvPr/>
        </p:nvSpPr>
        <p:spPr>
          <a:xfrm>
            <a:off x="419040" y="4375080"/>
            <a:ext cx="260280" cy="304920"/>
          </a:xfrm>
          <a:custGeom>
            <a:avLst/>
            <a:gdLst>
              <a:gd name="textAreaLeft" fmla="*/ 0 w 260280"/>
              <a:gd name="textAreaRight" fmla="*/ 260640 w 260280"/>
              <a:gd name="textAreaTop" fmla="*/ 0 h 304920"/>
              <a:gd name="textAreaBottom" fmla="*/ 305280 h 304920"/>
            </a:gdLst>
            <a:ahLst/>
            <a:rect l="textAreaLeft" t="textAreaTop" r="textAreaRight" b="textAreaBottom"/>
            <a:pathLst>
              <a:path w="260351" h="304801">
                <a:moveTo>
                  <a:pt x="6350" y="298450"/>
                </a:moveTo>
                <a:lnTo>
                  <a:pt x="0" y="298450"/>
                </a:lnTo>
                <a:lnTo>
                  <a:pt x="0" y="298450"/>
                </a:lnTo>
                <a:lnTo>
                  <a:pt x="0" y="298450"/>
                </a:lnTo>
                <a:lnTo>
                  <a:pt x="0" y="304800"/>
                </a:lnTo>
                <a:lnTo>
                  <a:pt x="0" y="298450"/>
                </a:lnTo>
                <a:lnTo>
                  <a:pt x="0" y="298450"/>
                </a:lnTo>
                <a:lnTo>
                  <a:pt x="0" y="298450"/>
                </a:lnTo>
                <a:lnTo>
                  <a:pt x="0" y="298450"/>
                </a:lnTo>
                <a:lnTo>
                  <a:pt x="6350" y="298450"/>
                </a:lnTo>
                <a:lnTo>
                  <a:pt x="6350" y="292100"/>
                </a:lnTo>
                <a:lnTo>
                  <a:pt x="12700" y="292100"/>
                </a:lnTo>
                <a:lnTo>
                  <a:pt x="19050" y="285750"/>
                </a:lnTo>
                <a:lnTo>
                  <a:pt x="25400" y="279400"/>
                </a:lnTo>
                <a:lnTo>
                  <a:pt x="31750" y="273050"/>
                </a:lnTo>
                <a:lnTo>
                  <a:pt x="38100" y="266700"/>
                </a:lnTo>
                <a:lnTo>
                  <a:pt x="44450" y="260350"/>
                </a:lnTo>
                <a:lnTo>
                  <a:pt x="50800" y="254000"/>
                </a:lnTo>
                <a:lnTo>
                  <a:pt x="57150" y="241300"/>
                </a:lnTo>
                <a:lnTo>
                  <a:pt x="63500" y="234950"/>
                </a:lnTo>
                <a:lnTo>
                  <a:pt x="69850" y="228600"/>
                </a:lnTo>
                <a:lnTo>
                  <a:pt x="82550" y="215900"/>
                </a:lnTo>
                <a:lnTo>
                  <a:pt x="95250" y="203200"/>
                </a:lnTo>
                <a:lnTo>
                  <a:pt x="101600" y="196850"/>
                </a:lnTo>
                <a:lnTo>
                  <a:pt x="114300" y="184150"/>
                </a:lnTo>
                <a:lnTo>
                  <a:pt x="127000" y="165100"/>
                </a:lnTo>
                <a:lnTo>
                  <a:pt x="139700" y="158750"/>
                </a:lnTo>
                <a:lnTo>
                  <a:pt x="152400" y="139700"/>
                </a:lnTo>
                <a:lnTo>
                  <a:pt x="158750" y="127000"/>
                </a:lnTo>
                <a:lnTo>
                  <a:pt x="171450" y="114300"/>
                </a:lnTo>
                <a:lnTo>
                  <a:pt x="184150" y="101600"/>
                </a:lnTo>
                <a:lnTo>
                  <a:pt x="196850" y="95250"/>
                </a:lnTo>
                <a:lnTo>
                  <a:pt x="203200" y="82550"/>
                </a:lnTo>
                <a:lnTo>
                  <a:pt x="215900" y="69850"/>
                </a:lnTo>
                <a:lnTo>
                  <a:pt x="222250" y="57150"/>
                </a:lnTo>
                <a:lnTo>
                  <a:pt x="228600" y="50800"/>
                </a:lnTo>
                <a:lnTo>
                  <a:pt x="234950" y="44450"/>
                </a:lnTo>
                <a:lnTo>
                  <a:pt x="241300" y="38100"/>
                </a:lnTo>
                <a:lnTo>
                  <a:pt x="247650" y="31750"/>
                </a:lnTo>
                <a:lnTo>
                  <a:pt x="247650" y="25400"/>
                </a:lnTo>
                <a:lnTo>
                  <a:pt x="247650" y="19050"/>
                </a:lnTo>
                <a:lnTo>
                  <a:pt x="254000" y="12700"/>
                </a:lnTo>
                <a:lnTo>
                  <a:pt x="254000" y="12700"/>
                </a:lnTo>
                <a:lnTo>
                  <a:pt x="254000" y="12700"/>
                </a:lnTo>
                <a:lnTo>
                  <a:pt x="254000" y="12700"/>
                </a:lnTo>
                <a:lnTo>
                  <a:pt x="254000" y="6350"/>
                </a:lnTo>
                <a:lnTo>
                  <a:pt x="247650" y="6350"/>
                </a:lnTo>
                <a:lnTo>
                  <a:pt x="247650" y="6350"/>
                </a:lnTo>
                <a:lnTo>
                  <a:pt x="247650" y="6350"/>
                </a:lnTo>
                <a:lnTo>
                  <a:pt x="241300" y="6350"/>
                </a:lnTo>
                <a:lnTo>
                  <a:pt x="228600" y="6350"/>
                </a:lnTo>
                <a:lnTo>
                  <a:pt x="222250" y="6350"/>
                </a:lnTo>
                <a:lnTo>
                  <a:pt x="209550" y="12700"/>
                </a:lnTo>
                <a:lnTo>
                  <a:pt x="196850" y="12700"/>
                </a:lnTo>
                <a:lnTo>
                  <a:pt x="190500" y="12700"/>
                </a:lnTo>
                <a:lnTo>
                  <a:pt x="171450" y="12700"/>
                </a:lnTo>
                <a:lnTo>
                  <a:pt x="152400" y="12700"/>
                </a:lnTo>
                <a:lnTo>
                  <a:pt x="146050" y="12700"/>
                </a:lnTo>
                <a:lnTo>
                  <a:pt x="127000" y="12700"/>
                </a:lnTo>
                <a:lnTo>
                  <a:pt x="114300" y="12700"/>
                </a:lnTo>
                <a:lnTo>
                  <a:pt x="101600" y="12700"/>
                </a:lnTo>
                <a:lnTo>
                  <a:pt x="88900" y="6350"/>
                </a:lnTo>
                <a:lnTo>
                  <a:pt x="76200" y="6350"/>
                </a:lnTo>
                <a:lnTo>
                  <a:pt x="69850" y="6350"/>
                </a:lnTo>
                <a:lnTo>
                  <a:pt x="57150" y="6350"/>
                </a:lnTo>
                <a:lnTo>
                  <a:pt x="57150" y="6350"/>
                </a:lnTo>
                <a:lnTo>
                  <a:pt x="50800" y="6350"/>
                </a:lnTo>
                <a:lnTo>
                  <a:pt x="50800" y="0"/>
                </a:lnTo>
                <a:lnTo>
                  <a:pt x="50800" y="0"/>
                </a:lnTo>
                <a:lnTo>
                  <a:pt x="50800" y="0"/>
                </a:lnTo>
                <a:lnTo>
                  <a:pt x="57150" y="0"/>
                </a:lnTo>
                <a:lnTo>
                  <a:pt x="57150" y="0"/>
                </a:lnTo>
                <a:lnTo>
                  <a:pt x="63500" y="0"/>
                </a:lnTo>
                <a:lnTo>
                  <a:pt x="69850" y="0"/>
                </a:lnTo>
                <a:lnTo>
                  <a:pt x="82550" y="0"/>
                </a:lnTo>
                <a:lnTo>
                  <a:pt x="95250" y="0"/>
                </a:lnTo>
                <a:lnTo>
                  <a:pt x="107950" y="6350"/>
                </a:lnTo>
                <a:lnTo>
                  <a:pt x="120650" y="6350"/>
                </a:lnTo>
                <a:lnTo>
                  <a:pt x="133350" y="6350"/>
                </a:lnTo>
                <a:lnTo>
                  <a:pt x="152400" y="6350"/>
                </a:lnTo>
                <a:lnTo>
                  <a:pt x="165100" y="6350"/>
                </a:lnTo>
                <a:lnTo>
                  <a:pt x="177800" y="6350"/>
                </a:lnTo>
                <a:lnTo>
                  <a:pt x="196850" y="6350"/>
                </a:lnTo>
                <a:lnTo>
                  <a:pt x="203200" y="6350"/>
                </a:lnTo>
                <a:lnTo>
                  <a:pt x="215900" y="6350"/>
                </a:lnTo>
                <a:lnTo>
                  <a:pt x="228600" y="6350"/>
                </a:lnTo>
                <a:lnTo>
                  <a:pt x="234950" y="6350"/>
                </a:lnTo>
                <a:lnTo>
                  <a:pt x="241300" y="6350"/>
                </a:lnTo>
                <a:lnTo>
                  <a:pt x="247650" y="6350"/>
                </a:lnTo>
                <a:lnTo>
                  <a:pt x="254000" y="6350"/>
                </a:lnTo>
                <a:lnTo>
                  <a:pt x="254000" y="6350"/>
                </a:lnTo>
                <a:lnTo>
                  <a:pt x="260350" y="6350"/>
                </a:lnTo>
                <a:lnTo>
                  <a:pt x="260350" y="6350"/>
                </a:lnTo>
                <a:lnTo>
                  <a:pt x="260350" y="6350"/>
                </a:lnTo>
                <a:lnTo>
                  <a:pt x="260350" y="6350"/>
                </a:lnTo>
                <a:lnTo>
                  <a:pt x="260350" y="6350"/>
                </a:lnTo>
                <a:lnTo>
                  <a:pt x="260350" y="12700"/>
                </a:lnTo>
                <a:lnTo>
                  <a:pt x="260350" y="12700"/>
                </a:lnTo>
                <a:lnTo>
                  <a:pt x="260350" y="19050"/>
                </a:lnTo>
                <a:lnTo>
                  <a:pt x="260350" y="25400"/>
                </a:lnTo>
                <a:lnTo>
                  <a:pt x="260350" y="25400"/>
                </a:lnTo>
                <a:lnTo>
                  <a:pt x="254000" y="31750"/>
                </a:lnTo>
                <a:lnTo>
                  <a:pt x="254000" y="44450"/>
                </a:lnTo>
                <a:lnTo>
                  <a:pt x="254000" y="50800"/>
                </a:lnTo>
                <a:lnTo>
                  <a:pt x="254000" y="57150"/>
                </a:lnTo>
                <a:lnTo>
                  <a:pt x="247650" y="69850"/>
                </a:lnTo>
                <a:lnTo>
                  <a:pt x="247650" y="76200"/>
                </a:lnTo>
                <a:lnTo>
                  <a:pt x="247650" y="88900"/>
                </a:lnTo>
                <a:lnTo>
                  <a:pt x="254000" y="95250"/>
                </a:lnTo>
                <a:lnTo>
                  <a:pt x="254000" y="107950"/>
                </a:lnTo>
                <a:lnTo>
                  <a:pt x="254000" y="114300"/>
                </a:lnTo>
                <a:lnTo>
                  <a:pt x="254000" y="120650"/>
                </a:lnTo>
                <a:lnTo>
                  <a:pt x="260350" y="127000"/>
                </a:lnTo>
                <a:lnTo>
                  <a:pt x="260350" y="133350"/>
                </a:lnTo>
                <a:lnTo>
                  <a:pt x="260350" y="139700"/>
                </a:lnTo>
                <a:lnTo>
                  <a:pt x="260350" y="139700"/>
                </a:lnTo>
                <a:lnTo>
                  <a:pt x="260350" y="139700"/>
                </a:lnTo>
                <a:lnTo>
                  <a:pt x="260350" y="139700"/>
                </a:lnTo>
                <a:lnTo>
                  <a:pt x="260350" y="146050"/>
                </a:lnTo>
                <a:lnTo>
                  <a:pt x="260350" y="1460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67" name="Freeform 28"/>
          <p:cNvSpPr/>
          <p:nvPr/>
        </p:nvSpPr>
        <p:spPr>
          <a:xfrm>
            <a:off x="743040" y="4317840"/>
            <a:ext cx="222120" cy="222480"/>
          </a:xfrm>
          <a:custGeom>
            <a:avLst/>
            <a:gdLst>
              <a:gd name="textAreaLeft" fmla="*/ 0 w 222120"/>
              <a:gd name="textAreaRight" fmla="*/ 222480 w 222120"/>
              <a:gd name="textAreaTop" fmla="*/ 0 h 222480"/>
              <a:gd name="textAreaBottom" fmla="*/ 222840 h 222480"/>
            </a:gdLst>
            <a:ahLst/>
            <a:rect l="textAreaLeft" t="textAreaTop" r="textAreaRight" b="textAreaBottom"/>
            <a:pathLst>
              <a:path w="222251" h="222251">
                <a:moveTo>
                  <a:pt x="0" y="25400"/>
                </a:moveTo>
                <a:lnTo>
                  <a:pt x="0" y="25400"/>
                </a:lnTo>
                <a:lnTo>
                  <a:pt x="0" y="25400"/>
                </a:lnTo>
                <a:lnTo>
                  <a:pt x="0" y="31750"/>
                </a:lnTo>
                <a:lnTo>
                  <a:pt x="0" y="31750"/>
                </a:lnTo>
                <a:lnTo>
                  <a:pt x="0" y="38100"/>
                </a:lnTo>
                <a:lnTo>
                  <a:pt x="6350" y="44450"/>
                </a:lnTo>
                <a:lnTo>
                  <a:pt x="6350" y="50800"/>
                </a:lnTo>
                <a:lnTo>
                  <a:pt x="12700" y="57150"/>
                </a:lnTo>
                <a:lnTo>
                  <a:pt x="12700" y="69850"/>
                </a:lnTo>
                <a:lnTo>
                  <a:pt x="19050" y="76200"/>
                </a:lnTo>
                <a:lnTo>
                  <a:pt x="19050" y="88900"/>
                </a:lnTo>
                <a:lnTo>
                  <a:pt x="25400" y="101600"/>
                </a:lnTo>
                <a:lnTo>
                  <a:pt x="31750" y="114300"/>
                </a:lnTo>
                <a:lnTo>
                  <a:pt x="31750" y="133350"/>
                </a:lnTo>
                <a:lnTo>
                  <a:pt x="38100" y="146050"/>
                </a:lnTo>
                <a:lnTo>
                  <a:pt x="44450" y="158750"/>
                </a:lnTo>
                <a:lnTo>
                  <a:pt x="44450" y="171450"/>
                </a:lnTo>
                <a:lnTo>
                  <a:pt x="50800" y="184150"/>
                </a:lnTo>
                <a:lnTo>
                  <a:pt x="57150" y="196850"/>
                </a:lnTo>
                <a:lnTo>
                  <a:pt x="57150" y="203200"/>
                </a:lnTo>
                <a:lnTo>
                  <a:pt x="63500" y="209550"/>
                </a:lnTo>
                <a:lnTo>
                  <a:pt x="63500" y="215900"/>
                </a:lnTo>
                <a:lnTo>
                  <a:pt x="63500" y="222250"/>
                </a:lnTo>
                <a:lnTo>
                  <a:pt x="63500" y="222250"/>
                </a:lnTo>
                <a:lnTo>
                  <a:pt x="63500" y="222250"/>
                </a:lnTo>
                <a:lnTo>
                  <a:pt x="69850" y="222250"/>
                </a:lnTo>
                <a:lnTo>
                  <a:pt x="69850" y="215900"/>
                </a:lnTo>
                <a:lnTo>
                  <a:pt x="69850" y="209550"/>
                </a:lnTo>
                <a:lnTo>
                  <a:pt x="69850" y="196850"/>
                </a:lnTo>
                <a:lnTo>
                  <a:pt x="69850" y="184150"/>
                </a:lnTo>
                <a:lnTo>
                  <a:pt x="76200" y="177800"/>
                </a:lnTo>
                <a:lnTo>
                  <a:pt x="76200" y="165100"/>
                </a:lnTo>
                <a:lnTo>
                  <a:pt x="76200" y="152400"/>
                </a:lnTo>
                <a:lnTo>
                  <a:pt x="76200" y="139700"/>
                </a:lnTo>
                <a:lnTo>
                  <a:pt x="82550" y="127000"/>
                </a:lnTo>
                <a:lnTo>
                  <a:pt x="82550" y="114300"/>
                </a:lnTo>
                <a:lnTo>
                  <a:pt x="82550" y="101600"/>
                </a:lnTo>
                <a:lnTo>
                  <a:pt x="82550" y="95250"/>
                </a:lnTo>
                <a:lnTo>
                  <a:pt x="82550" y="82550"/>
                </a:lnTo>
                <a:lnTo>
                  <a:pt x="88900" y="76200"/>
                </a:lnTo>
                <a:lnTo>
                  <a:pt x="88900" y="69850"/>
                </a:lnTo>
                <a:lnTo>
                  <a:pt x="88900" y="63500"/>
                </a:lnTo>
                <a:lnTo>
                  <a:pt x="88900" y="63500"/>
                </a:lnTo>
                <a:lnTo>
                  <a:pt x="95250" y="63500"/>
                </a:lnTo>
                <a:lnTo>
                  <a:pt x="101600" y="57150"/>
                </a:lnTo>
                <a:lnTo>
                  <a:pt x="101600" y="63500"/>
                </a:lnTo>
                <a:lnTo>
                  <a:pt x="107950" y="63500"/>
                </a:lnTo>
                <a:lnTo>
                  <a:pt x="114300" y="69850"/>
                </a:lnTo>
                <a:lnTo>
                  <a:pt x="114300" y="76200"/>
                </a:lnTo>
                <a:lnTo>
                  <a:pt x="127000" y="82550"/>
                </a:lnTo>
                <a:lnTo>
                  <a:pt x="133350" y="95250"/>
                </a:lnTo>
                <a:lnTo>
                  <a:pt x="139700" y="107950"/>
                </a:lnTo>
                <a:lnTo>
                  <a:pt x="146050" y="114300"/>
                </a:lnTo>
                <a:lnTo>
                  <a:pt x="158750" y="133350"/>
                </a:lnTo>
                <a:lnTo>
                  <a:pt x="165100" y="146050"/>
                </a:lnTo>
                <a:lnTo>
                  <a:pt x="171450" y="158750"/>
                </a:lnTo>
                <a:lnTo>
                  <a:pt x="177800" y="171450"/>
                </a:lnTo>
                <a:lnTo>
                  <a:pt x="190500" y="184150"/>
                </a:lnTo>
                <a:lnTo>
                  <a:pt x="196850" y="190500"/>
                </a:lnTo>
                <a:lnTo>
                  <a:pt x="203200" y="203200"/>
                </a:lnTo>
                <a:lnTo>
                  <a:pt x="209550" y="209550"/>
                </a:lnTo>
                <a:lnTo>
                  <a:pt x="209550" y="215900"/>
                </a:lnTo>
                <a:lnTo>
                  <a:pt x="215900" y="222250"/>
                </a:lnTo>
                <a:lnTo>
                  <a:pt x="215900" y="222250"/>
                </a:lnTo>
                <a:lnTo>
                  <a:pt x="215900" y="222250"/>
                </a:lnTo>
                <a:lnTo>
                  <a:pt x="222250" y="222250"/>
                </a:lnTo>
                <a:lnTo>
                  <a:pt x="222250" y="222250"/>
                </a:lnTo>
                <a:lnTo>
                  <a:pt x="222250" y="222250"/>
                </a:lnTo>
                <a:lnTo>
                  <a:pt x="215900" y="215900"/>
                </a:lnTo>
                <a:lnTo>
                  <a:pt x="215900" y="203200"/>
                </a:lnTo>
                <a:lnTo>
                  <a:pt x="215900" y="196850"/>
                </a:lnTo>
                <a:lnTo>
                  <a:pt x="215900" y="184150"/>
                </a:lnTo>
                <a:lnTo>
                  <a:pt x="215900" y="171450"/>
                </a:lnTo>
                <a:lnTo>
                  <a:pt x="215900" y="158750"/>
                </a:lnTo>
                <a:lnTo>
                  <a:pt x="209550" y="146050"/>
                </a:lnTo>
                <a:lnTo>
                  <a:pt x="209550" y="133350"/>
                </a:lnTo>
                <a:lnTo>
                  <a:pt x="209550" y="120650"/>
                </a:lnTo>
                <a:lnTo>
                  <a:pt x="209550" y="107950"/>
                </a:lnTo>
                <a:lnTo>
                  <a:pt x="209550" y="88900"/>
                </a:lnTo>
                <a:lnTo>
                  <a:pt x="209550" y="76200"/>
                </a:lnTo>
                <a:lnTo>
                  <a:pt x="203200" y="63500"/>
                </a:lnTo>
                <a:lnTo>
                  <a:pt x="203200" y="50800"/>
                </a:lnTo>
                <a:lnTo>
                  <a:pt x="203200" y="38100"/>
                </a:lnTo>
                <a:lnTo>
                  <a:pt x="203200" y="31750"/>
                </a:lnTo>
                <a:lnTo>
                  <a:pt x="203200" y="25400"/>
                </a:lnTo>
                <a:lnTo>
                  <a:pt x="203200" y="19050"/>
                </a:lnTo>
                <a:lnTo>
                  <a:pt x="203200" y="12700"/>
                </a:lnTo>
                <a:lnTo>
                  <a:pt x="203200" y="6350"/>
                </a:lnTo>
                <a:lnTo>
                  <a:pt x="203200" y="6350"/>
                </a:lnTo>
                <a:lnTo>
                  <a:pt x="203200" y="0"/>
                </a:lnTo>
                <a:lnTo>
                  <a:pt x="203200" y="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68" name="Freeform 29"/>
          <p:cNvSpPr/>
          <p:nvPr/>
        </p:nvSpPr>
        <p:spPr>
          <a:xfrm>
            <a:off x="1022400" y="4336920"/>
            <a:ext cx="209520" cy="216000"/>
          </a:xfrm>
          <a:custGeom>
            <a:avLst/>
            <a:gdLst>
              <a:gd name="textAreaLeft" fmla="*/ 0 w 209520"/>
              <a:gd name="textAreaRight" fmla="*/ 209880 w 209520"/>
              <a:gd name="textAreaTop" fmla="*/ 0 h 216000"/>
              <a:gd name="textAreaBottom" fmla="*/ 216360 h 216000"/>
            </a:gdLst>
            <a:ahLst/>
            <a:rect l="textAreaLeft" t="textAreaTop" r="textAreaRight" b="textAreaBottom"/>
            <a:pathLst>
              <a:path w="209551" h="215901">
                <a:moveTo>
                  <a:pt x="0" y="44450"/>
                </a:moveTo>
                <a:lnTo>
                  <a:pt x="0" y="38100"/>
                </a:lnTo>
                <a:lnTo>
                  <a:pt x="0" y="38100"/>
                </a:lnTo>
                <a:lnTo>
                  <a:pt x="0" y="31750"/>
                </a:lnTo>
                <a:lnTo>
                  <a:pt x="6350" y="25400"/>
                </a:lnTo>
                <a:lnTo>
                  <a:pt x="6350" y="25400"/>
                </a:lnTo>
                <a:lnTo>
                  <a:pt x="12700" y="19050"/>
                </a:lnTo>
                <a:lnTo>
                  <a:pt x="19050" y="12700"/>
                </a:lnTo>
                <a:lnTo>
                  <a:pt x="25400" y="12700"/>
                </a:lnTo>
                <a:lnTo>
                  <a:pt x="31750" y="6350"/>
                </a:lnTo>
                <a:lnTo>
                  <a:pt x="44450" y="0"/>
                </a:lnTo>
                <a:lnTo>
                  <a:pt x="50800" y="0"/>
                </a:lnTo>
                <a:lnTo>
                  <a:pt x="69850" y="0"/>
                </a:lnTo>
                <a:lnTo>
                  <a:pt x="76200" y="0"/>
                </a:lnTo>
                <a:lnTo>
                  <a:pt x="88900" y="0"/>
                </a:lnTo>
                <a:lnTo>
                  <a:pt x="101600" y="6350"/>
                </a:lnTo>
                <a:lnTo>
                  <a:pt x="114300" y="12700"/>
                </a:lnTo>
                <a:lnTo>
                  <a:pt x="127000" y="19050"/>
                </a:lnTo>
                <a:lnTo>
                  <a:pt x="139700" y="31750"/>
                </a:lnTo>
                <a:lnTo>
                  <a:pt x="152400" y="38100"/>
                </a:lnTo>
                <a:lnTo>
                  <a:pt x="165100" y="50800"/>
                </a:lnTo>
                <a:lnTo>
                  <a:pt x="171450" y="63500"/>
                </a:lnTo>
                <a:lnTo>
                  <a:pt x="177800" y="76200"/>
                </a:lnTo>
                <a:lnTo>
                  <a:pt x="184150" y="88900"/>
                </a:lnTo>
                <a:lnTo>
                  <a:pt x="190500" y="95250"/>
                </a:lnTo>
                <a:lnTo>
                  <a:pt x="196850" y="107950"/>
                </a:lnTo>
                <a:lnTo>
                  <a:pt x="203200" y="114300"/>
                </a:lnTo>
                <a:lnTo>
                  <a:pt x="203200" y="120650"/>
                </a:lnTo>
                <a:lnTo>
                  <a:pt x="203200" y="127000"/>
                </a:lnTo>
                <a:lnTo>
                  <a:pt x="209550" y="133350"/>
                </a:lnTo>
                <a:lnTo>
                  <a:pt x="209550" y="133350"/>
                </a:lnTo>
                <a:lnTo>
                  <a:pt x="209550" y="133350"/>
                </a:lnTo>
                <a:lnTo>
                  <a:pt x="203200" y="133350"/>
                </a:lnTo>
                <a:lnTo>
                  <a:pt x="203200" y="133350"/>
                </a:lnTo>
                <a:lnTo>
                  <a:pt x="203200" y="127000"/>
                </a:lnTo>
                <a:lnTo>
                  <a:pt x="196850" y="127000"/>
                </a:lnTo>
                <a:lnTo>
                  <a:pt x="190500" y="120650"/>
                </a:lnTo>
                <a:lnTo>
                  <a:pt x="190500" y="114300"/>
                </a:lnTo>
                <a:lnTo>
                  <a:pt x="184150" y="107950"/>
                </a:lnTo>
                <a:lnTo>
                  <a:pt x="177800" y="107950"/>
                </a:lnTo>
                <a:lnTo>
                  <a:pt x="165100" y="101600"/>
                </a:lnTo>
                <a:lnTo>
                  <a:pt x="158750" y="95250"/>
                </a:lnTo>
                <a:lnTo>
                  <a:pt x="152400" y="88900"/>
                </a:lnTo>
                <a:lnTo>
                  <a:pt x="139700" y="82550"/>
                </a:lnTo>
                <a:lnTo>
                  <a:pt x="127000" y="82550"/>
                </a:lnTo>
                <a:lnTo>
                  <a:pt x="120650" y="76200"/>
                </a:lnTo>
                <a:lnTo>
                  <a:pt x="107950" y="76200"/>
                </a:lnTo>
                <a:lnTo>
                  <a:pt x="95250" y="76200"/>
                </a:lnTo>
                <a:lnTo>
                  <a:pt x="76200" y="76200"/>
                </a:lnTo>
                <a:lnTo>
                  <a:pt x="69850" y="82550"/>
                </a:lnTo>
                <a:lnTo>
                  <a:pt x="57150" y="88900"/>
                </a:lnTo>
                <a:lnTo>
                  <a:pt x="50800" y="95250"/>
                </a:lnTo>
                <a:lnTo>
                  <a:pt x="44450" y="101600"/>
                </a:lnTo>
                <a:lnTo>
                  <a:pt x="38100" y="114300"/>
                </a:lnTo>
                <a:lnTo>
                  <a:pt x="31750" y="120650"/>
                </a:lnTo>
                <a:lnTo>
                  <a:pt x="31750" y="133350"/>
                </a:lnTo>
                <a:lnTo>
                  <a:pt x="31750" y="146050"/>
                </a:lnTo>
                <a:lnTo>
                  <a:pt x="31750" y="158750"/>
                </a:lnTo>
                <a:lnTo>
                  <a:pt x="38100" y="165100"/>
                </a:lnTo>
                <a:lnTo>
                  <a:pt x="44450" y="177800"/>
                </a:lnTo>
                <a:lnTo>
                  <a:pt x="50800" y="184150"/>
                </a:lnTo>
                <a:lnTo>
                  <a:pt x="57150" y="196850"/>
                </a:lnTo>
                <a:lnTo>
                  <a:pt x="69850" y="203200"/>
                </a:lnTo>
                <a:lnTo>
                  <a:pt x="76200" y="209550"/>
                </a:lnTo>
                <a:lnTo>
                  <a:pt x="82550" y="215900"/>
                </a:lnTo>
                <a:lnTo>
                  <a:pt x="88900" y="215900"/>
                </a:lnTo>
                <a:lnTo>
                  <a:pt x="101600" y="215900"/>
                </a:lnTo>
                <a:lnTo>
                  <a:pt x="101600" y="215900"/>
                </a:lnTo>
                <a:lnTo>
                  <a:pt x="107950" y="215900"/>
                </a:lnTo>
                <a:lnTo>
                  <a:pt x="114300" y="215900"/>
                </a:lnTo>
                <a:lnTo>
                  <a:pt x="120650" y="209550"/>
                </a:lnTo>
                <a:lnTo>
                  <a:pt x="120650" y="203200"/>
                </a:lnTo>
                <a:lnTo>
                  <a:pt x="120650" y="203200"/>
                </a:lnTo>
                <a:lnTo>
                  <a:pt x="127000" y="196850"/>
                </a:lnTo>
                <a:lnTo>
                  <a:pt x="127000" y="1968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69" name="Freeform 30"/>
          <p:cNvSpPr/>
          <p:nvPr/>
        </p:nvSpPr>
        <p:spPr>
          <a:xfrm>
            <a:off x="1231920" y="4311720"/>
            <a:ext cx="158760" cy="241200"/>
          </a:xfrm>
          <a:custGeom>
            <a:avLst/>
            <a:gdLst>
              <a:gd name="textAreaLeft" fmla="*/ 0 w 158760"/>
              <a:gd name="textAreaRight" fmla="*/ 159120 w 158760"/>
              <a:gd name="textAreaTop" fmla="*/ 0 h 241200"/>
              <a:gd name="textAreaBottom" fmla="*/ 241560 h 241200"/>
            </a:gdLst>
            <a:ahLst/>
            <a:rect l="textAreaLeft" t="textAreaTop" r="textAreaRight" b="textAreaBottom"/>
            <a:pathLst>
              <a:path w="158751" h="241301">
                <a:moveTo>
                  <a:pt x="6350" y="0"/>
                </a:moveTo>
                <a:lnTo>
                  <a:pt x="0" y="0"/>
                </a:lnTo>
                <a:lnTo>
                  <a:pt x="0" y="0"/>
                </a:lnTo>
                <a:lnTo>
                  <a:pt x="0" y="0"/>
                </a:lnTo>
                <a:lnTo>
                  <a:pt x="0" y="0"/>
                </a:lnTo>
                <a:lnTo>
                  <a:pt x="6350" y="0"/>
                </a:lnTo>
                <a:lnTo>
                  <a:pt x="6350" y="0"/>
                </a:lnTo>
                <a:lnTo>
                  <a:pt x="6350" y="6350"/>
                </a:lnTo>
                <a:lnTo>
                  <a:pt x="6350" y="6350"/>
                </a:lnTo>
                <a:lnTo>
                  <a:pt x="6350" y="12700"/>
                </a:lnTo>
                <a:lnTo>
                  <a:pt x="12700" y="19050"/>
                </a:lnTo>
                <a:lnTo>
                  <a:pt x="12700" y="25400"/>
                </a:lnTo>
                <a:lnTo>
                  <a:pt x="19050" y="31750"/>
                </a:lnTo>
                <a:lnTo>
                  <a:pt x="25400" y="44450"/>
                </a:lnTo>
                <a:lnTo>
                  <a:pt x="31750" y="50800"/>
                </a:lnTo>
                <a:lnTo>
                  <a:pt x="38100" y="63500"/>
                </a:lnTo>
                <a:lnTo>
                  <a:pt x="44450" y="76200"/>
                </a:lnTo>
                <a:lnTo>
                  <a:pt x="50800" y="88900"/>
                </a:lnTo>
                <a:lnTo>
                  <a:pt x="50800" y="107950"/>
                </a:lnTo>
                <a:lnTo>
                  <a:pt x="57150" y="120650"/>
                </a:lnTo>
                <a:lnTo>
                  <a:pt x="63500" y="133350"/>
                </a:lnTo>
                <a:lnTo>
                  <a:pt x="69850" y="152400"/>
                </a:lnTo>
                <a:lnTo>
                  <a:pt x="76200" y="165100"/>
                </a:lnTo>
                <a:lnTo>
                  <a:pt x="82550" y="177800"/>
                </a:lnTo>
                <a:lnTo>
                  <a:pt x="88900" y="190500"/>
                </a:lnTo>
                <a:lnTo>
                  <a:pt x="101600" y="203200"/>
                </a:lnTo>
                <a:lnTo>
                  <a:pt x="101600" y="215900"/>
                </a:lnTo>
                <a:lnTo>
                  <a:pt x="107950" y="228600"/>
                </a:lnTo>
                <a:lnTo>
                  <a:pt x="114300" y="234950"/>
                </a:lnTo>
                <a:lnTo>
                  <a:pt x="120650" y="241300"/>
                </a:lnTo>
                <a:lnTo>
                  <a:pt x="120650" y="241300"/>
                </a:lnTo>
                <a:lnTo>
                  <a:pt x="120650" y="241300"/>
                </a:lnTo>
                <a:lnTo>
                  <a:pt x="127000" y="241300"/>
                </a:lnTo>
                <a:lnTo>
                  <a:pt x="127000" y="241300"/>
                </a:lnTo>
                <a:lnTo>
                  <a:pt x="127000" y="241300"/>
                </a:lnTo>
                <a:lnTo>
                  <a:pt x="127000" y="234950"/>
                </a:lnTo>
                <a:lnTo>
                  <a:pt x="133350" y="234950"/>
                </a:lnTo>
                <a:lnTo>
                  <a:pt x="133350" y="222250"/>
                </a:lnTo>
                <a:lnTo>
                  <a:pt x="133350" y="215900"/>
                </a:lnTo>
                <a:lnTo>
                  <a:pt x="133350" y="203200"/>
                </a:lnTo>
                <a:lnTo>
                  <a:pt x="139700" y="190500"/>
                </a:lnTo>
                <a:lnTo>
                  <a:pt x="139700" y="177800"/>
                </a:lnTo>
                <a:lnTo>
                  <a:pt x="139700" y="165100"/>
                </a:lnTo>
                <a:lnTo>
                  <a:pt x="139700" y="152400"/>
                </a:lnTo>
                <a:lnTo>
                  <a:pt x="139700" y="139700"/>
                </a:lnTo>
                <a:lnTo>
                  <a:pt x="146050" y="127000"/>
                </a:lnTo>
                <a:lnTo>
                  <a:pt x="146050" y="114300"/>
                </a:lnTo>
                <a:lnTo>
                  <a:pt x="146050" y="101600"/>
                </a:lnTo>
                <a:lnTo>
                  <a:pt x="146050" y="82550"/>
                </a:lnTo>
                <a:lnTo>
                  <a:pt x="146050" y="69850"/>
                </a:lnTo>
                <a:lnTo>
                  <a:pt x="146050" y="57150"/>
                </a:lnTo>
                <a:lnTo>
                  <a:pt x="146050" y="44450"/>
                </a:lnTo>
                <a:lnTo>
                  <a:pt x="146050" y="38100"/>
                </a:lnTo>
                <a:lnTo>
                  <a:pt x="146050" y="25400"/>
                </a:lnTo>
                <a:lnTo>
                  <a:pt x="146050" y="19050"/>
                </a:lnTo>
                <a:lnTo>
                  <a:pt x="152400" y="19050"/>
                </a:lnTo>
                <a:lnTo>
                  <a:pt x="152400" y="12700"/>
                </a:lnTo>
                <a:lnTo>
                  <a:pt x="152400" y="12700"/>
                </a:lnTo>
                <a:lnTo>
                  <a:pt x="152400" y="12700"/>
                </a:lnTo>
                <a:lnTo>
                  <a:pt x="158750" y="12700"/>
                </a:lnTo>
                <a:lnTo>
                  <a:pt x="158750" y="12700"/>
                </a:lnTo>
                <a:lnTo>
                  <a:pt x="158750" y="12700"/>
                </a:lnTo>
                <a:lnTo>
                  <a:pt x="158750" y="127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70" name="Freeform 31"/>
          <p:cNvSpPr/>
          <p:nvPr/>
        </p:nvSpPr>
        <p:spPr>
          <a:xfrm>
            <a:off x="1454040" y="4343400"/>
            <a:ext cx="177840" cy="260280"/>
          </a:xfrm>
          <a:custGeom>
            <a:avLst/>
            <a:gdLst>
              <a:gd name="textAreaLeft" fmla="*/ 0 w 177840"/>
              <a:gd name="textAreaRight" fmla="*/ 178200 w 177840"/>
              <a:gd name="textAreaTop" fmla="*/ 0 h 260280"/>
              <a:gd name="textAreaBottom" fmla="*/ 260640 h 260280"/>
            </a:gdLst>
            <a:ahLst/>
            <a:rect l="textAreaLeft" t="textAreaTop" r="textAreaRight" b="textAreaBottom"/>
            <a:pathLst>
              <a:path w="177801" h="260351">
                <a:moveTo>
                  <a:pt x="0" y="95250"/>
                </a:moveTo>
                <a:lnTo>
                  <a:pt x="0" y="95250"/>
                </a:lnTo>
                <a:lnTo>
                  <a:pt x="0" y="95250"/>
                </a:lnTo>
                <a:lnTo>
                  <a:pt x="0" y="95250"/>
                </a:lnTo>
                <a:lnTo>
                  <a:pt x="6350" y="95250"/>
                </a:lnTo>
                <a:lnTo>
                  <a:pt x="6350" y="95250"/>
                </a:lnTo>
                <a:lnTo>
                  <a:pt x="12700" y="88900"/>
                </a:lnTo>
                <a:lnTo>
                  <a:pt x="19050" y="88900"/>
                </a:lnTo>
                <a:lnTo>
                  <a:pt x="19050" y="88900"/>
                </a:lnTo>
                <a:lnTo>
                  <a:pt x="31750" y="88900"/>
                </a:lnTo>
                <a:lnTo>
                  <a:pt x="44450" y="88900"/>
                </a:lnTo>
                <a:lnTo>
                  <a:pt x="57150" y="88900"/>
                </a:lnTo>
                <a:lnTo>
                  <a:pt x="63500" y="88900"/>
                </a:lnTo>
                <a:lnTo>
                  <a:pt x="69850" y="88900"/>
                </a:lnTo>
                <a:lnTo>
                  <a:pt x="82550" y="88900"/>
                </a:lnTo>
                <a:lnTo>
                  <a:pt x="88900" y="88900"/>
                </a:lnTo>
                <a:lnTo>
                  <a:pt x="101600" y="88900"/>
                </a:lnTo>
                <a:lnTo>
                  <a:pt x="107950" y="88900"/>
                </a:lnTo>
                <a:lnTo>
                  <a:pt x="114300" y="82550"/>
                </a:lnTo>
                <a:lnTo>
                  <a:pt x="114300" y="76200"/>
                </a:lnTo>
                <a:lnTo>
                  <a:pt x="120650" y="76200"/>
                </a:lnTo>
                <a:lnTo>
                  <a:pt x="127000" y="69850"/>
                </a:lnTo>
                <a:lnTo>
                  <a:pt x="127000" y="63500"/>
                </a:lnTo>
                <a:lnTo>
                  <a:pt x="133350" y="57150"/>
                </a:lnTo>
                <a:lnTo>
                  <a:pt x="133350" y="50800"/>
                </a:lnTo>
                <a:lnTo>
                  <a:pt x="127000" y="44450"/>
                </a:lnTo>
                <a:lnTo>
                  <a:pt x="127000" y="31750"/>
                </a:lnTo>
                <a:lnTo>
                  <a:pt x="127000" y="25400"/>
                </a:lnTo>
                <a:lnTo>
                  <a:pt x="120650" y="19050"/>
                </a:lnTo>
                <a:lnTo>
                  <a:pt x="114300" y="12700"/>
                </a:lnTo>
                <a:lnTo>
                  <a:pt x="114300" y="6350"/>
                </a:lnTo>
                <a:lnTo>
                  <a:pt x="107950" y="6350"/>
                </a:lnTo>
                <a:lnTo>
                  <a:pt x="101600" y="6350"/>
                </a:lnTo>
                <a:lnTo>
                  <a:pt x="95250" y="0"/>
                </a:lnTo>
                <a:lnTo>
                  <a:pt x="88900" y="0"/>
                </a:lnTo>
                <a:lnTo>
                  <a:pt x="82550" y="0"/>
                </a:lnTo>
                <a:lnTo>
                  <a:pt x="69850" y="6350"/>
                </a:lnTo>
                <a:lnTo>
                  <a:pt x="69850" y="6350"/>
                </a:lnTo>
                <a:lnTo>
                  <a:pt x="57150" y="12700"/>
                </a:lnTo>
                <a:lnTo>
                  <a:pt x="50800" y="19050"/>
                </a:lnTo>
                <a:lnTo>
                  <a:pt x="44450" y="31750"/>
                </a:lnTo>
                <a:lnTo>
                  <a:pt x="31750" y="38100"/>
                </a:lnTo>
                <a:lnTo>
                  <a:pt x="25400" y="50800"/>
                </a:lnTo>
                <a:lnTo>
                  <a:pt x="19050" y="57150"/>
                </a:lnTo>
                <a:lnTo>
                  <a:pt x="12700" y="76200"/>
                </a:lnTo>
                <a:lnTo>
                  <a:pt x="6350" y="82550"/>
                </a:lnTo>
                <a:lnTo>
                  <a:pt x="0" y="101600"/>
                </a:lnTo>
                <a:lnTo>
                  <a:pt x="0" y="114300"/>
                </a:lnTo>
                <a:lnTo>
                  <a:pt x="0" y="127000"/>
                </a:lnTo>
                <a:lnTo>
                  <a:pt x="0" y="146050"/>
                </a:lnTo>
                <a:lnTo>
                  <a:pt x="0" y="158750"/>
                </a:lnTo>
                <a:lnTo>
                  <a:pt x="0" y="177800"/>
                </a:lnTo>
                <a:lnTo>
                  <a:pt x="6350" y="190500"/>
                </a:lnTo>
                <a:lnTo>
                  <a:pt x="12700" y="203200"/>
                </a:lnTo>
                <a:lnTo>
                  <a:pt x="19050" y="215900"/>
                </a:lnTo>
                <a:lnTo>
                  <a:pt x="31750" y="228600"/>
                </a:lnTo>
                <a:lnTo>
                  <a:pt x="44450" y="234950"/>
                </a:lnTo>
                <a:lnTo>
                  <a:pt x="57150" y="247650"/>
                </a:lnTo>
                <a:lnTo>
                  <a:pt x="69850" y="254000"/>
                </a:lnTo>
                <a:lnTo>
                  <a:pt x="88900" y="260350"/>
                </a:lnTo>
                <a:lnTo>
                  <a:pt x="101600" y="260350"/>
                </a:lnTo>
                <a:lnTo>
                  <a:pt x="114300" y="260350"/>
                </a:lnTo>
                <a:lnTo>
                  <a:pt x="120650" y="260350"/>
                </a:lnTo>
                <a:lnTo>
                  <a:pt x="133350" y="260350"/>
                </a:lnTo>
                <a:lnTo>
                  <a:pt x="146050" y="260350"/>
                </a:lnTo>
                <a:lnTo>
                  <a:pt x="152400" y="254000"/>
                </a:lnTo>
                <a:lnTo>
                  <a:pt x="165100" y="241300"/>
                </a:lnTo>
                <a:lnTo>
                  <a:pt x="171450" y="234950"/>
                </a:lnTo>
                <a:lnTo>
                  <a:pt x="171450" y="234950"/>
                </a:lnTo>
                <a:lnTo>
                  <a:pt x="177800" y="228600"/>
                </a:lnTo>
                <a:lnTo>
                  <a:pt x="177800" y="2286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71" name="Freeform 32"/>
          <p:cNvSpPr/>
          <p:nvPr/>
        </p:nvSpPr>
        <p:spPr>
          <a:xfrm>
            <a:off x="1612800" y="4349880"/>
            <a:ext cx="235080" cy="336600"/>
          </a:xfrm>
          <a:custGeom>
            <a:avLst/>
            <a:gdLst>
              <a:gd name="textAreaLeft" fmla="*/ 0 w 235080"/>
              <a:gd name="textAreaRight" fmla="*/ 235440 w 235080"/>
              <a:gd name="textAreaTop" fmla="*/ 0 h 336600"/>
              <a:gd name="textAreaBottom" fmla="*/ 336600 h 336600"/>
            </a:gdLst>
            <a:ahLst/>
            <a:rect l="textAreaLeft" t="textAreaTop" r="textAreaRight" b="textAreaBottom"/>
            <a:pathLst>
              <a:path w="234951" h="336551">
                <a:moveTo>
                  <a:pt x="196850" y="63500"/>
                </a:moveTo>
                <a:lnTo>
                  <a:pt x="196850" y="63500"/>
                </a:lnTo>
                <a:lnTo>
                  <a:pt x="196850" y="63500"/>
                </a:lnTo>
                <a:lnTo>
                  <a:pt x="196850" y="57150"/>
                </a:lnTo>
                <a:lnTo>
                  <a:pt x="196850" y="50800"/>
                </a:lnTo>
                <a:lnTo>
                  <a:pt x="196850" y="44450"/>
                </a:lnTo>
                <a:lnTo>
                  <a:pt x="196850" y="44450"/>
                </a:lnTo>
                <a:lnTo>
                  <a:pt x="190500" y="31750"/>
                </a:lnTo>
                <a:lnTo>
                  <a:pt x="190500" y="25400"/>
                </a:lnTo>
                <a:lnTo>
                  <a:pt x="177800" y="19050"/>
                </a:lnTo>
                <a:lnTo>
                  <a:pt x="171450" y="12700"/>
                </a:lnTo>
                <a:lnTo>
                  <a:pt x="158750" y="6350"/>
                </a:lnTo>
                <a:lnTo>
                  <a:pt x="146050" y="6350"/>
                </a:lnTo>
                <a:lnTo>
                  <a:pt x="133350" y="0"/>
                </a:lnTo>
                <a:lnTo>
                  <a:pt x="114300" y="0"/>
                </a:lnTo>
                <a:lnTo>
                  <a:pt x="101600" y="0"/>
                </a:lnTo>
                <a:lnTo>
                  <a:pt x="82550" y="6350"/>
                </a:lnTo>
                <a:lnTo>
                  <a:pt x="63500" y="6350"/>
                </a:lnTo>
                <a:lnTo>
                  <a:pt x="50800" y="12700"/>
                </a:lnTo>
                <a:lnTo>
                  <a:pt x="38100" y="19050"/>
                </a:lnTo>
                <a:lnTo>
                  <a:pt x="25400" y="31750"/>
                </a:lnTo>
                <a:lnTo>
                  <a:pt x="12700" y="44450"/>
                </a:lnTo>
                <a:lnTo>
                  <a:pt x="6350" y="50800"/>
                </a:lnTo>
                <a:lnTo>
                  <a:pt x="6350" y="63500"/>
                </a:lnTo>
                <a:lnTo>
                  <a:pt x="0" y="76200"/>
                </a:lnTo>
                <a:lnTo>
                  <a:pt x="6350" y="88900"/>
                </a:lnTo>
                <a:lnTo>
                  <a:pt x="6350" y="95250"/>
                </a:lnTo>
                <a:lnTo>
                  <a:pt x="12700" y="107950"/>
                </a:lnTo>
                <a:lnTo>
                  <a:pt x="25400" y="120650"/>
                </a:lnTo>
                <a:lnTo>
                  <a:pt x="38100" y="133350"/>
                </a:lnTo>
                <a:lnTo>
                  <a:pt x="50800" y="139700"/>
                </a:lnTo>
                <a:lnTo>
                  <a:pt x="69850" y="152400"/>
                </a:lnTo>
                <a:lnTo>
                  <a:pt x="88900" y="165100"/>
                </a:lnTo>
                <a:lnTo>
                  <a:pt x="107950" y="171450"/>
                </a:lnTo>
                <a:lnTo>
                  <a:pt x="127000" y="184150"/>
                </a:lnTo>
                <a:lnTo>
                  <a:pt x="146050" y="196850"/>
                </a:lnTo>
                <a:lnTo>
                  <a:pt x="165100" y="203200"/>
                </a:lnTo>
                <a:lnTo>
                  <a:pt x="184150" y="215900"/>
                </a:lnTo>
                <a:lnTo>
                  <a:pt x="196850" y="228600"/>
                </a:lnTo>
                <a:lnTo>
                  <a:pt x="209550" y="241300"/>
                </a:lnTo>
                <a:lnTo>
                  <a:pt x="222250" y="254000"/>
                </a:lnTo>
                <a:lnTo>
                  <a:pt x="228600" y="260350"/>
                </a:lnTo>
                <a:lnTo>
                  <a:pt x="234950" y="273050"/>
                </a:lnTo>
                <a:lnTo>
                  <a:pt x="234950" y="285750"/>
                </a:lnTo>
                <a:lnTo>
                  <a:pt x="234950" y="292100"/>
                </a:lnTo>
                <a:lnTo>
                  <a:pt x="228600" y="298450"/>
                </a:lnTo>
                <a:lnTo>
                  <a:pt x="222250" y="311150"/>
                </a:lnTo>
                <a:lnTo>
                  <a:pt x="209550" y="317500"/>
                </a:lnTo>
                <a:lnTo>
                  <a:pt x="196850" y="323850"/>
                </a:lnTo>
                <a:lnTo>
                  <a:pt x="190500" y="323850"/>
                </a:lnTo>
                <a:lnTo>
                  <a:pt x="171450" y="330200"/>
                </a:lnTo>
                <a:lnTo>
                  <a:pt x="158750" y="336550"/>
                </a:lnTo>
                <a:lnTo>
                  <a:pt x="146050" y="336550"/>
                </a:lnTo>
                <a:lnTo>
                  <a:pt x="133350" y="336550"/>
                </a:lnTo>
                <a:lnTo>
                  <a:pt x="114300" y="336550"/>
                </a:lnTo>
                <a:lnTo>
                  <a:pt x="107950" y="336550"/>
                </a:lnTo>
                <a:lnTo>
                  <a:pt x="95250" y="336550"/>
                </a:lnTo>
                <a:lnTo>
                  <a:pt x="95250" y="336550"/>
                </a:lnTo>
                <a:lnTo>
                  <a:pt x="88900" y="336550"/>
                </a:lnTo>
                <a:lnTo>
                  <a:pt x="88900" y="3365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72" name="Freeform 33"/>
          <p:cNvSpPr/>
          <p:nvPr/>
        </p:nvSpPr>
        <p:spPr>
          <a:xfrm>
            <a:off x="635040" y="4635360"/>
            <a:ext cx="158760" cy="292320"/>
          </a:xfrm>
          <a:custGeom>
            <a:avLst/>
            <a:gdLst>
              <a:gd name="textAreaLeft" fmla="*/ 0 w 158760"/>
              <a:gd name="textAreaRight" fmla="*/ 159120 w 158760"/>
              <a:gd name="textAreaTop" fmla="*/ 0 h 292320"/>
              <a:gd name="textAreaBottom" fmla="*/ 292680 h 292320"/>
            </a:gdLst>
            <a:ahLst/>
            <a:rect l="textAreaLeft" t="textAreaTop" r="textAreaRight" b="textAreaBottom"/>
            <a:pathLst>
              <a:path w="158751" h="292101">
                <a:moveTo>
                  <a:pt x="139700" y="76200"/>
                </a:moveTo>
                <a:lnTo>
                  <a:pt x="139700" y="76200"/>
                </a:lnTo>
                <a:lnTo>
                  <a:pt x="146050" y="76200"/>
                </a:lnTo>
                <a:lnTo>
                  <a:pt x="146050" y="82550"/>
                </a:lnTo>
                <a:lnTo>
                  <a:pt x="146050" y="82550"/>
                </a:lnTo>
                <a:lnTo>
                  <a:pt x="146050" y="82550"/>
                </a:lnTo>
                <a:lnTo>
                  <a:pt x="146050" y="82550"/>
                </a:lnTo>
                <a:lnTo>
                  <a:pt x="152400" y="76200"/>
                </a:lnTo>
                <a:lnTo>
                  <a:pt x="146050" y="76200"/>
                </a:lnTo>
                <a:lnTo>
                  <a:pt x="146050" y="69850"/>
                </a:lnTo>
                <a:lnTo>
                  <a:pt x="146050" y="57150"/>
                </a:lnTo>
                <a:lnTo>
                  <a:pt x="146050" y="50800"/>
                </a:lnTo>
                <a:lnTo>
                  <a:pt x="139700" y="44450"/>
                </a:lnTo>
                <a:lnTo>
                  <a:pt x="133350" y="31750"/>
                </a:lnTo>
                <a:lnTo>
                  <a:pt x="127000" y="25400"/>
                </a:lnTo>
                <a:lnTo>
                  <a:pt x="127000" y="19050"/>
                </a:lnTo>
                <a:lnTo>
                  <a:pt x="120650" y="12700"/>
                </a:lnTo>
                <a:lnTo>
                  <a:pt x="107950" y="6350"/>
                </a:lnTo>
                <a:lnTo>
                  <a:pt x="101600" y="0"/>
                </a:lnTo>
                <a:lnTo>
                  <a:pt x="95250" y="0"/>
                </a:lnTo>
                <a:lnTo>
                  <a:pt x="82550" y="0"/>
                </a:lnTo>
                <a:lnTo>
                  <a:pt x="76200" y="0"/>
                </a:lnTo>
                <a:lnTo>
                  <a:pt x="63500" y="0"/>
                </a:lnTo>
                <a:lnTo>
                  <a:pt x="57150" y="6350"/>
                </a:lnTo>
                <a:lnTo>
                  <a:pt x="44450" y="6350"/>
                </a:lnTo>
                <a:lnTo>
                  <a:pt x="31750" y="19050"/>
                </a:lnTo>
                <a:lnTo>
                  <a:pt x="25400" y="31750"/>
                </a:lnTo>
                <a:lnTo>
                  <a:pt x="19050" y="38100"/>
                </a:lnTo>
                <a:lnTo>
                  <a:pt x="12700" y="57150"/>
                </a:lnTo>
                <a:lnTo>
                  <a:pt x="6350" y="69850"/>
                </a:lnTo>
                <a:lnTo>
                  <a:pt x="0" y="88900"/>
                </a:lnTo>
                <a:lnTo>
                  <a:pt x="0" y="101600"/>
                </a:lnTo>
                <a:lnTo>
                  <a:pt x="0" y="120650"/>
                </a:lnTo>
                <a:lnTo>
                  <a:pt x="0" y="139700"/>
                </a:lnTo>
                <a:lnTo>
                  <a:pt x="0" y="165100"/>
                </a:lnTo>
                <a:lnTo>
                  <a:pt x="6350" y="184150"/>
                </a:lnTo>
                <a:lnTo>
                  <a:pt x="12700" y="203200"/>
                </a:lnTo>
                <a:lnTo>
                  <a:pt x="25400" y="222250"/>
                </a:lnTo>
                <a:lnTo>
                  <a:pt x="31750" y="234950"/>
                </a:lnTo>
                <a:lnTo>
                  <a:pt x="44450" y="254000"/>
                </a:lnTo>
                <a:lnTo>
                  <a:pt x="63500" y="266700"/>
                </a:lnTo>
                <a:lnTo>
                  <a:pt x="76200" y="279400"/>
                </a:lnTo>
                <a:lnTo>
                  <a:pt x="88900" y="285750"/>
                </a:lnTo>
                <a:lnTo>
                  <a:pt x="101600" y="292100"/>
                </a:lnTo>
                <a:lnTo>
                  <a:pt x="120650" y="292100"/>
                </a:lnTo>
                <a:lnTo>
                  <a:pt x="133350" y="292100"/>
                </a:lnTo>
                <a:lnTo>
                  <a:pt x="152400" y="285750"/>
                </a:lnTo>
                <a:lnTo>
                  <a:pt x="152400" y="285750"/>
                </a:lnTo>
                <a:lnTo>
                  <a:pt x="158750" y="285750"/>
                </a:lnTo>
                <a:lnTo>
                  <a:pt x="158750" y="2857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73" name="Freeform 34"/>
          <p:cNvSpPr/>
          <p:nvPr/>
        </p:nvSpPr>
        <p:spPr>
          <a:xfrm>
            <a:off x="838080" y="4692600"/>
            <a:ext cx="171720" cy="266760"/>
          </a:xfrm>
          <a:custGeom>
            <a:avLst/>
            <a:gdLst>
              <a:gd name="textAreaLeft" fmla="*/ 0 w 171720"/>
              <a:gd name="textAreaRight" fmla="*/ 172080 w 171720"/>
              <a:gd name="textAreaTop" fmla="*/ 0 h 266760"/>
              <a:gd name="textAreaBottom" fmla="*/ 267120 h 266760"/>
            </a:gdLst>
            <a:ahLst/>
            <a:rect l="textAreaLeft" t="textAreaTop" r="textAreaRight" b="textAreaBottom"/>
            <a:pathLst>
              <a:path w="171451" h="266701">
                <a:moveTo>
                  <a:pt x="0" y="0"/>
                </a:moveTo>
                <a:lnTo>
                  <a:pt x="0" y="0"/>
                </a:lnTo>
                <a:lnTo>
                  <a:pt x="0" y="0"/>
                </a:lnTo>
                <a:lnTo>
                  <a:pt x="0" y="6350"/>
                </a:lnTo>
                <a:lnTo>
                  <a:pt x="0" y="12700"/>
                </a:lnTo>
                <a:lnTo>
                  <a:pt x="0" y="19050"/>
                </a:lnTo>
                <a:lnTo>
                  <a:pt x="0" y="31750"/>
                </a:lnTo>
                <a:lnTo>
                  <a:pt x="6350" y="38100"/>
                </a:lnTo>
                <a:lnTo>
                  <a:pt x="6350" y="50800"/>
                </a:lnTo>
                <a:lnTo>
                  <a:pt x="12700" y="63500"/>
                </a:lnTo>
                <a:lnTo>
                  <a:pt x="12700" y="82550"/>
                </a:lnTo>
                <a:lnTo>
                  <a:pt x="19050" y="95250"/>
                </a:lnTo>
                <a:lnTo>
                  <a:pt x="19050" y="114300"/>
                </a:lnTo>
                <a:lnTo>
                  <a:pt x="25400" y="127000"/>
                </a:lnTo>
                <a:lnTo>
                  <a:pt x="31750" y="146050"/>
                </a:lnTo>
                <a:lnTo>
                  <a:pt x="31750" y="165100"/>
                </a:lnTo>
                <a:lnTo>
                  <a:pt x="38100" y="184150"/>
                </a:lnTo>
                <a:lnTo>
                  <a:pt x="44450" y="196850"/>
                </a:lnTo>
                <a:lnTo>
                  <a:pt x="44450" y="215900"/>
                </a:lnTo>
                <a:lnTo>
                  <a:pt x="44450" y="228600"/>
                </a:lnTo>
                <a:lnTo>
                  <a:pt x="50800" y="241300"/>
                </a:lnTo>
                <a:lnTo>
                  <a:pt x="50800" y="254000"/>
                </a:lnTo>
                <a:lnTo>
                  <a:pt x="57150" y="260350"/>
                </a:lnTo>
                <a:lnTo>
                  <a:pt x="57150" y="266700"/>
                </a:lnTo>
                <a:lnTo>
                  <a:pt x="57150" y="266700"/>
                </a:lnTo>
                <a:lnTo>
                  <a:pt x="57150" y="266700"/>
                </a:lnTo>
                <a:lnTo>
                  <a:pt x="57150" y="266700"/>
                </a:lnTo>
                <a:lnTo>
                  <a:pt x="50800" y="260350"/>
                </a:lnTo>
                <a:lnTo>
                  <a:pt x="50800" y="260350"/>
                </a:lnTo>
                <a:lnTo>
                  <a:pt x="44450" y="247650"/>
                </a:lnTo>
                <a:lnTo>
                  <a:pt x="44450" y="241300"/>
                </a:lnTo>
                <a:lnTo>
                  <a:pt x="38100" y="228600"/>
                </a:lnTo>
                <a:lnTo>
                  <a:pt x="31750" y="215900"/>
                </a:lnTo>
                <a:lnTo>
                  <a:pt x="31750" y="203200"/>
                </a:lnTo>
                <a:lnTo>
                  <a:pt x="25400" y="190500"/>
                </a:lnTo>
                <a:lnTo>
                  <a:pt x="25400" y="177800"/>
                </a:lnTo>
                <a:lnTo>
                  <a:pt x="25400" y="158750"/>
                </a:lnTo>
                <a:lnTo>
                  <a:pt x="25400" y="146050"/>
                </a:lnTo>
                <a:lnTo>
                  <a:pt x="25400" y="133350"/>
                </a:lnTo>
                <a:lnTo>
                  <a:pt x="25400" y="120650"/>
                </a:lnTo>
                <a:lnTo>
                  <a:pt x="25400" y="107950"/>
                </a:lnTo>
                <a:lnTo>
                  <a:pt x="31750" y="95250"/>
                </a:lnTo>
                <a:lnTo>
                  <a:pt x="38100" y="82550"/>
                </a:lnTo>
                <a:lnTo>
                  <a:pt x="44450" y="69850"/>
                </a:lnTo>
                <a:lnTo>
                  <a:pt x="57150" y="63500"/>
                </a:lnTo>
                <a:lnTo>
                  <a:pt x="63500" y="57150"/>
                </a:lnTo>
                <a:lnTo>
                  <a:pt x="76200" y="57150"/>
                </a:lnTo>
                <a:lnTo>
                  <a:pt x="88900" y="50800"/>
                </a:lnTo>
                <a:lnTo>
                  <a:pt x="101600" y="50800"/>
                </a:lnTo>
                <a:lnTo>
                  <a:pt x="114300" y="50800"/>
                </a:lnTo>
                <a:lnTo>
                  <a:pt x="127000" y="57150"/>
                </a:lnTo>
                <a:lnTo>
                  <a:pt x="139700" y="57150"/>
                </a:lnTo>
                <a:lnTo>
                  <a:pt x="152400" y="63500"/>
                </a:lnTo>
                <a:lnTo>
                  <a:pt x="165100" y="69850"/>
                </a:lnTo>
                <a:lnTo>
                  <a:pt x="165100" y="69850"/>
                </a:lnTo>
                <a:lnTo>
                  <a:pt x="171450" y="69850"/>
                </a:lnTo>
                <a:lnTo>
                  <a:pt x="171450" y="698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74" name="Freeform 35"/>
          <p:cNvSpPr/>
          <p:nvPr/>
        </p:nvSpPr>
        <p:spPr>
          <a:xfrm>
            <a:off x="990720" y="4781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96851" h="215901">
                <a:moveTo>
                  <a:pt x="57150" y="6350"/>
                </a:moveTo>
                <a:lnTo>
                  <a:pt x="57150" y="6350"/>
                </a:lnTo>
                <a:lnTo>
                  <a:pt x="57150" y="6350"/>
                </a:lnTo>
                <a:lnTo>
                  <a:pt x="57150" y="6350"/>
                </a:lnTo>
                <a:lnTo>
                  <a:pt x="57150" y="6350"/>
                </a:lnTo>
                <a:lnTo>
                  <a:pt x="57150" y="6350"/>
                </a:lnTo>
                <a:lnTo>
                  <a:pt x="57150" y="6350"/>
                </a:lnTo>
                <a:lnTo>
                  <a:pt x="57150" y="6350"/>
                </a:lnTo>
                <a:lnTo>
                  <a:pt x="63500" y="6350"/>
                </a:lnTo>
                <a:lnTo>
                  <a:pt x="69850" y="0"/>
                </a:lnTo>
                <a:lnTo>
                  <a:pt x="76200" y="0"/>
                </a:lnTo>
                <a:lnTo>
                  <a:pt x="82550" y="0"/>
                </a:lnTo>
                <a:lnTo>
                  <a:pt x="95250" y="0"/>
                </a:lnTo>
                <a:lnTo>
                  <a:pt x="101600" y="0"/>
                </a:lnTo>
                <a:lnTo>
                  <a:pt x="114300" y="0"/>
                </a:lnTo>
                <a:lnTo>
                  <a:pt x="127000" y="6350"/>
                </a:lnTo>
                <a:lnTo>
                  <a:pt x="139700" y="12700"/>
                </a:lnTo>
                <a:lnTo>
                  <a:pt x="146050" y="19050"/>
                </a:lnTo>
                <a:lnTo>
                  <a:pt x="152400" y="31750"/>
                </a:lnTo>
                <a:lnTo>
                  <a:pt x="158750" y="44450"/>
                </a:lnTo>
                <a:lnTo>
                  <a:pt x="171450" y="57150"/>
                </a:lnTo>
                <a:lnTo>
                  <a:pt x="177800" y="69850"/>
                </a:lnTo>
                <a:lnTo>
                  <a:pt x="177800" y="82550"/>
                </a:lnTo>
                <a:lnTo>
                  <a:pt x="184150" y="95250"/>
                </a:lnTo>
                <a:lnTo>
                  <a:pt x="190500" y="107950"/>
                </a:lnTo>
                <a:lnTo>
                  <a:pt x="190500" y="120650"/>
                </a:lnTo>
                <a:lnTo>
                  <a:pt x="196850" y="127000"/>
                </a:lnTo>
                <a:lnTo>
                  <a:pt x="196850" y="133350"/>
                </a:lnTo>
                <a:lnTo>
                  <a:pt x="196850" y="139700"/>
                </a:lnTo>
                <a:lnTo>
                  <a:pt x="196850" y="139700"/>
                </a:lnTo>
                <a:lnTo>
                  <a:pt x="196850" y="139700"/>
                </a:lnTo>
                <a:lnTo>
                  <a:pt x="196850" y="139700"/>
                </a:lnTo>
                <a:lnTo>
                  <a:pt x="196850" y="139700"/>
                </a:lnTo>
                <a:lnTo>
                  <a:pt x="190500" y="139700"/>
                </a:lnTo>
                <a:lnTo>
                  <a:pt x="190500" y="133350"/>
                </a:lnTo>
                <a:lnTo>
                  <a:pt x="177800" y="127000"/>
                </a:lnTo>
                <a:lnTo>
                  <a:pt x="171450" y="120650"/>
                </a:lnTo>
                <a:lnTo>
                  <a:pt x="158750" y="114300"/>
                </a:lnTo>
                <a:lnTo>
                  <a:pt x="152400" y="107950"/>
                </a:lnTo>
                <a:lnTo>
                  <a:pt x="139700" y="107950"/>
                </a:lnTo>
                <a:lnTo>
                  <a:pt x="120650" y="101600"/>
                </a:lnTo>
                <a:lnTo>
                  <a:pt x="107950" y="101600"/>
                </a:lnTo>
                <a:lnTo>
                  <a:pt x="95250" y="95250"/>
                </a:lnTo>
                <a:lnTo>
                  <a:pt x="76200" y="95250"/>
                </a:lnTo>
                <a:lnTo>
                  <a:pt x="63500" y="95250"/>
                </a:lnTo>
                <a:lnTo>
                  <a:pt x="50800" y="95250"/>
                </a:lnTo>
                <a:lnTo>
                  <a:pt x="38100" y="101600"/>
                </a:lnTo>
                <a:lnTo>
                  <a:pt x="25400" y="101600"/>
                </a:lnTo>
                <a:lnTo>
                  <a:pt x="12700" y="107950"/>
                </a:lnTo>
                <a:lnTo>
                  <a:pt x="6350" y="114300"/>
                </a:lnTo>
                <a:lnTo>
                  <a:pt x="0" y="127000"/>
                </a:lnTo>
                <a:lnTo>
                  <a:pt x="0" y="133350"/>
                </a:lnTo>
                <a:lnTo>
                  <a:pt x="0" y="139700"/>
                </a:lnTo>
                <a:lnTo>
                  <a:pt x="0" y="152400"/>
                </a:lnTo>
                <a:lnTo>
                  <a:pt x="6350" y="158750"/>
                </a:lnTo>
                <a:lnTo>
                  <a:pt x="6350" y="165100"/>
                </a:lnTo>
                <a:lnTo>
                  <a:pt x="19050" y="177800"/>
                </a:lnTo>
                <a:lnTo>
                  <a:pt x="31750" y="184150"/>
                </a:lnTo>
                <a:lnTo>
                  <a:pt x="44450" y="196850"/>
                </a:lnTo>
                <a:lnTo>
                  <a:pt x="57150" y="203200"/>
                </a:lnTo>
                <a:lnTo>
                  <a:pt x="76200" y="209550"/>
                </a:lnTo>
                <a:lnTo>
                  <a:pt x="88900" y="209550"/>
                </a:lnTo>
                <a:lnTo>
                  <a:pt x="101600" y="215900"/>
                </a:lnTo>
                <a:lnTo>
                  <a:pt x="120650" y="215900"/>
                </a:lnTo>
                <a:lnTo>
                  <a:pt x="133350" y="215900"/>
                </a:lnTo>
                <a:lnTo>
                  <a:pt x="133350" y="215900"/>
                </a:lnTo>
                <a:lnTo>
                  <a:pt x="146050" y="215900"/>
                </a:lnTo>
                <a:lnTo>
                  <a:pt x="146050" y="2159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75" name="Freeform 36"/>
          <p:cNvSpPr/>
          <p:nvPr/>
        </p:nvSpPr>
        <p:spPr>
          <a:xfrm>
            <a:off x="1212840" y="4788000"/>
            <a:ext cx="235080" cy="260280"/>
          </a:xfrm>
          <a:custGeom>
            <a:avLst/>
            <a:gdLst>
              <a:gd name="textAreaLeft" fmla="*/ 0 w 235080"/>
              <a:gd name="textAreaRight" fmla="*/ 235440 w 235080"/>
              <a:gd name="textAreaTop" fmla="*/ 0 h 260280"/>
              <a:gd name="textAreaBottom" fmla="*/ 260640 h 260280"/>
            </a:gdLst>
            <a:ahLst/>
            <a:rect l="textAreaLeft" t="textAreaTop" r="textAreaRight" b="textAreaBottom"/>
            <a:pathLst>
              <a:path w="234951" h="260351">
                <a:moveTo>
                  <a:pt x="184150" y="50800"/>
                </a:moveTo>
                <a:lnTo>
                  <a:pt x="184150" y="50800"/>
                </a:lnTo>
                <a:lnTo>
                  <a:pt x="184150" y="50800"/>
                </a:lnTo>
                <a:lnTo>
                  <a:pt x="177800" y="44450"/>
                </a:lnTo>
                <a:lnTo>
                  <a:pt x="171450" y="31750"/>
                </a:lnTo>
                <a:lnTo>
                  <a:pt x="165100" y="25400"/>
                </a:lnTo>
                <a:lnTo>
                  <a:pt x="158750" y="19050"/>
                </a:lnTo>
                <a:lnTo>
                  <a:pt x="146050" y="12700"/>
                </a:lnTo>
                <a:lnTo>
                  <a:pt x="133350" y="6350"/>
                </a:lnTo>
                <a:lnTo>
                  <a:pt x="120650" y="6350"/>
                </a:lnTo>
                <a:lnTo>
                  <a:pt x="107950" y="0"/>
                </a:lnTo>
                <a:lnTo>
                  <a:pt x="88900" y="0"/>
                </a:lnTo>
                <a:lnTo>
                  <a:pt x="76200" y="0"/>
                </a:lnTo>
                <a:lnTo>
                  <a:pt x="63500" y="0"/>
                </a:lnTo>
                <a:lnTo>
                  <a:pt x="50800" y="6350"/>
                </a:lnTo>
                <a:lnTo>
                  <a:pt x="31750" y="6350"/>
                </a:lnTo>
                <a:lnTo>
                  <a:pt x="25400" y="12700"/>
                </a:lnTo>
                <a:lnTo>
                  <a:pt x="19050" y="19050"/>
                </a:lnTo>
                <a:lnTo>
                  <a:pt x="6350" y="25400"/>
                </a:lnTo>
                <a:lnTo>
                  <a:pt x="0" y="31750"/>
                </a:lnTo>
                <a:lnTo>
                  <a:pt x="0" y="38100"/>
                </a:lnTo>
                <a:lnTo>
                  <a:pt x="0" y="50800"/>
                </a:lnTo>
                <a:lnTo>
                  <a:pt x="6350" y="57150"/>
                </a:lnTo>
                <a:lnTo>
                  <a:pt x="12700" y="63500"/>
                </a:lnTo>
                <a:lnTo>
                  <a:pt x="25400" y="69850"/>
                </a:lnTo>
                <a:lnTo>
                  <a:pt x="31750" y="82550"/>
                </a:lnTo>
                <a:lnTo>
                  <a:pt x="44450" y="88900"/>
                </a:lnTo>
                <a:lnTo>
                  <a:pt x="57150" y="95250"/>
                </a:lnTo>
                <a:lnTo>
                  <a:pt x="76200" y="101600"/>
                </a:lnTo>
                <a:lnTo>
                  <a:pt x="95250" y="114300"/>
                </a:lnTo>
                <a:lnTo>
                  <a:pt x="107950" y="120650"/>
                </a:lnTo>
                <a:lnTo>
                  <a:pt x="127000" y="127000"/>
                </a:lnTo>
                <a:lnTo>
                  <a:pt x="146050" y="139700"/>
                </a:lnTo>
                <a:lnTo>
                  <a:pt x="165100" y="146050"/>
                </a:lnTo>
                <a:lnTo>
                  <a:pt x="177800" y="158750"/>
                </a:lnTo>
                <a:lnTo>
                  <a:pt x="196850" y="165100"/>
                </a:lnTo>
                <a:lnTo>
                  <a:pt x="209550" y="177800"/>
                </a:lnTo>
                <a:lnTo>
                  <a:pt x="215900" y="190500"/>
                </a:lnTo>
                <a:lnTo>
                  <a:pt x="222250" y="203200"/>
                </a:lnTo>
                <a:lnTo>
                  <a:pt x="228600" y="209550"/>
                </a:lnTo>
                <a:lnTo>
                  <a:pt x="234950" y="215900"/>
                </a:lnTo>
                <a:lnTo>
                  <a:pt x="234950" y="228600"/>
                </a:lnTo>
                <a:lnTo>
                  <a:pt x="234950" y="234950"/>
                </a:lnTo>
                <a:lnTo>
                  <a:pt x="228600" y="241300"/>
                </a:lnTo>
                <a:lnTo>
                  <a:pt x="222250" y="247650"/>
                </a:lnTo>
                <a:lnTo>
                  <a:pt x="215900" y="254000"/>
                </a:lnTo>
                <a:lnTo>
                  <a:pt x="209550" y="260350"/>
                </a:lnTo>
                <a:lnTo>
                  <a:pt x="196850" y="260350"/>
                </a:lnTo>
                <a:lnTo>
                  <a:pt x="177800" y="260350"/>
                </a:lnTo>
                <a:lnTo>
                  <a:pt x="165100" y="260350"/>
                </a:lnTo>
                <a:lnTo>
                  <a:pt x="152400" y="260350"/>
                </a:lnTo>
                <a:lnTo>
                  <a:pt x="139700" y="260350"/>
                </a:lnTo>
                <a:lnTo>
                  <a:pt x="120650" y="254000"/>
                </a:lnTo>
                <a:lnTo>
                  <a:pt x="107950" y="247650"/>
                </a:lnTo>
                <a:lnTo>
                  <a:pt x="95250" y="247650"/>
                </a:lnTo>
                <a:lnTo>
                  <a:pt x="76200" y="241300"/>
                </a:lnTo>
                <a:lnTo>
                  <a:pt x="63500" y="234950"/>
                </a:lnTo>
                <a:lnTo>
                  <a:pt x="50800" y="228600"/>
                </a:lnTo>
                <a:lnTo>
                  <a:pt x="38100" y="222250"/>
                </a:lnTo>
                <a:lnTo>
                  <a:pt x="25400" y="215900"/>
                </a:lnTo>
                <a:lnTo>
                  <a:pt x="25400" y="209550"/>
                </a:lnTo>
                <a:lnTo>
                  <a:pt x="25400" y="209550"/>
                </a:lnTo>
                <a:lnTo>
                  <a:pt x="19050" y="209550"/>
                </a:lnTo>
                <a:lnTo>
                  <a:pt x="19050" y="2095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76" name="Freeform 37"/>
          <p:cNvSpPr/>
          <p:nvPr/>
        </p:nvSpPr>
        <p:spPr>
          <a:xfrm>
            <a:off x="1467000" y="4743360"/>
            <a:ext cx="311040" cy="374760"/>
          </a:xfrm>
          <a:custGeom>
            <a:avLst/>
            <a:gdLst>
              <a:gd name="textAreaLeft" fmla="*/ 0 w 311040"/>
              <a:gd name="textAreaRight" fmla="*/ 311400 w 311040"/>
              <a:gd name="textAreaTop" fmla="*/ 0 h 374760"/>
              <a:gd name="textAreaBottom" fmla="*/ 375120 h 374760"/>
            </a:gdLst>
            <a:ahLst/>
            <a:rect l="textAreaLeft" t="textAreaTop" r="textAreaRight" b="textAreaBottom"/>
            <a:pathLst>
              <a:path w="311151" h="374651">
                <a:moveTo>
                  <a:pt x="0" y="0"/>
                </a:moveTo>
                <a:lnTo>
                  <a:pt x="0" y="0"/>
                </a:lnTo>
                <a:lnTo>
                  <a:pt x="0" y="0"/>
                </a:lnTo>
                <a:lnTo>
                  <a:pt x="0" y="0"/>
                </a:lnTo>
                <a:lnTo>
                  <a:pt x="0" y="0"/>
                </a:lnTo>
                <a:lnTo>
                  <a:pt x="6350" y="6350"/>
                </a:lnTo>
                <a:lnTo>
                  <a:pt x="6350" y="12700"/>
                </a:lnTo>
                <a:lnTo>
                  <a:pt x="6350" y="19050"/>
                </a:lnTo>
                <a:lnTo>
                  <a:pt x="12700" y="25400"/>
                </a:lnTo>
                <a:lnTo>
                  <a:pt x="19050" y="38100"/>
                </a:lnTo>
                <a:lnTo>
                  <a:pt x="19050" y="50800"/>
                </a:lnTo>
                <a:lnTo>
                  <a:pt x="25400" y="63500"/>
                </a:lnTo>
                <a:lnTo>
                  <a:pt x="31750" y="76200"/>
                </a:lnTo>
                <a:lnTo>
                  <a:pt x="38100" y="95250"/>
                </a:lnTo>
                <a:lnTo>
                  <a:pt x="44450" y="114300"/>
                </a:lnTo>
                <a:lnTo>
                  <a:pt x="50800" y="133350"/>
                </a:lnTo>
                <a:lnTo>
                  <a:pt x="50800" y="152400"/>
                </a:lnTo>
                <a:lnTo>
                  <a:pt x="57150" y="171450"/>
                </a:lnTo>
                <a:lnTo>
                  <a:pt x="57150" y="190500"/>
                </a:lnTo>
                <a:lnTo>
                  <a:pt x="63500" y="209550"/>
                </a:lnTo>
                <a:lnTo>
                  <a:pt x="63500" y="234950"/>
                </a:lnTo>
                <a:lnTo>
                  <a:pt x="63500" y="254000"/>
                </a:lnTo>
                <a:lnTo>
                  <a:pt x="69850" y="273050"/>
                </a:lnTo>
                <a:lnTo>
                  <a:pt x="69850" y="292100"/>
                </a:lnTo>
                <a:lnTo>
                  <a:pt x="69850" y="304800"/>
                </a:lnTo>
                <a:lnTo>
                  <a:pt x="69850" y="317500"/>
                </a:lnTo>
                <a:lnTo>
                  <a:pt x="69850" y="330200"/>
                </a:lnTo>
                <a:lnTo>
                  <a:pt x="69850" y="342900"/>
                </a:lnTo>
                <a:lnTo>
                  <a:pt x="69850" y="342900"/>
                </a:lnTo>
                <a:lnTo>
                  <a:pt x="69850" y="349250"/>
                </a:lnTo>
                <a:lnTo>
                  <a:pt x="69850" y="349250"/>
                </a:lnTo>
                <a:lnTo>
                  <a:pt x="69850" y="349250"/>
                </a:lnTo>
                <a:lnTo>
                  <a:pt x="69850" y="342900"/>
                </a:lnTo>
                <a:lnTo>
                  <a:pt x="69850" y="336550"/>
                </a:lnTo>
                <a:lnTo>
                  <a:pt x="69850" y="323850"/>
                </a:lnTo>
                <a:lnTo>
                  <a:pt x="69850" y="317500"/>
                </a:lnTo>
                <a:lnTo>
                  <a:pt x="69850" y="298450"/>
                </a:lnTo>
                <a:lnTo>
                  <a:pt x="69850" y="285750"/>
                </a:lnTo>
                <a:lnTo>
                  <a:pt x="69850" y="273050"/>
                </a:lnTo>
                <a:lnTo>
                  <a:pt x="69850" y="254000"/>
                </a:lnTo>
                <a:lnTo>
                  <a:pt x="69850" y="241300"/>
                </a:lnTo>
                <a:lnTo>
                  <a:pt x="69850" y="222250"/>
                </a:lnTo>
                <a:lnTo>
                  <a:pt x="69850" y="209550"/>
                </a:lnTo>
                <a:lnTo>
                  <a:pt x="76200" y="196850"/>
                </a:lnTo>
                <a:lnTo>
                  <a:pt x="76200" y="184150"/>
                </a:lnTo>
                <a:lnTo>
                  <a:pt x="82550" y="171450"/>
                </a:lnTo>
                <a:lnTo>
                  <a:pt x="88900" y="158750"/>
                </a:lnTo>
                <a:lnTo>
                  <a:pt x="95250" y="152400"/>
                </a:lnTo>
                <a:lnTo>
                  <a:pt x="101600" y="146050"/>
                </a:lnTo>
                <a:lnTo>
                  <a:pt x="107950" y="139700"/>
                </a:lnTo>
                <a:lnTo>
                  <a:pt x="114300" y="139700"/>
                </a:lnTo>
                <a:lnTo>
                  <a:pt x="127000" y="133350"/>
                </a:lnTo>
                <a:lnTo>
                  <a:pt x="139700" y="133350"/>
                </a:lnTo>
                <a:lnTo>
                  <a:pt x="152400" y="139700"/>
                </a:lnTo>
                <a:lnTo>
                  <a:pt x="158750" y="146050"/>
                </a:lnTo>
                <a:lnTo>
                  <a:pt x="177800" y="152400"/>
                </a:lnTo>
                <a:lnTo>
                  <a:pt x="190500" y="165100"/>
                </a:lnTo>
                <a:lnTo>
                  <a:pt x="196850" y="171450"/>
                </a:lnTo>
                <a:lnTo>
                  <a:pt x="209550" y="184150"/>
                </a:lnTo>
                <a:lnTo>
                  <a:pt x="222250" y="203200"/>
                </a:lnTo>
                <a:lnTo>
                  <a:pt x="234950" y="215900"/>
                </a:lnTo>
                <a:lnTo>
                  <a:pt x="247650" y="234950"/>
                </a:lnTo>
                <a:lnTo>
                  <a:pt x="254000" y="260350"/>
                </a:lnTo>
                <a:lnTo>
                  <a:pt x="266700" y="279400"/>
                </a:lnTo>
                <a:lnTo>
                  <a:pt x="273050" y="298450"/>
                </a:lnTo>
                <a:lnTo>
                  <a:pt x="285750" y="323850"/>
                </a:lnTo>
                <a:lnTo>
                  <a:pt x="292100" y="336550"/>
                </a:lnTo>
                <a:lnTo>
                  <a:pt x="298450" y="355600"/>
                </a:lnTo>
                <a:lnTo>
                  <a:pt x="298450" y="361950"/>
                </a:lnTo>
                <a:lnTo>
                  <a:pt x="304800" y="374650"/>
                </a:lnTo>
                <a:lnTo>
                  <a:pt x="304800" y="374650"/>
                </a:lnTo>
                <a:lnTo>
                  <a:pt x="304800" y="374650"/>
                </a:lnTo>
                <a:lnTo>
                  <a:pt x="304800" y="374650"/>
                </a:lnTo>
                <a:lnTo>
                  <a:pt x="311150" y="368300"/>
                </a:lnTo>
                <a:lnTo>
                  <a:pt x="311150" y="3683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77" name="Freeform 38"/>
          <p:cNvSpPr/>
          <p:nvPr/>
        </p:nvSpPr>
        <p:spPr>
          <a:xfrm>
            <a:off x="1841400" y="4896000"/>
            <a:ext cx="57240" cy="164880"/>
          </a:xfrm>
          <a:custGeom>
            <a:avLst/>
            <a:gdLst>
              <a:gd name="textAreaLeft" fmla="*/ 0 w 57240"/>
              <a:gd name="textAreaRight" fmla="*/ 57600 w 57240"/>
              <a:gd name="textAreaTop" fmla="*/ 0 h 164880"/>
              <a:gd name="textAreaBottom" fmla="*/ 165240 h 164880"/>
            </a:gdLst>
            <a:ahLst/>
            <a:rect l="textAreaLeft" t="textAreaTop" r="textAreaRight" b="textAreaBottom"/>
            <a:pathLst>
              <a:path w="57151" h="165101">
                <a:moveTo>
                  <a:pt x="0" y="0"/>
                </a:moveTo>
                <a:lnTo>
                  <a:pt x="0" y="0"/>
                </a:lnTo>
                <a:lnTo>
                  <a:pt x="0" y="6350"/>
                </a:lnTo>
                <a:lnTo>
                  <a:pt x="0" y="6350"/>
                </a:lnTo>
                <a:lnTo>
                  <a:pt x="0" y="6350"/>
                </a:lnTo>
                <a:lnTo>
                  <a:pt x="6350" y="6350"/>
                </a:lnTo>
                <a:lnTo>
                  <a:pt x="6350" y="12700"/>
                </a:lnTo>
                <a:lnTo>
                  <a:pt x="6350" y="19050"/>
                </a:lnTo>
                <a:lnTo>
                  <a:pt x="12700" y="25400"/>
                </a:lnTo>
                <a:lnTo>
                  <a:pt x="12700" y="38100"/>
                </a:lnTo>
                <a:lnTo>
                  <a:pt x="19050" y="50800"/>
                </a:lnTo>
                <a:lnTo>
                  <a:pt x="19050" y="63500"/>
                </a:lnTo>
                <a:lnTo>
                  <a:pt x="25400" y="76200"/>
                </a:lnTo>
                <a:lnTo>
                  <a:pt x="31750" y="95250"/>
                </a:lnTo>
                <a:lnTo>
                  <a:pt x="31750" y="107950"/>
                </a:lnTo>
                <a:lnTo>
                  <a:pt x="38100" y="120650"/>
                </a:lnTo>
                <a:lnTo>
                  <a:pt x="44450" y="139700"/>
                </a:lnTo>
                <a:lnTo>
                  <a:pt x="44450" y="146050"/>
                </a:lnTo>
                <a:lnTo>
                  <a:pt x="50800" y="158750"/>
                </a:lnTo>
                <a:lnTo>
                  <a:pt x="50800" y="165100"/>
                </a:lnTo>
                <a:lnTo>
                  <a:pt x="57150" y="165100"/>
                </a:lnTo>
                <a:lnTo>
                  <a:pt x="57150" y="165100"/>
                </a:lnTo>
                <a:lnTo>
                  <a:pt x="57150" y="165100"/>
                </a:lnTo>
                <a:lnTo>
                  <a:pt x="57150" y="1651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78" name="Freeform 39"/>
          <p:cNvSpPr/>
          <p:nvPr/>
        </p:nvSpPr>
        <p:spPr>
          <a:xfrm>
            <a:off x="1854360" y="4819680"/>
            <a:ext cx="12600" cy="6480"/>
          </a:xfrm>
          <a:custGeom>
            <a:avLst/>
            <a:gdLst>
              <a:gd name="textAreaLeft" fmla="*/ 0 w 12600"/>
              <a:gd name="textAreaRight" fmla="*/ 12960 w 12600"/>
              <a:gd name="textAreaTop" fmla="*/ 0 h 6480"/>
              <a:gd name="textAreaBottom" fmla="*/ 6840 h 6480"/>
            </a:gdLst>
            <a:ahLst/>
            <a:rect l="textAreaLeft" t="textAreaTop" r="textAreaRight" b="textAreaBottom"/>
            <a:pathLst>
              <a:path w="12701" h="6351">
                <a:moveTo>
                  <a:pt x="0" y="6350"/>
                </a:moveTo>
                <a:lnTo>
                  <a:pt x="0" y="6350"/>
                </a:lnTo>
                <a:lnTo>
                  <a:pt x="0" y="6350"/>
                </a:lnTo>
                <a:lnTo>
                  <a:pt x="0" y="0"/>
                </a:lnTo>
                <a:lnTo>
                  <a:pt x="0" y="0"/>
                </a:lnTo>
                <a:lnTo>
                  <a:pt x="0" y="0"/>
                </a:lnTo>
                <a:lnTo>
                  <a:pt x="0" y="0"/>
                </a:lnTo>
                <a:lnTo>
                  <a:pt x="0" y="0"/>
                </a:lnTo>
                <a:lnTo>
                  <a:pt x="0" y="0"/>
                </a:lnTo>
                <a:lnTo>
                  <a:pt x="6350" y="0"/>
                </a:lnTo>
                <a:lnTo>
                  <a:pt x="6350" y="0"/>
                </a:lnTo>
                <a:lnTo>
                  <a:pt x="6350" y="0"/>
                </a:lnTo>
                <a:lnTo>
                  <a:pt x="12700" y="0"/>
                </a:lnTo>
                <a:lnTo>
                  <a:pt x="12700" y="0"/>
                </a:lnTo>
              </a:path>
            </a:pathLst>
          </a:custGeom>
          <a:noFill/>
          <a:ln w="38160">
            <a:solidFill>
              <a:srgbClr val="ff0000"/>
            </a:solidFill>
            <a:round/>
          </a:ln>
        </p:spPr>
        <p:style>
          <a:lnRef idx="0"/>
          <a:fillRef idx="0"/>
          <a:effectRef idx="0"/>
          <a:fontRef idx="minor"/>
        </p:style>
        <p:txBody>
          <a:bodyPr tIns="-38880" bIns="-38880" anchor="ctr">
            <a:noAutofit/>
          </a:bodyPr>
          <a:p>
            <a:endParaRPr b="0" lang="en-US" sz="1800" spc="-1" strike="noStrike">
              <a:solidFill>
                <a:srgbClr val="000000"/>
              </a:solidFill>
              <a:latin typeface="Verdana"/>
            </a:endParaRPr>
          </a:p>
        </p:txBody>
      </p:sp>
      <p:sp>
        <p:nvSpPr>
          <p:cNvPr id="179" name="Freeform 40"/>
          <p:cNvSpPr/>
          <p:nvPr/>
        </p:nvSpPr>
        <p:spPr>
          <a:xfrm>
            <a:off x="1930320" y="4832280"/>
            <a:ext cx="209520" cy="228600"/>
          </a:xfrm>
          <a:custGeom>
            <a:avLst/>
            <a:gdLst>
              <a:gd name="textAreaLeft" fmla="*/ 0 w 209520"/>
              <a:gd name="textAreaRight" fmla="*/ 209880 w 209520"/>
              <a:gd name="textAreaTop" fmla="*/ 0 h 228600"/>
              <a:gd name="textAreaBottom" fmla="*/ 228960 h 228600"/>
            </a:gdLst>
            <a:ahLst/>
            <a:rect l="textAreaLeft" t="textAreaTop" r="textAreaRight" b="textAreaBottom"/>
            <a:pathLst>
              <a:path w="209551" h="228601">
                <a:moveTo>
                  <a:pt x="0" y="31750"/>
                </a:moveTo>
                <a:lnTo>
                  <a:pt x="0" y="38100"/>
                </a:lnTo>
                <a:lnTo>
                  <a:pt x="0" y="44450"/>
                </a:lnTo>
                <a:lnTo>
                  <a:pt x="0" y="50800"/>
                </a:lnTo>
                <a:lnTo>
                  <a:pt x="6350" y="63500"/>
                </a:lnTo>
                <a:lnTo>
                  <a:pt x="6350" y="76200"/>
                </a:lnTo>
                <a:lnTo>
                  <a:pt x="12700" y="88900"/>
                </a:lnTo>
                <a:lnTo>
                  <a:pt x="19050" y="107950"/>
                </a:lnTo>
                <a:lnTo>
                  <a:pt x="19050" y="120650"/>
                </a:lnTo>
                <a:lnTo>
                  <a:pt x="25400" y="139700"/>
                </a:lnTo>
                <a:lnTo>
                  <a:pt x="31750" y="152400"/>
                </a:lnTo>
                <a:lnTo>
                  <a:pt x="31750" y="165100"/>
                </a:lnTo>
                <a:lnTo>
                  <a:pt x="38100" y="177800"/>
                </a:lnTo>
                <a:lnTo>
                  <a:pt x="44450" y="190500"/>
                </a:lnTo>
                <a:lnTo>
                  <a:pt x="50800" y="196850"/>
                </a:lnTo>
                <a:lnTo>
                  <a:pt x="44450" y="203200"/>
                </a:lnTo>
                <a:lnTo>
                  <a:pt x="50800" y="203200"/>
                </a:lnTo>
                <a:lnTo>
                  <a:pt x="50800" y="203200"/>
                </a:lnTo>
                <a:lnTo>
                  <a:pt x="50800" y="203200"/>
                </a:lnTo>
                <a:lnTo>
                  <a:pt x="44450" y="203200"/>
                </a:lnTo>
                <a:lnTo>
                  <a:pt x="44450" y="203200"/>
                </a:lnTo>
                <a:lnTo>
                  <a:pt x="44450" y="196850"/>
                </a:lnTo>
                <a:lnTo>
                  <a:pt x="38100" y="190500"/>
                </a:lnTo>
                <a:lnTo>
                  <a:pt x="31750" y="177800"/>
                </a:lnTo>
                <a:lnTo>
                  <a:pt x="31750" y="165100"/>
                </a:lnTo>
                <a:lnTo>
                  <a:pt x="25400" y="152400"/>
                </a:lnTo>
                <a:lnTo>
                  <a:pt x="25400" y="139700"/>
                </a:lnTo>
                <a:lnTo>
                  <a:pt x="25400" y="120650"/>
                </a:lnTo>
                <a:lnTo>
                  <a:pt x="25400" y="107950"/>
                </a:lnTo>
                <a:lnTo>
                  <a:pt x="31750" y="88900"/>
                </a:lnTo>
                <a:lnTo>
                  <a:pt x="38100" y="76200"/>
                </a:lnTo>
                <a:lnTo>
                  <a:pt x="44450" y="63500"/>
                </a:lnTo>
                <a:lnTo>
                  <a:pt x="50800" y="50800"/>
                </a:lnTo>
                <a:lnTo>
                  <a:pt x="57150" y="38100"/>
                </a:lnTo>
                <a:lnTo>
                  <a:pt x="63500" y="25400"/>
                </a:lnTo>
                <a:lnTo>
                  <a:pt x="69850" y="19050"/>
                </a:lnTo>
                <a:lnTo>
                  <a:pt x="76200" y="12700"/>
                </a:lnTo>
                <a:lnTo>
                  <a:pt x="88900" y="6350"/>
                </a:lnTo>
                <a:lnTo>
                  <a:pt x="95250" y="0"/>
                </a:lnTo>
                <a:lnTo>
                  <a:pt x="101600" y="0"/>
                </a:lnTo>
                <a:lnTo>
                  <a:pt x="107950" y="0"/>
                </a:lnTo>
                <a:lnTo>
                  <a:pt x="114300" y="6350"/>
                </a:lnTo>
                <a:lnTo>
                  <a:pt x="120650" y="6350"/>
                </a:lnTo>
                <a:lnTo>
                  <a:pt x="133350" y="12700"/>
                </a:lnTo>
                <a:lnTo>
                  <a:pt x="139700" y="25400"/>
                </a:lnTo>
                <a:lnTo>
                  <a:pt x="152400" y="31750"/>
                </a:lnTo>
                <a:lnTo>
                  <a:pt x="158750" y="44450"/>
                </a:lnTo>
                <a:lnTo>
                  <a:pt x="165100" y="63500"/>
                </a:lnTo>
                <a:lnTo>
                  <a:pt x="171450" y="76200"/>
                </a:lnTo>
                <a:lnTo>
                  <a:pt x="177800" y="95250"/>
                </a:lnTo>
                <a:lnTo>
                  <a:pt x="177800" y="114300"/>
                </a:lnTo>
                <a:lnTo>
                  <a:pt x="184150" y="133350"/>
                </a:lnTo>
                <a:lnTo>
                  <a:pt x="190500" y="146050"/>
                </a:lnTo>
                <a:lnTo>
                  <a:pt x="190500" y="165100"/>
                </a:lnTo>
                <a:lnTo>
                  <a:pt x="190500" y="177800"/>
                </a:lnTo>
                <a:lnTo>
                  <a:pt x="196850" y="196850"/>
                </a:lnTo>
                <a:lnTo>
                  <a:pt x="196850" y="209550"/>
                </a:lnTo>
                <a:lnTo>
                  <a:pt x="196850" y="215900"/>
                </a:lnTo>
                <a:lnTo>
                  <a:pt x="203200" y="222250"/>
                </a:lnTo>
                <a:lnTo>
                  <a:pt x="203200" y="228600"/>
                </a:lnTo>
                <a:lnTo>
                  <a:pt x="203200" y="228600"/>
                </a:lnTo>
                <a:lnTo>
                  <a:pt x="203200" y="228600"/>
                </a:lnTo>
                <a:lnTo>
                  <a:pt x="209550" y="228600"/>
                </a:lnTo>
                <a:lnTo>
                  <a:pt x="209550" y="2286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80" name="Freeform 41"/>
          <p:cNvSpPr/>
          <p:nvPr/>
        </p:nvSpPr>
        <p:spPr>
          <a:xfrm>
            <a:off x="2127240" y="4857840"/>
            <a:ext cx="216000" cy="399960"/>
          </a:xfrm>
          <a:custGeom>
            <a:avLst/>
            <a:gdLst>
              <a:gd name="textAreaLeft" fmla="*/ 0 w 216000"/>
              <a:gd name="textAreaRight" fmla="*/ 216360 w 216000"/>
              <a:gd name="textAreaTop" fmla="*/ 0 h 399960"/>
              <a:gd name="textAreaBottom" fmla="*/ 400320 h 399960"/>
            </a:gdLst>
            <a:ahLst/>
            <a:rect l="textAreaLeft" t="textAreaTop" r="textAreaRight" b="textAreaBottom"/>
            <a:pathLst>
              <a:path w="215901" h="400051">
                <a:moveTo>
                  <a:pt x="196850" y="76200"/>
                </a:moveTo>
                <a:lnTo>
                  <a:pt x="196850" y="76200"/>
                </a:lnTo>
                <a:lnTo>
                  <a:pt x="196850" y="76200"/>
                </a:lnTo>
                <a:lnTo>
                  <a:pt x="190500" y="63500"/>
                </a:lnTo>
                <a:lnTo>
                  <a:pt x="190500" y="63500"/>
                </a:lnTo>
                <a:lnTo>
                  <a:pt x="184150" y="57150"/>
                </a:lnTo>
                <a:lnTo>
                  <a:pt x="184150" y="44450"/>
                </a:lnTo>
                <a:lnTo>
                  <a:pt x="177800" y="38100"/>
                </a:lnTo>
                <a:lnTo>
                  <a:pt x="177800" y="31750"/>
                </a:lnTo>
                <a:lnTo>
                  <a:pt x="165100" y="25400"/>
                </a:lnTo>
                <a:lnTo>
                  <a:pt x="158750" y="19050"/>
                </a:lnTo>
                <a:lnTo>
                  <a:pt x="152400" y="12700"/>
                </a:lnTo>
                <a:lnTo>
                  <a:pt x="146050" y="6350"/>
                </a:lnTo>
                <a:lnTo>
                  <a:pt x="133350" y="0"/>
                </a:lnTo>
                <a:lnTo>
                  <a:pt x="120650" y="0"/>
                </a:lnTo>
                <a:lnTo>
                  <a:pt x="107950" y="0"/>
                </a:lnTo>
                <a:lnTo>
                  <a:pt x="95250" y="6350"/>
                </a:lnTo>
                <a:lnTo>
                  <a:pt x="76200" y="12700"/>
                </a:lnTo>
                <a:lnTo>
                  <a:pt x="63500" y="19050"/>
                </a:lnTo>
                <a:lnTo>
                  <a:pt x="44450" y="31750"/>
                </a:lnTo>
                <a:lnTo>
                  <a:pt x="31750" y="44450"/>
                </a:lnTo>
                <a:lnTo>
                  <a:pt x="25400" y="57150"/>
                </a:lnTo>
                <a:lnTo>
                  <a:pt x="19050" y="69850"/>
                </a:lnTo>
                <a:lnTo>
                  <a:pt x="12700" y="82550"/>
                </a:lnTo>
                <a:lnTo>
                  <a:pt x="12700" y="95250"/>
                </a:lnTo>
                <a:lnTo>
                  <a:pt x="12700" y="107950"/>
                </a:lnTo>
                <a:lnTo>
                  <a:pt x="19050" y="120650"/>
                </a:lnTo>
                <a:lnTo>
                  <a:pt x="25400" y="127000"/>
                </a:lnTo>
                <a:lnTo>
                  <a:pt x="31750" y="139700"/>
                </a:lnTo>
                <a:lnTo>
                  <a:pt x="44450" y="146050"/>
                </a:lnTo>
                <a:lnTo>
                  <a:pt x="57150" y="146050"/>
                </a:lnTo>
                <a:lnTo>
                  <a:pt x="63500" y="152400"/>
                </a:lnTo>
                <a:lnTo>
                  <a:pt x="82550" y="152400"/>
                </a:lnTo>
                <a:lnTo>
                  <a:pt x="95250" y="152400"/>
                </a:lnTo>
                <a:lnTo>
                  <a:pt x="101600" y="152400"/>
                </a:lnTo>
                <a:lnTo>
                  <a:pt x="107950" y="152400"/>
                </a:lnTo>
                <a:lnTo>
                  <a:pt x="120650" y="146050"/>
                </a:lnTo>
                <a:lnTo>
                  <a:pt x="127000" y="139700"/>
                </a:lnTo>
                <a:lnTo>
                  <a:pt x="139700" y="133350"/>
                </a:lnTo>
                <a:lnTo>
                  <a:pt x="146050" y="120650"/>
                </a:lnTo>
                <a:lnTo>
                  <a:pt x="152400" y="114300"/>
                </a:lnTo>
                <a:lnTo>
                  <a:pt x="152400" y="107950"/>
                </a:lnTo>
                <a:lnTo>
                  <a:pt x="158750" y="101600"/>
                </a:lnTo>
                <a:lnTo>
                  <a:pt x="158750" y="88900"/>
                </a:lnTo>
                <a:lnTo>
                  <a:pt x="158750" y="82550"/>
                </a:lnTo>
                <a:lnTo>
                  <a:pt x="158750" y="82550"/>
                </a:lnTo>
                <a:lnTo>
                  <a:pt x="158750" y="76200"/>
                </a:lnTo>
                <a:lnTo>
                  <a:pt x="165100" y="76200"/>
                </a:lnTo>
                <a:lnTo>
                  <a:pt x="165100" y="69850"/>
                </a:lnTo>
                <a:lnTo>
                  <a:pt x="165100" y="69850"/>
                </a:lnTo>
                <a:lnTo>
                  <a:pt x="171450" y="76200"/>
                </a:lnTo>
                <a:lnTo>
                  <a:pt x="171450" y="76200"/>
                </a:lnTo>
                <a:lnTo>
                  <a:pt x="177800" y="82550"/>
                </a:lnTo>
                <a:lnTo>
                  <a:pt x="177800" y="88900"/>
                </a:lnTo>
                <a:lnTo>
                  <a:pt x="190500" y="95250"/>
                </a:lnTo>
                <a:lnTo>
                  <a:pt x="190500" y="107950"/>
                </a:lnTo>
                <a:lnTo>
                  <a:pt x="196850" y="120650"/>
                </a:lnTo>
                <a:lnTo>
                  <a:pt x="203200" y="139700"/>
                </a:lnTo>
                <a:lnTo>
                  <a:pt x="203200" y="152400"/>
                </a:lnTo>
                <a:lnTo>
                  <a:pt x="203200" y="177800"/>
                </a:lnTo>
                <a:lnTo>
                  <a:pt x="209550" y="196850"/>
                </a:lnTo>
                <a:lnTo>
                  <a:pt x="209550" y="215900"/>
                </a:lnTo>
                <a:lnTo>
                  <a:pt x="209550" y="241300"/>
                </a:lnTo>
                <a:lnTo>
                  <a:pt x="215900" y="260350"/>
                </a:lnTo>
                <a:lnTo>
                  <a:pt x="209550" y="285750"/>
                </a:lnTo>
                <a:lnTo>
                  <a:pt x="203200" y="304800"/>
                </a:lnTo>
                <a:lnTo>
                  <a:pt x="203200" y="323850"/>
                </a:lnTo>
                <a:lnTo>
                  <a:pt x="196850" y="336550"/>
                </a:lnTo>
                <a:lnTo>
                  <a:pt x="190500" y="355600"/>
                </a:lnTo>
                <a:lnTo>
                  <a:pt x="177800" y="368300"/>
                </a:lnTo>
                <a:lnTo>
                  <a:pt x="171450" y="381000"/>
                </a:lnTo>
                <a:lnTo>
                  <a:pt x="158750" y="387350"/>
                </a:lnTo>
                <a:lnTo>
                  <a:pt x="146050" y="393700"/>
                </a:lnTo>
                <a:lnTo>
                  <a:pt x="127000" y="400050"/>
                </a:lnTo>
                <a:lnTo>
                  <a:pt x="107950" y="400050"/>
                </a:lnTo>
                <a:lnTo>
                  <a:pt x="88900" y="400050"/>
                </a:lnTo>
                <a:lnTo>
                  <a:pt x="63500" y="400050"/>
                </a:lnTo>
                <a:lnTo>
                  <a:pt x="44450" y="400050"/>
                </a:lnTo>
                <a:lnTo>
                  <a:pt x="25400" y="393700"/>
                </a:lnTo>
                <a:lnTo>
                  <a:pt x="12700" y="381000"/>
                </a:lnTo>
                <a:lnTo>
                  <a:pt x="12700" y="381000"/>
                </a:lnTo>
                <a:lnTo>
                  <a:pt x="0" y="374650"/>
                </a:lnTo>
                <a:lnTo>
                  <a:pt x="0" y="3746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81" name="Freeform 42"/>
          <p:cNvSpPr/>
          <p:nvPr/>
        </p:nvSpPr>
        <p:spPr>
          <a:xfrm>
            <a:off x="3714840" y="3295800"/>
            <a:ext cx="266760" cy="31680"/>
          </a:xfrm>
          <a:custGeom>
            <a:avLst/>
            <a:gdLst>
              <a:gd name="textAreaLeft" fmla="*/ 0 w 266760"/>
              <a:gd name="textAreaRight" fmla="*/ 267120 w 266760"/>
              <a:gd name="textAreaTop" fmla="*/ 0 h 31680"/>
              <a:gd name="textAreaBottom" fmla="*/ 32040 h 31680"/>
            </a:gdLst>
            <a:ahLst/>
            <a:rect l="textAreaLeft" t="textAreaTop" r="textAreaRight" b="textAreaBottom"/>
            <a:pathLst>
              <a:path w="266701" h="31751">
                <a:moveTo>
                  <a:pt x="0" y="31750"/>
                </a:moveTo>
                <a:lnTo>
                  <a:pt x="0" y="31750"/>
                </a:lnTo>
                <a:lnTo>
                  <a:pt x="12700" y="31750"/>
                </a:lnTo>
                <a:lnTo>
                  <a:pt x="25400" y="31750"/>
                </a:lnTo>
                <a:lnTo>
                  <a:pt x="38100" y="31750"/>
                </a:lnTo>
                <a:lnTo>
                  <a:pt x="44450" y="31750"/>
                </a:lnTo>
                <a:lnTo>
                  <a:pt x="63500" y="31750"/>
                </a:lnTo>
                <a:lnTo>
                  <a:pt x="82550" y="31750"/>
                </a:lnTo>
                <a:lnTo>
                  <a:pt x="101600" y="31750"/>
                </a:lnTo>
                <a:lnTo>
                  <a:pt x="120650" y="31750"/>
                </a:lnTo>
                <a:lnTo>
                  <a:pt x="139700" y="25400"/>
                </a:lnTo>
                <a:lnTo>
                  <a:pt x="165100" y="25400"/>
                </a:lnTo>
                <a:lnTo>
                  <a:pt x="184150" y="25400"/>
                </a:lnTo>
                <a:lnTo>
                  <a:pt x="203200" y="25400"/>
                </a:lnTo>
                <a:lnTo>
                  <a:pt x="215900" y="19050"/>
                </a:lnTo>
                <a:lnTo>
                  <a:pt x="234950" y="19050"/>
                </a:lnTo>
                <a:lnTo>
                  <a:pt x="241300" y="19050"/>
                </a:lnTo>
                <a:lnTo>
                  <a:pt x="254000" y="12700"/>
                </a:lnTo>
                <a:lnTo>
                  <a:pt x="260350" y="12700"/>
                </a:lnTo>
                <a:lnTo>
                  <a:pt x="266700" y="6350"/>
                </a:lnTo>
                <a:lnTo>
                  <a:pt x="266700" y="6350"/>
                </a:lnTo>
                <a:lnTo>
                  <a:pt x="266700" y="0"/>
                </a:lnTo>
                <a:lnTo>
                  <a:pt x="266700" y="0"/>
                </a:lnTo>
              </a:path>
            </a:pathLst>
          </a:custGeom>
          <a:noFill/>
          <a:ln w="38160">
            <a:solidFill>
              <a:srgbClr val="ff0000"/>
            </a:solidFill>
            <a:round/>
          </a:ln>
        </p:spPr>
        <p:style>
          <a:lnRef idx="0"/>
          <a:fillRef idx="0"/>
          <a:effectRef idx="0"/>
          <a:fontRef idx="minor"/>
        </p:style>
        <p:txBody>
          <a:bodyPr tIns="-13680" bIns="-13680" anchor="ctr">
            <a:noAutofit/>
          </a:bodyPr>
          <a:p>
            <a:endParaRPr b="0" lang="en-US" sz="1800" spc="-1" strike="noStrike">
              <a:solidFill>
                <a:srgbClr val="000000"/>
              </a:solidFill>
              <a:latin typeface="Verdana"/>
            </a:endParaRPr>
          </a:p>
        </p:txBody>
      </p:sp>
      <p:sp>
        <p:nvSpPr>
          <p:cNvPr id="182" name="Freeform 43"/>
          <p:cNvSpPr/>
          <p:nvPr/>
        </p:nvSpPr>
        <p:spPr>
          <a:xfrm>
            <a:off x="4051440" y="3149640"/>
            <a:ext cx="44280" cy="272880"/>
          </a:xfrm>
          <a:custGeom>
            <a:avLst/>
            <a:gdLst>
              <a:gd name="textAreaLeft" fmla="*/ 0 w 44280"/>
              <a:gd name="textAreaRight" fmla="*/ 44640 w 44280"/>
              <a:gd name="textAreaTop" fmla="*/ 0 h 272880"/>
              <a:gd name="textAreaBottom" fmla="*/ 273240 h 272880"/>
            </a:gdLst>
            <a:ahLst/>
            <a:rect l="textAreaLeft" t="textAreaTop" r="textAreaRight" b="textAreaBottom"/>
            <a:pathLst>
              <a:path w="44451" h="273051">
                <a:moveTo>
                  <a:pt x="0" y="0"/>
                </a:moveTo>
                <a:lnTo>
                  <a:pt x="0" y="0"/>
                </a:lnTo>
                <a:lnTo>
                  <a:pt x="0" y="0"/>
                </a:lnTo>
                <a:lnTo>
                  <a:pt x="6350" y="0"/>
                </a:lnTo>
                <a:lnTo>
                  <a:pt x="6350" y="0"/>
                </a:lnTo>
                <a:lnTo>
                  <a:pt x="12700" y="6350"/>
                </a:lnTo>
                <a:lnTo>
                  <a:pt x="12700" y="6350"/>
                </a:lnTo>
                <a:lnTo>
                  <a:pt x="12700" y="12700"/>
                </a:lnTo>
                <a:lnTo>
                  <a:pt x="19050" y="19050"/>
                </a:lnTo>
                <a:lnTo>
                  <a:pt x="19050" y="31750"/>
                </a:lnTo>
                <a:lnTo>
                  <a:pt x="19050" y="38100"/>
                </a:lnTo>
                <a:lnTo>
                  <a:pt x="25400" y="50800"/>
                </a:lnTo>
                <a:lnTo>
                  <a:pt x="25400" y="69850"/>
                </a:lnTo>
                <a:lnTo>
                  <a:pt x="31750" y="82550"/>
                </a:lnTo>
                <a:lnTo>
                  <a:pt x="31750" y="101600"/>
                </a:lnTo>
                <a:lnTo>
                  <a:pt x="38100" y="114300"/>
                </a:lnTo>
                <a:lnTo>
                  <a:pt x="38100" y="133350"/>
                </a:lnTo>
                <a:lnTo>
                  <a:pt x="44450" y="158750"/>
                </a:lnTo>
                <a:lnTo>
                  <a:pt x="44450" y="177800"/>
                </a:lnTo>
                <a:lnTo>
                  <a:pt x="44450" y="196850"/>
                </a:lnTo>
                <a:lnTo>
                  <a:pt x="44450" y="215900"/>
                </a:lnTo>
                <a:lnTo>
                  <a:pt x="44450" y="228600"/>
                </a:lnTo>
                <a:lnTo>
                  <a:pt x="44450" y="247650"/>
                </a:lnTo>
                <a:lnTo>
                  <a:pt x="44450" y="260350"/>
                </a:lnTo>
                <a:lnTo>
                  <a:pt x="38100" y="266700"/>
                </a:lnTo>
                <a:lnTo>
                  <a:pt x="38100" y="273050"/>
                </a:lnTo>
                <a:lnTo>
                  <a:pt x="38100" y="273050"/>
                </a:lnTo>
                <a:lnTo>
                  <a:pt x="38100" y="273050"/>
                </a:lnTo>
                <a:lnTo>
                  <a:pt x="31750" y="273050"/>
                </a:lnTo>
                <a:lnTo>
                  <a:pt x="31750" y="2730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83" name="Freeform 44"/>
          <p:cNvSpPr/>
          <p:nvPr/>
        </p:nvSpPr>
        <p:spPr>
          <a:xfrm>
            <a:off x="4051440" y="3143160"/>
            <a:ext cx="349200" cy="298440"/>
          </a:xfrm>
          <a:custGeom>
            <a:avLst/>
            <a:gdLst>
              <a:gd name="textAreaLeft" fmla="*/ 0 w 349200"/>
              <a:gd name="textAreaRight" fmla="*/ 349560 w 349200"/>
              <a:gd name="textAreaTop" fmla="*/ 0 h 298440"/>
              <a:gd name="textAreaBottom" fmla="*/ 298800 h 298440"/>
            </a:gdLst>
            <a:ahLst/>
            <a:rect l="textAreaLeft" t="textAreaTop" r="textAreaRight" b="textAreaBottom"/>
            <a:pathLst>
              <a:path w="349251" h="298451">
                <a:moveTo>
                  <a:pt x="0" y="0"/>
                </a:moveTo>
                <a:lnTo>
                  <a:pt x="0" y="0"/>
                </a:lnTo>
                <a:lnTo>
                  <a:pt x="6350" y="0"/>
                </a:lnTo>
                <a:lnTo>
                  <a:pt x="19050" y="0"/>
                </a:lnTo>
                <a:lnTo>
                  <a:pt x="31750" y="0"/>
                </a:lnTo>
                <a:lnTo>
                  <a:pt x="44450" y="0"/>
                </a:lnTo>
                <a:lnTo>
                  <a:pt x="57150" y="0"/>
                </a:lnTo>
                <a:lnTo>
                  <a:pt x="76200" y="6350"/>
                </a:lnTo>
                <a:lnTo>
                  <a:pt x="95250" y="6350"/>
                </a:lnTo>
                <a:lnTo>
                  <a:pt x="114300" y="12700"/>
                </a:lnTo>
                <a:lnTo>
                  <a:pt x="139700" y="19050"/>
                </a:lnTo>
                <a:lnTo>
                  <a:pt x="152400" y="25400"/>
                </a:lnTo>
                <a:lnTo>
                  <a:pt x="177800" y="31750"/>
                </a:lnTo>
                <a:lnTo>
                  <a:pt x="190500" y="44450"/>
                </a:lnTo>
                <a:lnTo>
                  <a:pt x="209550" y="57150"/>
                </a:lnTo>
                <a:lnTo>
                  <a:pt x="222250" y="63500"/>
                </a:lnTo>
                <a:lnTo>
                  <a:pt x="234950" y="76200"/>
                </a:lnTo>
                <a:lnTo>
                  <a:pt x="234950" y="82550"/>
                </a:lnTo>
                <a:lnTo>
                  <a:pt x="234950" y="95250"/>
                </a:lnTo>
                <a:lnTo>
                  <a:pt x="228600" y="107950"/>
                </a:lnTo>
                <a:lnTo>
                  <a:pt x="222250" y="114300"/>
                </a:lnTo>
                <a:lnTo>
                  <a:pt x="203200" y="120650"/>
                </a:lnTo>
                <a:lnTo>
                  <a:pt x="184150" y="127000"/>
                </a:lnTo>
                <a:lnTo>
                  <a:pt x="171450" y="133350"/>
                </a:lnTo>
                <a:lnTo>
                  <a:pt x="146050" y="139700"/>
                </a:lnTo>
                <a:lnTo>
                  <a:pt x="133350" y="146050"/>
                </a:lnTo>
                <a:lnTo>
                  <a:pt x="114300" y="152400"/>
                </a:lnTo>
                <a:lnTo>
                  <a:pt x="95250" y="152400"/>
                </a:lnTo>
                <a:lnTo>
                  <a:pt x="82550" y="152400"/>
                </a:lnTo>
                <a:lnTo>
                  <a:pt x="69850" y="158750"/>
                </a:lnTo>
                <a:lnTo>
                  <a:pt x="57150" y="158750"/>
                </a:lnTo>
                <a:lnTo>
                  <a:pt x="57150" y="158750"/>
                </a:lnTo>
                <a:lnTo>
                  <a:pt x="57150" y="158750"/>
                </a:lnTo>
                <a:lnTo>
                  <a:pt x="57150" y="158750"/>
                </a:lnTo>
                <a:lnTo>
                  <a:pt x="63500" y="158750"/>
                </a:lnTo>
                <a:lnTo>
                  <a:pt x="76200" y="158750"/>
                </a:lnTo>
                <a:lnTo>
                  <a:pt x="88900" y="158750"/>
                </a:lnTo>
                <a:lnTo>
                  <a:pt x="101600" y="158750"/>
                </a:lnTo>
                <a:lnTo>
                  <a:pt x="120650" y="158750"/>
                </a:lnTo>
                <a:lnTo>
                  <a:pt x="139700" y="158750"/>
                </a:lnTo>
                <a:lnTo>
                  <a:pt x="158750" y="158750"/>
                </a:lnTo>
                <a:lnTo>
                  <a:pt x="177800" y="165100"/>
                </a:lnTo>
                <a:lnTo>
                  <a:pt x="203200" y="171450"/>
                </a:lnTo>
                <a:lnTo>
                  <a:pt x="228600" y="171450"/>
                </a:lnTo>
                <a:lnTo>
                  <a:pt x="247650" y="177800"/>
                </a:lnTo>
                <a:lnTo>
                  <a:pt x="266700" y="184150"/>
                </a:lnTo>
                <a:lnTo>
                  <a:pt x="285750" y="196850"/>
                </a:lnTo>
                <a:lnTo>
                  <a:pt x="304800" y="203200"/>
                </a:lnTo>
                <a:lnTo>
                  <a:pt x="317500" y="215900"/>
                </a:lnTo>
                <a:lnTo>
                  <a:pt x="330200" y="222250"/>
                </a:lnTo>
                <a:lnTo>
                  <a:pt x="342900" y="234950"/>
                </a:lnTo>
                <a:lnTo>
                  <a:pt x="349250" y="241300"/>
                </a:lnTo>
                <a:lnTo>
                  <a:pt x="349250" y="247650"/>
                </a:lnTo>
                <a:lnTo>
                  <a:pt x="349250" y="260350"/>
                </a:lnTo>
                <a:lnTo>
                  <a:pt x="342900" y="266700"/>
                </a:lnTo>
                <a:lnTo>
                  <a:pt x="330200" y="273050"/>
                </a:lnTo>
                <a:lnTo>
                  <a:pt x="317500" y="279400"/>
                </a:lnTo>
                <a:lnTo>
                  <a:pt x="304800" y="285750"/>
                </a:lnTo>
                <a:lnTo>
                  <a:pt x="279400" y="292100"/>
                </a:lnTo>
                <a:lnTo>
                  <a:pt x="260350" y="292100"/>
                </a:lnTo>
                <a:lnTo>
                  <a:pt x="234950" y="298450"/>
                </a:lnTo>
                <a:lnTo>
                  <a:pt x="215900" y="292100"/>
                </a:lnTo>
                <a:lnTo>
                  <a:pt x="184150" y="298450"/>
                </a:lnTo>
                <a:lnTo>
                  <a:pt x="158750" y="298450"/>
                </a:lnTo>
                <a:lnTo>
                  <a:pt x="133350" y="298450"/>
                </a:lnTo>
                <a:lnTo>
                  <a:pt x="107950" y="298450"/>
                </a:lnTo>
                <a:lnTo>
                  <a:pt x="88900" y="292100"/>
                </a:lnTo>
                <a:lnTo>
                  <a:pt x="69850" y="292100"/>
                </a:lnTo>
                <a:lnTo>
                  <a:pt x="50800" y="285750"/>
                </a:lnTo>
                <a:lnTo>
                  <a:pt x="44450" y="285750"/>
                </a:lnTo>
                <a:lnTo>
                  <a:pt x="38100" y="273050"/>
                </a:lnTo>
                <a:lnTo>
                  <a:pt x="38100" y="266700"/>
                </a:lnTo>
                <a:lnTo>
                  <a:pt x="38100" y="266700"/>
                </a:lnTo>
                <a:lnTo>
                  <a:pt x="38100" y="260350"/>
                </a:lnTo>
                <a:lnTo>
                  <a:pt x="38100" y="2603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84" name="Freeform 45"/>
          <p:cNvSpPr/>
          <p:nvPr/>
        </p:nvSpPr>
        <p:spPr>
          <a:xfrm>
            <a:off x="4387680" y="3251160"/>
            <a:ext cx="260640" cy="184320"/>
          </a:xfrm>
          <a:custGeom>
            <a:avLst/>
            <a:gdLst>
              <a:gd name="textAreaLeft" fmla="*/ 0 w 260640"/>
              <a:gd name="textAreaRight" fmla="*/ 261000 w 260640"/>
              <a:gd name="textAreaTop" fmla="*/ 0 h 184320"/>
              <a:gd name="textAreaBottom" fmla="*/ 184680 h 184320"/>
            </a:gdLst>
            <a:ahLst/>
            <a:rect l="textAreaLeft" t="textAreaTop" r="textAreaRight" b="textAreaBottom"/>
            <a:pathLst>
              <a:path w="260351" h="184151">
                <a:moveTo>
                  <a:pt x="0" y="0"/>
                </a:moveTo>
                <a:lnTo>
                  <a:pt x="0" y="0"/>
                </a:lnTo>
                <a:lnTo>
                  <a:pt x="0" y="0"/>
                </a:lnTo>
                <a:lnTo>
                  <a:pt x="6350" y="6350"/>
                </a:lnTo>
                <a:lnTo>
                  <a:pt x="6350" y="6350"/>
                </a:lnTo>
                <a:lnTo>
                  <a:pt x="12700" y="12700"/>
                </a:lnTo>
                <a:lnTo>
                  <a:pt x="12700" y="19050"/>
                </a:lnTo>
                <a:lnTo>
                  <a:pt x="19050" y="25400"/>
                </a:lnTo>
                <a:lnTo>
                  <a:pt x="25400" y="38100"/>
                </a:lnTo>
                <a:lnTo>
                  <a:pt x="25400" y="50800"/>
                </a:lnTo>
                <a:lnTo>
                  <a:pt x="31750" y="63500"/>
                </a:lnTo>
                <a:lnTo>
                  <a:pt x="38100" y="76200"/>
                </a:lnTo>
                <a:lnTo>
                  <a:pt x="38100" y="88900"/>
                </a:lnTo>
                <a:lnTo>
                  <a:pt x="44450" y="101600"/>
                </a:lnTo>
                <a:lnTo>
                  <a:pt x="50800" y="120650"/>
                </a:lnTo>
                <a:lnTo>
                  <a:pt x="50800" y="133350"/>
                </a:lnTo>
                <a:lnTo>
                  <a:pt x="57150" y="146050"/>
                </a:lnTo>
                <a:lnTo>
                  <a:pt x="63500" y="158750"/>
                </a:lnTo>
                <a:lnTo>
                  <a:pt x="69850" y="165100"/>
                </a:lnTo>
                <a:lnTo>
                  <a:pt x="76200" y="177800"/>
                </a:lnTo>
                <a:lnTo>
                  <a:pt x="76200" y="177800"/>
                </a:lnTo>
                <a:lnTo>
                  <a:pt x="82550" y="184150"/>
                </a:lnTo>
                <a:lnTo>
                  <a:pt x="82550" y="184150"/>
                </a:lnTo>
                <a:lnTo>
                  <a:pt x="76200" y="184150"/>
                </a:lnTo>
                <a:lnTo>
                  <a:pt x="76200" y="177800"/>
                </a:lnTo>
                <a:lnTo>
                  <a:pt x="69850" y="171450"/>
                </a:lnTo>
                <a:lnTo>
                  <a:pt x="63500" y="158750"/>
                </a:lnTo>
                <a:lnTo>
                  <a:pt x="50800" y="152400"/>
                </a:lnTo>
                <a:lnTo>
                  <a:pt x="44450" y="139700"/>
                </a:lnTo>
                <a:lnTo>
                  <a:pt x="38100" y="127000"/>
                </a:lnTo>
                <a:lnTo>
                  <a:pt x="31750" y="114300"/>
                </a:lnTo>
                <a:lnTo>
                  <a:pt x="31750" y="101600"/>
                </a:lnTo>
                <a:lnTo>
                  <a:pt x="25400" y="88900"/>
                </a:lnTo>
                <a:lnTo>
                  <a:pt x="25400" y="76200"/>
                </a:lnTo>
                <a:lnTo>
                  <a:pt x="25400" y="63500"/>
                </a:lnTo>
                <a:lnTo>
                  <a:pt x="25400" y="57150"/>
                </a:lnTo>
                <a:lnTo>
                  <a:pt x="38100" y="50800"/>
                </a:lnTo>
                <a:lnTo>
                  <a:pt x="44450" y="38100"/>
                </a:lnTo>
                <a:lnTo>
                  <a:pt x="57150" y="31750"/>
                </a:lnTo>
                <a:lnTo>
                  <a:pt x="76200" y="31750"/>
                </a:lnTo>
                <a:lnTo>
                  <a:pt x="88900" y="25400"/>
                </a:lnTo>
                <a:lnTo>
                  <a:pt x="114300" y="25400"/>
                </a:lnTo>
                <a:lnTo>
                  <a:pt x="133350" y="25400"/>
                </a:lnTo>
                <a:lnTo>
                  <a:pt x="158750" y="25400"/>
                </a:lnTo>
                <a:lnTo>
                  <a:pt x="184150" y="25400"/>
                </a:lnTo>
                <a:lnTo>
                  <a:pt x="203200" y="25400"/>
                </a:lnTo>
                <a:lnTo>
                  <a:pt x="222250" y="31750"/>
                </a:lnTo>
                <a:lnTo>
                  <a:pt x="234950" y="31750"/>
                </a:lnTo>
                <a:lnTo>
                  <a:pt x="247650" y="38100"/>
                </a:lnTo>
                <a:lnTo>
                  <a:pt x="247650" y="38100"/>
                </a:lnTo>
                <a:lnTo>
                  <a:pt x="260350" y="38100"/>
                </a:lnTo>
                <a:lnTo>
                  <a:pt x="260350" y="381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85" name="Freeform 46"/>
          <p:cNvSpPr/>
          <p:nvPr/>
        </p:nvSpPr>
        <p:spPr>
          <a:xfrm>
            <a:off x="4603680" y="3219480"/>
            <a:ext cx="235080" cy="228600"/>
          </a:xfrm>
          <a:custGeom>
            <a:avLst/>
            <a:gdLst>
              <a:gd name="textAreaLeft" fmla="*/ 0 w 235080"/>
              <a:gd name="textAreaRight" fmla="*/ 235440 w 235080"/>
              <a:gd name="textAreaTop" fmla="*/ 0 h 228600"/>
              <a:gd name="textAreaBottom" fmla="*/ 228960 h 228600"/>
            </a:gdLst>
            <a:ahLst/>
            <a:rect l="textAreaLeft" t="textAreaTop" r="textAreaRight" b="textAreaBottom"/>
            <a:pathLst>
              <a:path w="234951" h="228601">
                <a:moveTo>
                  <a:pt x="12700" y="101600"/>
                </a:moveTo>
                <a:lnTo>
                  <a:pt x="12700" y="101600"/>
                </a:lnTo>
                <a:lnTo>
                  <a:pt x="19050" y="101600"/>
                </a:lnTo>
                <a:lnTo>
                  <a:pt x="25400" y="101600"/>
                </a:lnTo>
                <a:lnTo>
                  <a:pt x="31750" y="101600"/>
                </a:lnTo>
                <a:lnTo>
                  <a:pt x="44450" y="101600"/>
                </a:lnTo>
                <a:lnTo>
                  <a:pt x="57150" y="101600"/>
                </a:lnTo>
                <a:lnTo>
                  <a:pt x="69850" y="95250"/>
                </a:lnTo>
                <a:lnTo>
                  <a:pt x="82550" y="88900"/>
                </a:lnTo>
                <a:lnTo>
                  <a:pt x="101600" y="88900"/>
                </a:lnTo>
                <a:lnTo>
                  <a:pt x="114300" y="82550"/>
                </a:lnTo>
                <a:lnTo>
                  <a:pt x="133350" y="76200"/>
                </a:lnTo>
                <a:lnTo>
                  <a:pt x="146050" y="69850"/>
                </a:lnTo>
                <a:lnTo>
                  <a:pt x="165100" y="69850"/>
                </a:lnTo>
                <a:lnTo>
                  <a:pt x="171450" y="63500"/>
                </a:lnTo>
                <a:lnTo>
                  <a:pt x="184150" y="57150"/>
                </a:lnTo>
                <a:lnTo>
                  <a:pt x="196850" y="50800"/>
                </a:lnTo>
                <a:lnTo>
                  <a:pt x="196850" y="44450"/>
                </a:lnTo>
                <a:lnTo>
                  <a:pt x="203200" y="38100"/>
                </a:lnTo>
                <a:lnTo>
                  <a:pt x="203200" y="31750"/>
                </a:lnTo>
                <a:lnTo>
                  <a:pt x="203200" y="25400"/>
                </a:lnTo>
                <a:lnTo>
                  <a:pt x="203200" y="19050"/>
                </a:lnTo>
                <a:lnTo>
                  <a:pt x="196850" y="12700"/>
                </a:lnTo>
                <a:lnTo>
                  <a:pt x="190500" y="6350"/>
                </a:lnTo>
                <a:lnTo>
                  <a:pt x="177800" y="6350"/>
                </a:lnTo>
                <a:lnTo>
                  <a:pt x="165100" y="0"/>
                </a:lnTo>
                <a:lnTo>
                  <a:pt x="146050" y="0"/>
                </a:lnTo>
                <a:lnTo>
                  <a:pt x="127000" y="0"/>
                </a:lnTo>
                <a:lnTo>
                  <a:pt x="107950" y="0"/>
                </a:lnTo>
                <a:lnTo>
                  <a:pt x="95250" y="0"/>
                </a:lnTo>
                <a:lnTo>
                  <a:pt x="76200" y="0"/>
                </a:lnTo>
                <a:lnTo>
                  <a:pt x="63500" y="6350"/>
                </a:lnTo>
                <a:lnTo>
                  <a:pt x="50800" y="12700"/>
                </a:lnTo>
                <a:lnTo>
                  <a:pt x="31750" y="25400"/>
                </a:lnTo>
                <a:lnTo>
                  <a:pt x="19050" y="38100"/>
                </a:lnTo>
                <a:lnTo>
                  <a:pt x="12700" y="50800"/>
                </a:lnTo>
                <a:lnTo>
                  <a:pt x="6350" y="63500"/>
                </a:lnTo>
                <a:lnTo>
                  <a:pt x="0" y="76200"/>
                </a:lnTo>
                <a:lnTo>
                  <a:pt x="0" y="88900"/>
                </a:lnTo>
                <a:lnTo>
                  <a:pt x="0" y="107950"/>
                </a:lnTo>
                <a:lnTo>
                  <a:pt x="6350" y="120650"/>
                </a:lnTo>
                <a:lnTo>
                  <a:pt x="12700" y="133350"/>
                </a:lnTo>
                <a:lnTo>
                  <a:pt x="25400" y="152400"/>
                </a:lnTo>
                <a:lnTo>
                  <a:pt x="44450" y="165100"/>
                </a:lnTo>
                <a:lnTo>
                  <a:pt x="63500" y="184150"/>
                </a:lnTo>
                <a:lnTo>
                  <a:pt x="82550" y="196850"/>
                </a:lnTo>
                <a:lnTo>
                  <a:pt x="101600" y="203200"/>
                </a:lnTo>
                <a:lnTo>
                  <a:pt x="120650" y="215900"/>
                </a:lnTo>
                <a:lnTo>
                  <a:pt x="146050" y="222250"/>
                </a:lnTo>
                <a:lnTo>
                  <a:pt x="158750" y="222250"/>
                </a:lnTo>
                <a:lnTo>
                  <a:pt x="177800" y="228600"/>
                </a:lnTo>
                <a:lnTo>
                  <a:pt x="196850" y="228600"/>
                </a:lnTo>
                <a:lnTo>
                  <a:pt x="209550" y="228600"/>
                </a:lnTo>
                <a:lnTo>
                  <a:pt x="222250" y="222250"/>
                </a:lnTo>
                <a:lnTo>
                  <a:pt x="228600" y="215900"/>
                </a:lnTo>
                <a:lnTo>
                  <a:pt x="228600" y="215900"/>
                </a:lnTo>
                <a:lnTo>
                  <a:pt x="234950" y="215900"/>
                </a:lnTo>
                <a:lnTo>
                  <a:pt x="234950" y="2159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86" name="Freeform 47"/>
          <p:cNvSpPr/>
          <p:nvPr/>
        </p:nvSpPr>
        <p:spPr>
          <a:xfrm>
            <a:off x="4826160" y="3232080"/>
            <a:ext cx="253800" cy="196920"/>
          </a:xfrm>
          <a:custGeom>
            <a:avLst/>
            <a:gdLst>
              <a:gd name="textAreaLeft" fmla="*/ 0 w 253800"/>
              <a:gd name="textAreaRight" fmla="*/ 254160 w 253800"/>
              <a:gd name="textAreaTop" fmla="*/ 0 h 196920"/>
              <a:gd name="textAreaBottom" fmla="*/ 197280 h 196920"/>
            </a:gdLst>
            <a:ahLst/>
            <a:rect l="textAreaLeft" t="textAreaTop" r="textAreaRight" b="textAreaBottom"/>
            <a:pathLst>
              <a:path w="254001" h="196851">
                <a:moveTo>
                  <a:pt x="12700" y="82550"/>
                </a:moveTo>
                <a:lnTo>
                  <a:pt x="19050" y="82550"/>
                </a:lnTo>
                <a:lnTo>
                  <a:pt x="31750" y="82550"/>
                </a:lnTo>
                <a:lnTo>
                  <a:pt x="38100" y="82550"/>
                </a:lnTo>
                <a:lnTo>
                  <a:pt x="50800" y="76200"/>
                </a:lnTo>
                <a:lnTo>
                  <a:pt x="63500" y="76200"/>
                </a:lnTo>
                <a:lnTo>
                  <a:pt x="76200" y="69850"/>
                </a:lnTo>
                <a:lnTo>
                  <a:pt x="88900" y="63500"/>
                </a:lnTo>
                <a:lnTo>
                  <a:pt x="101600" y="63500"/>
                </a:lnTo>
                <a:lnTo>
                  <a:pt x="120650" y="57150"/>
                </a:lnTo>
                <a:lnTo>
                  <a:pt x="133350" y="50800"/>
                </a:lnTo>
                <a:lnTo>
                  <a:pt x="146050" y="50800"/>
                </a:lnTo>
                <a:lnTo>
                  <a:pt x="165100" y="50800"/>
                </a:lnTo>
                <a:lnTo>
                  <a:pt x="177800" y="44450"/>
                </a:lnTo>
                <a:lnTo>
                  <a:pt x="190500" y="44450"/>
                </a:lnTo>
                <a:lnTo>
                  <a:pt x="203200" y="44450"/>
                </a:lnTo>
                <a:lnTo>
                  <a:pt x="209550" y="38100"/>
                </a:lnTo>
                <a:lnTo>
                  <a:pt x="215900" y="31750"/>
                </a:lnTo>
                <a:lnTo>
                  <a:pt x="215900" y="31750"/>
                </a:lnTo>
                <a:lnTo>
                  <a:pt x="222250" y="31750"/>
                </a:lnTo>
                <a:lnTo>
                  <a:pt x="222250" y="25400"/>
                </a:lnTo>
                <a:lnTo>
                  <a:pt x="215900" y="19050"/>
                </a:lnTo>
                <a:lnTo>
                  <a:pt x="209550" y="19050"/>
                </a:lnTo>
                <a:lnTo>
                  <a:pt x="203200" y="12700"/>
                </a:lnTo>
                <a:lnTo>
                  <a:pt x="190500" y="12700"/>
                </a:lnTo>
                <a:lnTo>
                  <a:pt x="177800" y="6350"/>
                </a:lnTo>
                <a:lnTo>
                  <a:pt x="165100" y="6350"/>
                </a:lnTo>
                <a:lnTo>
                  <a:pt x="146050" y="6350"/>
                </a:lnTo>
                <a:lnTo>
                  <a:pt x="127000" y="0"/>
                </a:lnTo>
                <a:lnTo>
                  <a:pt x="107950" y="0"/>
                </a:lnTo>
                <a:lnTo>
                  <a:pt x="88900" y="0"/>
                </a:lnTo>
                <a:lnTo>
                  <a:pt x="69850" y="6350"/>
                </a:lnTo>
                <a:lnTo>
                  <a:pt x="50800" y="6350"/>
                </a:lnTo>
                <a:lnTo>
                  <a:pt x="38100" y="12700"/>
                </a:lnTo>
                <a:lnTo>
                  <a:pt x="25400" y="19050"/>
                </a:lnTo>
                <a:lnTo>
                  <a:pt x="12700" y="25400"/>
                </a:lnTo>
                <a:lnTo>
                  <a:pt x="6350" y="38100"/>
                </a:lnTo>
                <a:lnTo>
                  <a:pt x="6350" y="50800"/>
                </a:lnTo>
                <a:lnTo>
                  <a:pt x="0" y="63500"/>
                </a:lnTo>
                <a:lnTo>
                  <a:pt x="0" y="76200"/>
                </a:lnTo>
                <a:lnTo>
                  <a:pt x="6350" y="95250"/>
                </a:lnTo>
                <a:lnTo>
                  <a:pt x="6350" y="107950"/>
                </a:lnTo>
                <a:lnTo>
                  <a:pt x="12700" y="120650"/>
                </a:lnTo>
                <a:lnTo>
                  <a:pt x="25400" y="127000"/>
                </a:lnTo>
                <a:lnTo>
                  <a:pt x="31750" y="139700"/>
                </a:lnTo>
                <a:lnTo>
                  <a:pt x="44450" y="152400"/>
                </a:lnTo>
                <a:lnTo>
                  <a:pt x="63500" y="158750"/>
                </a:lnTo>
                <a:lnTo>
                  <a:pt x="82550" y="171450"/>
                </a:lnTo>
                <a:lnTo>
                  <a:pt x="101600" y="177800"/>
                </a:lnTo>
                <a:lnTo>
                  <a:pt x="120650" y="190500"/>
                </a:lnTo>
                <a:lnTo>
                  <a:pt x="139700" y="196850"/>
                </a:lnTo>
                <a:lnTo>
                  <a:pt x="158750" y="196850"/>
                </a:lnTo>
                <a:lnTo>
                  <a:pt x="184150" y="196850"/>
                </a:lnTo>
                <a:lnTo>
                  <a:pt x="203200" y="196850"/>
                </a:lnTo>
                <a:lnTo>
                  <a:pt x="222250" y="196850"/>
                </a:lnTo>
                <a:lnTo>
                  <a:pt x="234950" y="196850"/>
                </a:lnTo>
                <a:lnTo>
                  <a:pt x="247650" y="190500"/>
                </a:lnTo>
                <a:lnTo>
                  <a:pt x="247650" y="190500"/>
                </a:lnTo>
                <a:lnTo>
                  <a:pt x="254000" y="184150"/>
                </a:lnTo>
                <a:lnTo>
                  <a:pt x="254000" y="1841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87" name="Freeform 48"/>
          <p:cNvSpPr/>
          <p:nvPr/>
        </p:nvSpPr>
        <p:spPr>
          <a:xfrm>
            <a:off x="5035680" y="3213000"/>
            <a:ext cx="431640" cy="260280"/>
          </a:xfrm>
          <a:custGeom>
            <a:avLst/>
            <a:gdLst>
              <a:gd name="textAreaLeft" fmla="*/ 0 w 431640"/>
              <a:gd name="textAreaRight" fmla="*/ 432000 w 431640"/>
              <a:gd name="textAreaTop" fmla="*/ 0 h 260280"/>
              <a:gd name="textAreaBottom" fmla="*/ 260640 h 260280"/>
            </a:gdLst>
            <a:ahLst/>
            <a:rect l="textAreaLeft" t="textAreaTop" r="textAreaRight" b="textAreaBottom"/>
            <a:pathLst>
              <a:path w="431801" h="260351">
                <a:moveTo>
                  <a:pt x="0" y="19050"/>
                </a:moveTo>
                <a:lnTo>
                  <a:pt x="0" y="19050"/>
                </a:lnTo>
                <a:lnTo>
                  <a:pt x="0" y="19050"/>
                </a:lnTo>
                <a:lnTo>
                  <a:pt x="6350" y="19050"/>
                </a:lnTo>
                <a:lnTo>
                  <a:pt x="6350" y="19050"/>
                </a:lnTo>
                <a:lnTo>
                  <a:pt x="12700" y="19050"/>
                </a:lnTo>
                <a:lnTo>
                  <a:pt x="19050" y="12700"/>
                </a:lnTo>
                <a:lnTo>
                  <a:pt x="25400" y="12700"/>
                </a:lnTo>
                <a:lnTo>
                  <a:pt x="38100" y="6350"/>
                </a:lnTo>
                <a:lnTo>
                  <a:pt x="57150" y="6350"/>
                </a:lnTo>
                <a:lnTo>
                  <a:pt x="69850" y="6350"/>
                </a:lnTo>
                <a:lnTo>
                  <a:pt x="88900" y="6350"/>
                </a:lnTo>
                <a:lnTo>
                  <a:pt x="107950" y="6350"/>
                </a:lnTo>
                <a:lnTo>
                  <a:pt x="120650" y="0"/>
                </a:lnTo>
                <a:lnTo>
                  <a:pt x="139700" y="0"/>
                </a:lnTo>
                <a:lnTo>
                  <a:pt x="158750" y="6350"/>
                </a:lnTo>
                <a:lnTo>
                  <a:pt x="171450" y="6350"/>
                </a:lnTo>
                <a:lnTo>
                  <a:pt x="190500" y="6350"/>
                </a:lnTo>
                <a:lnTo>
                  <a:pt x="203200" y="6350"/>
                </a:lnTo>
                <a:lnTo>
                  <a:pt x="222250" y="12700"/>
                </a:lnTo>
                <a:lnTo>
                  <a:pt x="241300" y="12700"/>
                </a:lnTo>
                <a:lnTo>
                  <a:pt x="254000" y="19050"/>
                </a:lnTo>
                <a:lnTo>
                  <a:pt x="260350" y="19050"/>
                </a:lnTo>
                <a:lnTo>
                  <a:pt x="273050" y="19050"/>
                </a:lnTo>
                <a:lnTo>
                  <a:pt x="279400" y="25400"/>
                </a:lnTo>
                <a:lnTo>
                  <a:pt x="285750" y="25400"/>
                </a:lnTo>
                <a:lnTo>
                  <a:pt x="292100" y="25400"/>
                </a:lnTo>
                <a:lnTo>
                  <a:pt x="292100" y="31750"/>
                </a:lnTo>
                <a:lnTo>
                  <a:pt x="292100" y="38100"/>
                </a:lnTo>
                <a:lnTo>
                  <a:pt x="292100" y="38100"/>
                </a:lnTo>
                <a:lnTo>
                  <a:pt x="285750" y="44450"/>
                </a:lnTo>
                <a:lnTo>
                  <a:pt x="285750" y="50800"/>
                </a:lnTo>
                <a:lnTo>
                  <a:pt x="279400" y="63500"/>
                </a:lnTo>
                <a:lnTo>
                  <a:pt x="266700" y="69850"/>
                </a:lnTo>
                <a:lnTo>
                  <a:pt x="260350" y="82550"/>
                </a:lnTo>
                <a:lnTo>
                  <a:pt x="247650" y="95250"/>
                </a:lnTo>
                <a:lnTo>
                  <a:pt x="241300" y="107950"/>
                </a:lnTo>
                <a:lnTo>
                  <a:pt x="234950" y="120650"/>
                </a:lnTo>
                <a:lnTo>
                  <a:pt x="222250" y="139700"/>
                </a:lnTo>
                <a:lnTo>
                  <a:pt x="215900" y="146050"/>
                </a:lnTo>
                <a:lnTo>
                  <a:pt x="203200" y="165100"/>
                </a:lnTo>
                <a:lnTo>
                  <a:pt x="196850" y="177800"/>
                </a:lnTo>
                <a:lnTo>
                  <a:pt x="184150" y="190500"/>
                </a:lnTo>
                <a:lnTo>
                  <a:pt x="177800" y="203200"/>
                </a:lnTo>
                <a:lnTo>
                  <a:pt x="171450" y="215900"/>
                </a:lnTo>
                <a:lnTo>
                  <a:pt x="165100" y="222250"/>
                </a:lnTo>
                <a:lnTo>
                  <a:pt x="158750" y="234950"/>
                </a:lnTo>
                <a:lnTo>
                  <a:pt x="152400" y="241300"/>
                </a:lnTo>
                <a:lnTo>
                  <a:pt x="152400" y="247650"/>
                </a:lnTo>
                <a:lnTo>
                  <a:pt x="152400" y="247650"/>
                </a:lnTo>
                <a:lnTo>
                  <a:pt x="158750" y="254000"/>
                </a:lnTo>
                <a:lnTo>
                  <a:pt x="158750" y="254000"/>
                </a:lnTo>
                <a:lnTo>
                  <a:pt x="165100" y="254000"/>
                </a:lnTo>
                <a:lnTo>
                  <a:pt x="171450" y="254000"/>
                </a:lnTo>
                <a:lnTo>
                  <a:pt x="184150" y="254000"/>
                </a:lnTo>
                <a:lnTo>
                  <a:pt x="196850" y="254000"/>
                </a:lnTo>
                <a:lnTo>
                  <a:pt x="209550" y="247650"/>
                </a:lnTo>
                <a:lnTo>
                  <a:pt x="222250" y="247650"/>
                </a:lnTo>
                <a:lnTo>
                  <a:pt x="234950" y="247650"/>
                </a:lnTo>
                <a:lnTo>
                  <a:pt x="247650" y="247650"/>
                </a:lnTo>
                <a:lnTo>
                  <a:pt x="260350" y="247650"/>
                </a:lnTo>
                <a:lnTo>
                  <a:pt x="279400" y="247650"/>
                </a:lnTo>
                <a:lnTo>
                  <a:pt x="298450" y="247650"/>
                </a:lnTo>
                <a:lnTo>
                  <a:pt x="311150" y="247650"/>
                </a:lnTo>
                <a:lnTo>
                  <a:pt x="330200" y="247650"/>
                </a:lnTo>
                <a:lnTo>
                  <a:pt x="342900" y="247650"/>
                </a:lnTo>
                <a:lnTo>
                  <a:pt x="361950" y="254000"/>
                </a:lnTo>
                <a:lnTo>
                  <a:pt x="381000" y="260350"/>
                </a:lnTo>
                <a:lnTo>
                  <a:pt x="393700" y="260350"/>
                </a:lnTo>
                <a:lnTo>
                  <a:pt x="400050" y="260350"/>
                </a:lnTo>
                <a:lnTo>
                  <a:pt x="412750" y="260350"/>
                </a:lnTo>
                <a:lnTo>
                  <a:pt x="419100" y="260350"/>
                </a:lnTo>
                <a:lnTo>
                  <a:pt x="425450" y="260350"/>
                </a:lnTo>
                <a:lnTo>
                  <a:pt x="431800" y="254000"/>
                </a:lnTo>
                <a:lnTo>
                  <a:pt x="431800" y="254000"/>
                </a:lnTo>
                <a:lnTo>
                  <a:pt x="431800" y="247650"/>
                </a:lnTo>
                <a:lnTo>
                  <a:pt x="431800" y="2476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88" name="Freeform 49"/>
          <p:cNvSpPr/>
          <p:nvPr/>
        </p:nvSpPr>
        <p:spPr>
          <a:xfrm>
            <a:off x="5454720" y="3187800"/>
            <a:ext cx="349200" cy="260280"/>
          </a:xfrm>
          <a:custGeom>
            <a:avLst/>
            <a:gdLst>
              <a:gd name="textAreaLeft" fmla="*/ 0 w 349200"/>
              <a:gd name="textAreaRight" fmla="*/ 349560 w 349200"/>
              <a:gd name="textAreaTop" fmla="*/ 0 h 260280"/>
              <a:gd name="textAreaBottom" fmla="*/ 260640 h 260280"/>
            </a:gdLst>
            <a:ahLst/>
            <a:rect l="textAreaLeft" t="textAreaTop" r="textAreaRight" b="textAreaBottom"/>
            <a:pathLst>
              <a:path w="349251" h="260351">
                <a:moveTo>
                  <a:pt x="44450" y="158750"/>
                </a:moveTo>
                <a:lnTo>
                  <a:pt x="44450" y="158750"/>
                </a:lnTo>
                <a:lnTo>
                  <a:pt x="50800" y="158750"/>
                </a:lnTo>
                <a:lnTo>
                  <a:pt x="57150" y="158750"/>
                </a:lnTo>
                <a:lnTo>
                  <a:pt x="63500" y="158750"/>
                </a:lnTo>
                <a:lnTo>
                  <a:pt x="76200" y="158750"/>
                </a:lnTo>
                <a:lnTo>
                  <a:pt x="88900" y="158750"/>
                </a:lnTo>
                <a:lnTo>
                  <a:pt x="107950" y="158750"/>
                </a:lnTo>
                <a:lnTo>
                  <a:pt x="127000" y="158750"/>
                </a:lnTo>
                <a:lnTo>
                  <a:pt x="146050" y="158750"/>
                </a:lnTo>
                <a:lnTo>
                  <a:pt x="165100" y="158750"/>
                </a:lnTo>
                <a:lnTo>
                  <a:pt x="177800" y="165100"/>
                </a:lnTo>
                <a:lnTo>
                  <a:pt x="190500" y="165100"/>
                </a:lnTo>
                <a:lnTo>
                  <a:pt x="196850" y="165100"/>
                </a:lnTo>
                <a:lnTo>
                  <a:pt x="203200" y="158750"/>
                </a:lnTo>
                <a:lnTo>
                  <a:pt x="209550" y="158750"/>
                </a:lnTo>
                <a:lnTo>
                  <a:pt x="209550" y="158750"/>
                </a:lnTo>
                <a:lnTo>
                  <a:pt x="209550" y="152400"/>
                </a:lnTo>
                <a:lnTo>
                  <a:pt x="209550" y="152400"/>
                </a:lnTo>
                <a:lnTo>
                  <a:pt x="215900" y="146050"/>
                </a:lnTo>
                <a:lnTo>
                  <a:pt x="215900" y="139700"/>
                </a:lnTo>
                <a:lnTo>
                  <a:pt x="215900" y="127000"/>
                </a:lnTo>
                <a:lnTo>
                  <a:pt x="209550" y="120650"/>
                </a:lnTo>
                <a:lnTo>
                  <a:pt x="209550" y="107950"/>
                </a:lnTo>
                <a:lnTo>
                  <a:pt x="203200" y="95250"/>
                </a:lnTo>
                <a:lnTo>
                  <a:pt x="196850" y="82550"/>
                </a:lnTo>
                <a:lnTo>
                  <a:pt x="190500" y="69850"/>
                </a:lnTo>
                <a:lnTo>
                  <a:pt x="184150" y="57150"/>
                </a:lnTo>
                <a:lnTo>
                  <a:pt x="165100" y="44450"/>
                </a:lnTo>
                <a:lnTo>
                  <a:pt x="158750" y="31750"/>
                </a:lnTo>
                <a:lnTo>
                  <a:pt x="146050" y="19050"/>
                </a:lnTo>
                <a:lnTo>
                  <a:pt x="127000" y="12700"/>
                </a:lnTo>
                <a:lnTo>
                  <a:pt x="114300" y="6350"/>
                </a:lnTo>
                <a:lnTo>
                  <a:pt x="101600" y="0"/>
                </a:lnTo>
                <a:lnTo>
                  <a:pt x="82550" y="0"/>
                </a:lnTo>
                <a:lnTo>
                  <a:pt x="69850" y="0"/>
                </a:lnTo>
                <a:lnTo>
                  <a:pt x="57150" y="0"/>
                </a:lnTo>
                <a:lnTo>
                  <a:pt x="44450" y="0"/>
                </a:lnTo>
                <a:lnTo>
                  <a:pt x="31750" y="6350"/>
                </a:lnTo>
                <a:lnTo>
                  <a:pt x="19050" y="12700"/>
                </a:lnTo>
                <a:lnTo>
                  <a:pt x="12700" y="25400"/>
                </a:lnTo>
                <a:lnTo>
                  <a:pt x="6350" y="38100"/>
                </a:lnTo>
                <a:lnTo>
                  <a:pt x="0" y="50800"/>
                </a:lnTo>
                <a:lnTo>
                  <a:pt x="0" y="63500"/>
                </a:lnTo>
                <a:lnTo>
                  <a:pt x="0" y="82550"/>
                </a:lnTo>
                <a:lnTo>
                  <a:pt x="0" y="95250"/>
                </a:lnTo>
                <a:lnTo>
                  <a:pt x="6350" y="114300"/>
                </a:lnTo>
                <a:lnTo>
                  <a:pt x="12700" y="127000"/>
                </a:lnTo>
                <a:lnTo>
                  <a:pt x="19050" y="139700"/>
                </a:lnTo>
                <a:lnTo>
                  <a:pt x="25400" y="158750"/>
                </a:lnTo>
                <a:lnTo>
                  <a:pt x="44450" y="171450"/>
                </a:lnTo>
                <a:lnTo>
                  <a:pt x="57150" y="184150"/>
                </a:lnTo>
                <a:lnTo>
                  <a:pt x="69850" y="196850"/>
                </a:lnTo>
                <a:lnTo>
                  <a:pt x="95250" y="209550"/>
                </a:lnTo>
                <a:lnTo>
                  <a:pt x="114300" y="222250"/>
                </a:lnTo>
                <a:lnTo>
                  <a:pt x="133350" y="228600"/>
                </a:lnTo>
                <a:lnTo>
                  <a:pt x="165100" y="234950"/>
                </a:lnTo>
                <a:lnTo>
                  <a:pt x="184150" y="241300"/>
                </a:lnTo>
                <a:lnTo>
                  <a:pt x="209550" y="247650"/>
                </a:lnTo>
                <a:lnTo>
                  <a:pt x="234950" y="254000"/>
                </a:lnTo>
                <a:lnTo>
                  <a:pt x="260350" y="260350"/>
                </a:lnTo>
                <a:lnTo>
                  <a:pt x="279400" y="260350"/>
                </a:lnTo>
                <a:lnTo>
                  <a:pt x="298450" y="260350"/>
                </a:lnTo>
                <a:lnTo>
                  <a:pt x="311150" y="260350"/>
                </a:lnTo>
                <a:lnTo>
                  <a:pt x="323850" y="254000"/>
                </a:lnTo>
                <a:lnTo>
                  <a:pt x="336550" y="247650"/>
                </a:lnTo>
                <a:lnTo>
                  <a:pt x="336550" y="247650"/>
                </a:lnTo>
                <a:lnTo>
                  <a:pt x="349250" y="247650"/>
                </a:lnTo>
                <a:lnTo>
                  <a:pt x="349250" y="2476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89" name="Freeform 50"/>
          <p:cNvSpPr/>
          <p:nvPr/>
        </p:nvSpPr>
        <p:spPr>
          <a:xfrm>
            <a:off x="3695760" y="3645000"/>
            <a:ext cx="216000" cy="12600"/>
          </a:xfrm>
          <a:custGeom>
            <a:avLst/>
            <a:gdLst>
              <a:gd name="textAreaLeft" fmla="*/ 0 w 216000"/>
              <a:gd name="textAreaRight" fmla="*/ 216360 w 216000"/>
              <a:gd name="textAreaTop" fmla="*/ 0 h 12600"/>
              <a:gd name="textAreaBottom" fmla="*/ 12960 h 12600"/>
            </a:gdLst>
            <a:ahLst/>
            <a:rect l="textAreaLeft" t="textAreaTop" r="textAreaRight" b="textAreaBottom"/>
            <a:pathLst>
              <a:path w="215901" h="12701">
                <a:moveTo>
                  <a:pt x="12700" y="6350"/>
                </a:moveTo>
                <a:lnTo>
                  <a:pt x="12700" y="6350"/>
                </a:lnTo>
                <a:lnTo>
                  <a:pt x="12700" y="12700"/>
                </a:lnTo>
                <a:lnTo>
                  <a:pt x="6350" y="12700"/>
                </a:lnTo>
                <a:lnTo>
                  <a:pt x="0" y="12700"/>
                </a:lnTo>
                <a:lnTo>
                  <a:pt x="0" y="12700"/>
                </a:lnTo>
                <a:lnTo>
                  <a:pt x="0" y="12700"/>
                </a:lnTo>
                <a:lnTo>
                  <a:pt x="0" y="12700"/>
                </a:lnTo>
                <a:lnTo>
                  <a:pt x="0" y="12700"/>
                </a:lnTo>
                <a:lnTo>
                  <a:pt x="0" y="12700"/>
                </a:lnTo>
                <a:lnTo>
                  <a:pt x="6350" y="12700"/>
                </a:lnTo>
                <a:lnTo>
                  <a:pt x="12700" y="12700"/>
                </a:lnTo>
                <a:lnTo>
                  <a:pt x="19050" y="6350"/>
                </a:lnTo>
                <a:lnTo>
                  <a:pt x="25400" y="6350"/>
                </a:lnTo>
                <a:lnTo>
                  <a:pt x="38100" y="6350"/>
                </a:lnTo>
                <a:lnTo>
                  <a:pt x="50800" y="6350"/>
                </a:lnTo>
                <a:lnTo>
                  <a:pt x="63500" y="6350"/>
                </a:lnTo>
                <a:lnTo>
                  <a:pt x="82550" y="6350"/>
                </a:lnTo>
                <a:lnTo>
                  <a:pt x="101600" y="0"/>
                </a:lnTo>
                <a:lnTo>
                  <a:pt x="114300" y="0"/>
                </a:lnTo>
                <a:lnTo>
                  <a:pt x="133350" y="0"/>
                </a:lnTo>
                <a:lnTo>
                  <a:pt x="152400" y="6350"/>
                </a:lnTo>
                <a:lnTo>
                  <a:pt x="165100" y="6350"/>
                </a:lnTo>
                <a:lnTo>
                  <a:pt x="184150" y="6350"/>
                </a:lnTo>
                <a:lnTo>
                  <a:pt x="196850" y="6350"/>
                </a:lnTo>
                <a:lnTo>
                  <a:pt x="209550" y="6350"/>
                </a:lnTo>
                <a:lnTo>
                  <a:pt x="209550" y="6350"/>
                </a:lnTo>
                <a:lnTo>
                  <a:pt x="209550" y="6350"/>
                </a:lnTo>
                <a:lnTo>
                  <a:pt x="215900" y="0"/>
                </a:lnTo>
                <a:lnTo>
                  <a:pt x="215900" y="0"/>
                </a:lnTo>
              </a:path>
            </a:pathLst>
          </a:custGeom>
          <a:noFill/>
          <a:ln w="38160">
            <a:solidFill>
              <a:srgbClr val="ff0000"/>
            </a:solidFill>
            <a:round/>
          </a:ln>
        </p:spPr>
        <p:style>
          <a:lnRef idx="0"/>
          <a:fillRef idx="0"/>
          <a:effectRef idx="0"/>
          <a:fontRef idx="minor"/>
        </p:style>
        <p:txBody>
          <a:bodyPr tIns="-32760" bIns="-32760" anchor="ctr">
            <a:noAutofit/>
          </a:bodyPr>
          <a:p>
            <a:endParaRPr b="0" lang="en-US" sz="1800" spc="-1" strike="noStrike">
              <a:solidFill>
                <a:srgbClr val="000000"/>
              </a:solidFill>
              <a:latin typeface="Verdana"/>
            </a:endParaRPr>
          </a:p>
        </p:txBody>
      </p:sp>
      <p:sp>
        <p:nvSpPr>
          <p:cNvPr id="190" name="Freeform 51"/>
          <p:cNvSpPr/>
          <p:nvPr/>
        </p:nvSpPr>
        <p:spPr>
          <a:xfrm>
            <a:off x="4025880" y="3562200"/>
            <a:ext cx="304920" cy="279720"/>
          </a:xfrm>
          <a:custGeom>
            <a:avLst/>
            <a:gdLst>
              <a:gd name="textAreaLeft" fmla="*/ 0 w 304920"/>
              <a:gd name="textAreaRight" fmla="*/ 305280 w 304920"/>
              <a:gd name="textAreaTop" fmla="*/ 0 h 279720"/>
              <a:gd name="textAreaBottom" fmla="*/ 280080 h 279720"/>
            </a:gdLst>
            <a:ahLst/>
            <a:rect l="textAreaLeft" t="textAreaTop" r="textAreaRight" b="textAreaBottom"/>
            <a:pathLst>
              <a:path w="304801" h="279401">
                <a:moveTo>
                  <a:pt x="184150" y="25400"/>
                </a:moveTo>
                <a:lnTo>
                  <a:pt x="177800" y="25400"/>
                </a:lnTo>
                <a:lnTo>
                  <a:pt x="177800" y="25400"/>
                </a:lnTo>
                <a:lnTo>
                  <a:pt x="171450" y="19050"/>
                </a:lnTo>
                <a:lnTo>
                  <a:pt x="165100" y="19050"/>
                </a:lnTo>
                <a:lnTo>
                  <a:pt x="152400" y="12700"/>
                </a:lnTo>
                <a:lnTo>
                  <a:pt x="139700" y="6350"/>
                </a:lnTo>
                <a:lnTo>
                  <a:pt x="127000" y="6350"/>
                </a:lnTo>
                <a:lnTo>
                  <a:pt x="114300" y="0"/>
                </a:lnTo>
                <a:lnTo>
                  <a:pt x="101600" y="0"/>
                </a:lnTo>
                <a:lnTo>
                  <a:pt x="88900" y="0"/>
                </a:lnTo>
                <a:lnTo>
                  <a:pt x="69850" y="0"/>
                </a:lnTo>
                <a:lnTo>
                  <a:pt x="57150" y="0"/>
                </a:lnTo>
                <a:lnTo>
                  <a:pt x="44450" y="0"/>
                </a:lnTo>
                <a:lnTo>
                  <a:pt x="31750" y="0"/>
                </a:lnTo>
                <a:lnTo>
                  <a:pt x="25400" y="6350"/>
                </a:lnTo>
                <a:lnTo>
                  <a:pt x="19050" y="12700"/>
                </a:lnTo>
                <a:lnTo>
                  <a:pt x="6350" y="19050"/>
                </a:lnTo>
                <a:lnTo>
                  <a:pt x="6350" y="31750"/>
                </a:lnTo>
                <a:lnTo>
                  <a:pt x="0" y="38100"/>
                </a:lnTo>
                <a:lnTo>
                  <a:pt x="6350" y="44450"/>
                </a:lnTo>
                <a:lnTo>
                  <a:pt x="6350" y="50800"/>
                </a:lnTo>
                <a:lnTo>
                  <a:pt x="12700" y="57150"/>
                </a:lnTo>
                <a:lnTo>
                  <a:pt x="25400" y="63500"/>
                </a:lnTo>
                <a:lnTo>
                  <a:pt x="38100" y="76200"/>
                </a:lnTo>
                <a:lnTo>
                  <a:pt x="50800" y="82550"/>
                </a:lnTo>
                <a:lnTo>
                  <a:pt x="69850" y="88900"/>
                </a:lnTo>
                <a:lnTo>
                  <a:pt x="88900" y="95250"/>
                </a:lnTo>
                <a:lnTo>
                  <a:pt x="114300" y="101600"/>
                </a:lnTo>
                <a:lnTo>
                  <a:pt x="133350" y="107950"/>
                </a:lnTo>
                <a:lnTo>
                  <a:pt x="158750" y="120650"/>
                </a:lnTo>
                <a:lnTo>
                  <a:pt x="177800" y="127000"/>
                </a:lnTo>
                <a:lnTo>
                  <a:pt x="203200" y="133350"/>
                </a:lnTo>
                <a:lnTo>
                  <a:pt x="222250" y="146050"/>
                </a:lnTo>
                <a:lnTo>
                  <a:pt x="241300" y="152400"/>
                </a:lnTo>
                <a:lnTo>
                  <a:pt x="260350" y="158750"/>
                </a:lnTo>
                <a:lnTo>
                  <a:pt x="273050" y="171450"/>
                </a:lnTo>
                <a:lnTo>
                  <a:pt x="285750" y="177800"/>
                </a:lnTo>
                <a:lnTo>
                  <a:pt x="292100" y="190500"/>
                </a:lnTo>
                <a:lnTo>
                  <a:pt x="298450" y="196850"/>
                </a:lnTo>
                <a:lnTo>
                  <a:pt x="304800" y="209550"/>
                </a:lnTo>
                <a:lnTo>
                  <a:pt x="304800" y="215900"/>
                </a:lnTo>
                <a:lnTo>
                  <a:pt x="304800" y="222250"/>
                </a:lnTo>
                <a:lnTo>
                  <a:pt x="304800" y="234950"/>
                </a:lnTo>
                <a:lnTo>
                  <a:pt x="304800" y="241300"/>
                </a:lnTo>
                <a:lnTo>
                  <a:pt x="298450" y="247650"/>
                </a:lnTo>
                <a:lnTo>
                  <a:pt x="285750" y="260350"/>
                </a:lnTo>
                <a:lnTo>
                  <a:pt x="279400" y="266700"/>
                </a:lnTo>
                <a:lnTo>
                  <a:pt x="266700" y="273050"/>
                </a:lnTo>
                <a:lnTo>
                  <a:pt x="254000" y="273050"/>
                </a:lnTo>
                <a:lnTo>
                  <a:pt x="234950" y="279400"/>
                </a:lnTo>
                <a:lnTo>
                  <a:pt x="222250" y="279400"/>
                </a:lnTo>
                <a:lnTo>
                  <a:pt x="203200" y="279400"/>
                </a:lnTo>
                <a:lnTo>
                  <a:pt x="177800" y="279400"/>
                </a:lnTo>
                <a:lnTo>
                  <a:pt x="158750" y="279400"/>
                </a:lnTo>
                <a:lnTo>
                  <a:pt x="139700" y="279400"/>
                </a:lnTo>
                <a:lnTo>
                  <a:pt x="114300" y="273050"/>
                </a:lnTo>
                <a:lnTo>
                  <a:pt x="95250" y="273050"/>
                </a:lnTo>
                <a:lnTo>
                  <a:pt x="76200" y="266700"/>
                </a:lnTo>
                <a:lnTo>
                  <a:pt x="57150" y="266700"/>
                </a:lnTo>
                <a:lnTo>
                  <a:pt x="38100" y="260350"/>
                </a:lnTo>
                <a:lnTo>
                  <a:pt x="19050" y="254000"/>
                </a:lnTo>
                <a:lnTo>
                  <a:pt x="12700" y="254000"/>
                </a:lnTo>
                <a:lnTo>
                  <a:pt x="6350" y="247650"/>
                </a:lnTo>
                <a:lnTo>
                  <a:pt x="0" y="241300"/>
                </a:lnTo>
                <a:lnTo>
                  <a:pt x="0" y="234950"/>
                </a:lnTo>
                <a:lnTo>
                  <a:pt x="0" y="234950"/>
                </a:lnTo>
                <a:lnTo>
                  <a:pt x="0" y="228600"/>
                </a:lnTo>
                <a:lnTo>
                  <a:pt x="0" y="2286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91" name="Freeform 52"/>
          <p:cNvSpPr/>
          <p:nvPr/>
        </p:nvSpPr>
        <p:spPr>
          <a:xfrm>
            <a:off x="4381560" y="3689280"/>
            <a:ext cx="298440" cy="216000"/>
          </a:xfrm>
          <a:custGeom>
            <a:avLst/>
            <a:gdLst>
              <a:gd name="textAreaLeft" fmla="*/ 0 w 298440"/>
              <a:gd name="textAreaRight" fmla="*/ 298800 w 298440"/>
              <a:gd name="textAreaTop" fmla="*/ 0 h 216000"/>
              <a:gd name="textAreaBottom" fmla="*/ 216360 h 216000"/>
            </a:gdLst>
            <a:ahLst/>
            <a:rect l="textAreaLeft" t="textAreaTop" r="textAreaRight" b="textAreaBottom"/>
            <a:pathLst>
              <a:path w="298451" h="215901">
                <a:moveTo>
                  <a:pt x="0" y="12700"/>
                </a:moveTo>
                <a:lnTo>
                  <a:pt x="0" y="12700"/>
                </a:lnTo>
                <a:lnTo>
                  <a:pt x="0" y="12700"/>
                </a:lnTo>
                <a:lnTo>
                  <a:pt x="6350" y="12700"/>
                </a:lnTo>
                <a:lnTo>
                  <a:pt x="6350" y="12700"/>
                </a:lnTo>
                <a:lnTo>
                  <a:pt x="19050" y="6350"/>
                </a:lnTo>
                <a:lnTo>
                  <a:pt x="25400" y="6350"/>
                </a:lnTo>
                <a:lnTo>
                  <a:pt x="31750" y="0"/>
                </a:lnTo>
                <a:lnTo>
                  <a:pt x="44450" y="0"/>
                </a:lnTo>
                <a:lnTo>
                  <a:pt x="57150" y="0"/>
                </a:lnTo>
                <a:lnTo>
                  <a:pt x="69850" y="0"/>
                </a:lnTo>
                <a:lnTo>
                  <a:pt x="82550" y="0"/>
                </a:lnTo>
                <a:lnTo>
                  <a:pt x="101600" y="6350"/>
                </a:lnTo>
                <a:lnTo>
                  <a:pt x="120650" y="12700"/>
                </a:lnTo>
                <a:lnTo>
                  <a:pt x="139700" y="19050"/>
                </a:lnTo>
                <a:lnTo>
                  <a:pt x="165100" y="25400"/>
                </a:lnTo>
                <a:lnTo>
                  <a:pt x="184150" y="38100"/>
                </a:lnTo>
                <a:lnTo>
                  <a:pt x="196850" y="50800"/>
                </a:lnTo>
                <a:lnTo>
                  <a:pt x="215900" y="63500"/>
                </a:lnTo>
                <a:lnTo>
                  <a:pt x="234950" y="76200"/>
                </a:lnTo>
                <a:lnTo>
                  <a:pt x="247650" y="88900"/>
                </a:lnTo>
                <a:lnTo>
                  <a:pt x="260350" y="101600"/>
                </a:lnTo>
                <a:lnTo>
                  <a:pt x="273050" y="114300"/>
                </a:lnTo>
                <a:lnTo>
                  <a:pt x="279400" y="127000"/>
                </a:lnTo>
                <a:lnTo>
                  <a:pt x="285750" y="139700"/>
                </a:lnTo>
                <a:lnTo>
                  <a:pt x="285750" y="146050"/>
                </a:lnTo>
                <a:lnTo>
                  <a:pt x="292100" y="146050"/>
                </a:lnTo>
                <a:lnTo>
                  <a:pt x="292100" y="152400"/>
                </a:lnTo>
                <a:lnTo>
                  <a:pt x="292100" y="152400"/>
                </a:lnTo>
                <a:lnTo>
                  <a:pt x="292100" y="152400"/>
                </a:lnTo>
                <a:lnTo>
                  <a:pt x="292100" y="152400"/>
                </a:lnTo>
                <a:lnTo>
                  <a:pt x="285750" y="146050"/>
                </a:lnTo>
                <a:lnTo>
                  <a:pt x="279400" y="146050"/>
                </a:lnTo>
                <a:lnTo>
                  <a:pt x="266700" y="139700"/>
                </a:lnTo>
                <a:lnTo>
                  <a:pt x="254000" y="133350"/>
                </a:lnTo>
                <a:lnTo>
                  <a:pt x="241300" y="127000"/>
                </a:lnTo>
                <a:lnTo>
                  <a:pt x="228600" y="120650"/>
                </a:lnTo>
                <a:lnTo>
                  <a:pt x="209550" y="114300"/>
                </a:lnTo>
                <a:lnTo>
                  <a:pt x="190500" y="107950"/>
                </a:lnTo>
                <a:lnTo>
                  <a:pt x="171450" y="101600"/>
                </a:lnTo>
                <a:lnTo>
                  <a:pt x="152400" y="101600"/>
                </a:lnTo>
                <a:lnTo>
                  <a:pt x="133350" y="95250"/>
                </a:lnTo>
                <a:lnTo>
                  <a:pt x="107950" y="95250"/>
                </a:lnTo>
                <a:lnTo>
                  <a:pt x="88900" y="101600"/>
                </a:lnTo>
                <a:lnTo>
                  <a:pt x="76200" y="101600"/>
                </a:lnTo>
                <a:lnTo>
                  <a:pt x="57150" y="107950"/>
                </a:lnTo>
                <a:lnTo>
                  <a:pt x="44450" y="114300"/>
                </a:lnTo>
                <a:lnTo>
                  <a:pt x="31750" y="120650"/>
                </a:lnTo>
                <a:lnTo>
                  <a:pt x="25400" y="127000"/>
                </a:lnTo>
                <a:lnTo>
                  <a:pt x="19050" y="133350"/>
                </a:lnTo>
                <a:lnTo>
                  <a:pt x="12700" y="146050"/>
                </a:lnTo>
                <a:lnTo>
                  <a:pt x="12700" y="152400"/>
                </a:lnTo>
                <a:lnTo>
                  <a:pt x="19050" y="158750"/>
                </a:lnTo>
                <a:lnTo>
                  <a:pt x="19050" y="165100"/>
                </a:lnTo>
                <a:lnTo>
                  <a:pt x="31750" y="177800"/>
                </a:lnTo>
                <a:lnTo>
                  <a:pt x="44450" y="177800"/>
                </a:lnTo>
                <a:lnTo>
                  <a:pt x="50800" y="184150"/>
                </a:lnTo>
                <a:lnTo>
                  <a:pt x="69850" y="190500"/>
                </a:lnTo>
                <a:lnTo>
                  <a:pt x="88900" y="196850"/>
                </a:lnTo>
                <a:lnTo>
                  <a:pt x="114300" y="196850"/>
                </a:lnTo>
                <a:lnTo>
                  <a:pt x="133350" y="203200"/>
                </a:lnTo>
                <a:lnTo>
                  <a:pt x="158750" y="203200"/>
                </a:lnTo>
                <a:lnTo>
                  <a:pt x="177800" y="209550"/>
                </a:lnTo>
                <a:lnTo>
                  <a:pt x="196850" y="209550"/>
                </a:lnTo>
                <a:lnTo>
                  <a:pt x="222250" y="209550"/>
                </a:lnTo>
                <a:lnTo>
                  <a:pt x="241300" y="215900"/>
                </a:lnTo>
                <a:lnTo>
                  <a:pt x="254000" y="215900"/>
                </a:lnTo>
                <a:lnTo>
                  <a:pt x="266700" y="215900"/>
                </a:lnTo>
                <a:lnTo>
                  <a:pt x="279400" y="215900"/>
                </a:lnTo>
                <a:lnTo>
                  <a:pt x="285750" y="209550"/>
                </a:lnTo>
                <a:lnTo>
                  <a:pt x="292100" y="209550"/>
                </a:lnTo>
                <a:lnTo>
                  <a:pt x="292100" y="209550"/>
                </a:lnTo>
                <a:lnTo>
                  <a:pt x="298450" y="203200"/>
                </a:lnTo>
                <a:lnTo>
                  <a:pt x="298450" y="2032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92" name="Freeform 53"/>
          <p:cNvSpPr/>
          <p:nvPr/>
        </p:nvSpPr>
        <p:spPr>
          <a:xfrm>
            <a:off x="4705200" y="3689280"/>
            <a:ext cx="349560" cy="209520"/>
          </a:xfrm>
          <a:custGeom>
            <a:avLst/>
            <a:gdLst>
              <a:gd name="textAreaLeft" fmla="*/ 0 w 349560"/>
              <a:gd name="textAreaRight" fmla="*/ 349920 w 349560"/>
              <a:gd name="textAreaTop" fmla="*/ 0 h 209520"/>
              <a:gd name="textAreaBottom" fmla="*/ 209880 h 209520"/>
            </a:gdLst>
            <a:ahLst/>
            <a:rect l="textAreaLeft" t="textAreaTop" r="textAreaRight" b="textAreaBottom"/>
            <a:pathLst>
              <a:path w="349251" h="209551">
                <a:moveTo>
                  <a:pt x="0" y="0"/>
                </a:moveTo>
                <a:lnTo>
                  <a:pt x="6350" y="6350"/>
                </a:lnTo>
                <a:lnTo>
                  <a:pt x="6350" y="6350"/>
                </a:lnTo>
                <a:lnTo>
                  <a:pt x="6350" y="6350"/>
                </a:lnTo>
                <a:lnTo>
                  <a:pt x="6350" y="12700"/>
                </a:lnTo>
                <a:lnTo>
                  <a:pt x="12700" y="12700"/>
                </a:lnTo>
                <a:lnTo>
                  <a:pt x="19050" y="19050"/>
                </a:lnTo>
                <a:lnTo>
                  <a:pt x="25400" y="25400"/>
                </a:lnTo>
                <a:lnTo>
                  <a:pt x="31750" y="38100"/>
                </a:lnTo>
                <a:lnTo>
                  <a:pt x="44450" y="44450"/>
                </a:lnTo>
                <a:lnTo>
                  <a:pt x="50800" y="57150"/>
                </a:lnTo>
                <a:lnTo>
                  <a:pt x="57150" y="69850"/>
                </a:lnTo>
                <a:lnTo>
                  <a:pt x="63500" y="88900"/>
                </a:lnTo>
                <a:lnTo>
                  <a:pt x="69850" y="101600"/>
                </a:lnTo>
                <a:lnTo>
                  <a:pt x="76200" y="120650"/>
                </a:lnTo>
                <a:lnTo>
                  <a:pt x="88900" y="133350"/>
                </a:lnTo>
                <a:lnTo>
                  <a:pt x="95250" y="152400"/>
                </a:lnTo>
                <a:lnTo>
                  <a:pt x="101600" y="165100"/>
                </a:lnTo>
                <a:lnTo>
                  <a:pt x="101600" y="177800"/>
                </a:lnTo>
                <a:lnTo>
                  <a:pt x="107950" y="184150"/>
                </a:lnTo>
                <a:lnTo>
                  <a:pt x="114300" y="196850"/>
                </a:lnTo>
                <a:lnTo>
                  <a:pt x="114300" y="203200"/>
                </a:lnTo>
                <a:lnTo>
                  <a:pt x="120650" y="203200"/>
                </a:lnTo>
                <a:lnTo>
                  <a:pt x="120650" y="209550"/>
                </a:lnTo>
                <a:lnTo>
                  <a:pt x="120650" y="209550"/>
                </a:lnTo>
                <a:lnTo>
                  <a:pt x="120650" y="209550"/>
                </a:lnTo>
                <a:lnTo>
                  <a:pt x="120650" y="203200"/>
                </a:lnTo>
                <a:lnTo>
                  <a:pt x="114300" y="196850"/>
                </a:lnTo>
                <a:lnTo>
                  <a:pt x="114300" y="190500"/>
                </a:lnTo>
                <a:lnTo>
                  <a:pt x="107950" y="177800"/>
                </a:lnTo>
                <a:lnTo>
                  <a:pt x="101600" y="165100"/>
                </a:lnTo>
                <a:lnTo>
                  <a:pt x="101600" y="152400"/>
                </a:lnTo>
                <a:lnTo>
                  <a:pt x="95250" y="139700"/>
                </a:lnTo>
                <a:lnTo>
                  <a:pt x="88900" y="120650"/>
                </a:lnTo>
                <a:lnTo>
                  <a:pt x="88900" y="107950"/>
                </a:lnTo>
                <a:lnTo>
                  <a:pt x="82550" y="95250"/>
                </a:lnTo>
                <a:lnTo>
                  <a:pt x="82550" y="82550"/>
                </a:lnTo>
                <a:lnTo>
                  <a:pt x="82550" y="63500"/>
                </a:lnTo>
                <a:lnTo>
                  <a:pt x="82550" y="57150"/>
                </a:lnTo>
                <a:lnTo>
                  <a:pt x="88900" y="44450"/>
                </a:lnTo>
                <a:lnTo>
                  <a:pt x="95250" y="31750"/>
                </a:lnTo>
                <a:lnTo>
                  <a:pt x="101600" y="25400"/>
                </a:lnTo>
                <a:lnTo>
                  <a:pt x="107950" y="19050"/>
                </a:lnTo>
                <a:lnTo>
                  <a:pt x="114300" y="12700"/>
                </a:lnTo>
                <a:lnTo>
                  <a:pt x="127000" y="12700"/>
                </a:lnTo>
                <a:lnTo>
                  <a:pt x="146050" y="12700"/>
                </a:lnTo>
                <a:lnTo>
                  <a:pt x="158750" y="12700"/>
                </a:lnTo>
                <a:lnTo>
                  <a:pt x="177800" y="19050"/>
                </a:lnTo>
                <a:lnTo>
                  <a:pt x="196850" y="19050"/>
                </a:lnTo>
                <a:lnTo>
                  <a:pt x="209550" y="25400"/>
                </a:lnTo>
                <a:lnTo>
                  <a:pt x="228600" y="38100"/>
                </a:lnTo>
                <a:lnTo>
                  <a:pt x="247650" y="44450"/>
                </a:lnTo>
                <a:lnTo>
                  <a:pt x="260350" y="57150"/>
                </a:lnTo>
                <a:lnTo>
                  <a:pt x="273050" y="69850"/>
                </a:lnTo>
                <a:lnTo>
                  <a:pt x="285750" y="82550"/>
                </a:lnTo>
                <a:lnTo>
                  <a:pt x="292100" y="95250"/>
                </a:lnTo>
                <a:lnTo>
                  <a:pt x="298450" y="107950"/>
                </a:lnTo>
                <a:lnTo>
                  <a:pt x="304800" y="120650"/>
                </a:lnTo>
                <a:lnTo>
                  <a:pt x="311150" y="127000"/>
                </a:lnTo>
                <a:lnTo>
                  <a:pt x="317500" y="139700"/>
                </a:lnTo>
                <a:lnTo>
                  <a:pt x="317500" y="152400"/>
                </a:lnTo>
                <a:lnTo>
                  <a:pt x="317500" y="158750"/>
                </a:lnTo>
                <a:lnTo>
                  <a:pt x="323850" y="165100"/>
                </a:lnTo>
                <a:lnTo>
                  <a:pt x="323850" y="171450"/>
                </a:lnTo>
                <a:lnTo>
                  <a:pt x="330200" y="171450"/>
                </a:lnTo>
                <a:lnTo>
                  <a:pt x="330200" y="171450"/>
                </a:lnTo>
                <a:lnTo>
                  <a:pt x="336550" y="171450"/>
                </a:lnTo>
                <a:lnTo>
                  <a:pt x="342900" y="165100"/>
                </a:lnTo>
                <a:lnTo>
                  <a:pt x="342900" y="158750"/>
                </a:lnTo>
                <a:lnTo>
                  <a:pt x="342900" y="158750"/>
                </a:lnTo>
                <a:lnTo>
                  <a:pt x="349250" y="152400"/>
                </a:lnTo>
                <a:lnTo>
                  <a:pt x="349250" y="1524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93" name="Freeform 54"/>
          <p:cNvSpPr/>
          <p:nvPr/>
        </p:nvSpPr>
        <p:spPr>
          <a:xfrm>
            <a:off x="5124600" y="3670200"/>
            <a:ext cx="279360" cy="368280"/>
          </a:xfrm>
          <a:custGeom>
            <a:avLst/>
            <a:gdLst>
              <a:gd name="textAreaLeft" fmla="*/ 0 w 279360"/>
              <a:gd name="textAreaRight" fmla="*/ 279720 w 279360"/>
              <a:gd name="textAreaTop" fmla="*/ 0 h 368280"/>
              <a:gd name="textAreaBottom" fmla="*/ 368640 h 368280"/>
            </a:gdLst>
            <a:ahLst/>
            <a:rect l="textAreaLeft" t="textAreaTop" r="textAreaRight" b="textAreaBottom"/>
            <a:pathLst>
              <a:path w="279401" h="368301">
                <a:moveTo>
                  <a:pt x="171450" y="0"/>
                </a:moveTo>
                <a:lnTo>
                  <a:pt x="171450" y="6350"/>
                </a:lnTo>
                <a:lnTo>
                  <a:pt x="177800" y="12700"/>
                </a:lnTo>
                <a:lnTo>
                  <a:pt x="184150" y="25400"/>
                </a:lnTo>
                <a:lnTo>
                  <a:pt x="184150" y="38100"/>
                </a:lnTo>
                <a:lnTo>
                  <a:pt x="190500" y="57150"/>
                </a:lnTo>
                <a:lnTo>
                  <a:pt x="203200" y="76200"/>
                </a:lnTo>
                <a:lnTo>
                  <a:pt x="209550" y="95250"/>
                </a:lnTo>
                <a:lnTo>
                  <a:pt x="209550" y="114300"/>
                </a:lnTo>
                <a:lnTo>
                  <a:pt x="215900" y="139700"/>
                </a:lnTo>
                <a:lnTo>
                  <a:pt x="222250" y="158750"/>
                </a:lnTo>
                <a:lnTo>
                  <a:pt x="234950" y="177800"/>
                </a:lnTo>
                <a:lnTo>
                  <a:pt x="241300" y="196850"/>
                </a:lnTo>
                <a:lnTo>
                  <a:pt x="247650" y="215900"/>
                </a:lnTo>
                <a:lnTo>
                  <a:pt x="254000" y="228600"/>
                </a:lnTo>
                <a:lnTo>
                  <a:pt x="260350" y="241300"/>
                </a:lnTo>
                <a:lnTo>
                  <a:pt x="266700" y="254000"/>
                </a:lnTo>
                <a:lnTo>
                  <a:pt x="273050" y="260350"/>
                </a:lnTo>
                <a:lnTo>
                  <a:pt x="273050" y="266700"/>
                </a:lnTo>
                <a:lnTo>
                  <a:pt x="279400" y="266700"/>
                </a:lnTo>
                <a:lnTo>
                  <a:pt x="279400" y="266700"/>
                </a:lnTo>
                <a:lnTo>
                  <a:pt x="279400" y="266700"/>
                </a:lnTo>
                <a:lnTo>
                  <a:pt x="273050" y="266700"/>
                </a:lnTo>
                <a:lnTo>
                  <a:pt x="273050" y="260350"/>
                </a:lnTo>
                <a:lnTo>
                  <a:pt x="260350" y="254000"/>
                </a:lnTo>
                <a:lnTo>
                  <a:pt x="254000" y="241300"/>
                </a:lnTo>
                <a:lnTo>
                  <a:pt x="241300" y="234950"/>
                </a:lnTo>
                <a:lnTo>
                  <a:pt x="222250" y="222250"/>
                </a:lnTo>
                <a:lnTo>
                  <a:pt x="209550" y="215900"/>
                </a:lnTo>
                <a:lnTo>
                  <a:pt x="184150" y="203200"/>
                </a:lnTo>
                <a:lnTo>
                  <a:pt x="158750" y="196850"/>
                </a:lnTo>
                <a:lnTo>
                  <a:pt x="139700" y="190500"/>
                </a:lnTo>
                <a:lnTo>
                  <a:pt x="114300" y="177800"/>
                </a:lnTo>
                <a:lnTo>
                  <a:pt x="95250" y="177800"/>
                </a:lnTo>
                <a:lnTo>
                  <a:pt x="69850" y="177800"/>
                </a:lnTo>
                <a:lnTo>
                  <a:pt x="50800" y="177800"/>
                </a:lnTo>
                <a:lnTo>
                  <a:pt x="31750" y="177800"/>
                </a:lnTo>
                <a:lnTo>
                  <a:pt x="19050" y="177800"/>
                </a:lnTo>
                <a:lnTo>
                  <a:pt x="12700" y="184150"/>
                </a:lnTo>
                <a:lnTo>
                  <a:pt x="6350" y="196850"/>
                </a:lnTo>
                <a:lnTo>
                  <a:pt x="0" y="203200"/>
                </a:lnTo>
                <a:lnTo>
                  <a:pt x="0" y="209550"/>
                </a:lnTo>
                <a:lnTo>
                  <a:pt x="6350" y="222250"/>
                </a:lnTo>
                <a:lnTo>
                  <a:pt x="12700" y="234950"/>
                </a:lnTo>
                <a:lnTo>
                  <a:pt x="19050" y="247650"/>
                </a:lnTo>
                <a:lnTo>
                  <a:pt x="31750" y="260350"/>
                </a:lnTo>
                <a:lnTo>
                  <a:pt x="50800" y="273050"/>
                </a:lnTo>
                <a:lnTo>
                  <a:pt x="76200" y="285750"/>
                </a:lnTo>
                <a:lnTo>
                  <a:pt x="95250" y="298450"/>
                </a:lnTo>
                <a:lnTo>
                  <a:pt x="114300" y="311150"/>
                </a:lnTo>
                <a:lnTo>
                  <a:pt x="139700" y="323850"/>
                </a:lnTo>
                <a:lnTo>
                  <a:pt x="158750" y="336550"/>
                </a:lnTo>
                <a:lnTo>
                  <a:pt x="184150" y="349250"/>
                </a:lnTo>
                <a:lnTo>
                  <a:pt x="203200" y="355600"/>
                </a:lnTo>
                <a:lnTo>
                  <a:pt x="215900" y="361950"/>
                </a:lnTo>
                <a:lnTo>
                  <a:pt x="234950" y="368300"/>
                </a:lnTo>
                <a:lnTo>
                  <a:pt x="247650" y="368300"/>
                </a:lnTo>
                <a:lnTo>
                  <a:pt x="247650" y="368300"/>
                </a:lnTo>
                <a:lnTo>
                  <a:pt x="254000" y="368300"/>
                </a:lnTo>
                <a:lnTo>
                  <a:pt x="254000" y="3683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94" name="Freeform 55"/>
          <p:cNvSpPr/>
          <p:nvPr/>
        </p:nvSpPr>
        <p:spPr>
          <a:xfrm>
            <a:off x="3809880" y="4019400"/>
            <a:ext cx="203400" cy="25560"/>
          </a:xfrm>
          <a:custGeom>
            <a:avLst/>
            <a:gdLst>
              <a:gd name="textAreaLeft" fmla="*/ 0 w 203400"/>
              <a:gd name="textAreaRight" fmla="*/ 203760 w 203400"/>
              <a:gd name="textAreaTop" fmla="*/ 0 h 25560"/>
              <a:gd name="textAreaBottom" fmla="*/ 25920 h 25560"/>
            </a:gdLst>
            <a:ahLst/>
            <a:rect l="textAreaLeft" t="textAreaTop" r="textAreaRight" b="textAreaBottom"/>
            <a:pathLst>
              <a:path w="203201" h="25401">
                <a:moveTo>
                  <a:pt x="12700" y="0"/>
                </a:moveTo>
                <a:lnTo>
                  <a:pt x="6350" y="0"/>
                </a:lnTo>
                <a:lnTo>
                  <a:pt x="6350" y="0"/>
                </a:lnTo>
                <a:lnTo>
                  <a:pt x="6350" y="0"/>
                </a:lnTo>
                <a:lnTo>
                  <a:pt x="0" y="0"/>
                </a:lnTo>
                <a:lnTo>
                  <a:pt x="0" y="6350"/>
                </a:lnTo>
                <a:lnTo>
                  <a:pt x="0" y="6350"/>
                </a:lnTo>
                <a:lnTo>
                  <a:pt x="0" y="0"/>
                </a:lnTo>
                <a:lnTo>
                  <a:pt x="0" y="0"/>
                </a:lnTo>
                <a:lnTo>
                  <a:pt x="6350" y="0"/>
                </a:lnTo>
                <a:lnTo>
                  <a:pt x="6350" y="0"/>
                </a:lnTo>
                <a:lnTo>
                  <a:pt x="12700" y="0"/>
                </a:lnTo>
                <a:lnTo>
                  <a:pt x="12700" y="6350"/>
                </a:lnTo>
                <a:lnTo>
                  <a:pt x="25400" y="6350"/>
                </a:lnTo>
                <a:lnTo>
                  <a:pt x="31750" y="6350"/>
                </a:lnTo>
                <a:lnTo>
                  <a:pt x="38100" y="6350"/>
                </a:lnTo>
                <a:lnTo>
                  <a:pt x="50800" y="6350"/>
                </a:lnTo>
                <a:lnTo>
                  <a:pt x="57150" y="12700"/>
                </a:lnTo>
                <a:lnTo>
                  <a:pt x="76200" y="12700"/>
                </a:lnTo>
                <a:lnTo>
                  <a:pt x="88900" y="12700"/>
                </a:lnTo>
                <a:lnTo>
                  <a:pt x="101600" y="19050"/>
                </a:lnTo>
                <a:lnTo>
                  <a:pt x="120650" y="19050"/>
                </a:lnTo>
                <a:lnTo>
                  <a:pt x="133350" y="19050"/>
                </a:lnTo>
                <a:lnTo>
                  <a:pt x="146050" y="25400"/>
                </a:lnTo>
                <a:lnTo>
                  <a:pt x="158750" y="25400"/>
                </a:lnTo>
                <a:lnTo>
                  <a:pt x="171450" y="25400"/>
                </a:lnTo>
                <a:lnTo>
                  <a:pt x="184150" y="25400"/>
                </a:lnTo>
                <a:lnTo>
                  <a:pt x="196850" y="25400"/>
                </a:lnTo>
                <a:lnTo>
                  <a:pt x="196850" y="25400"/>
                </a:lnTo>
                <a:lnTo>
                  <a:pt x="203200" y="25400"/>
                </a:lnTo>
                <a:lnTo>
                  <a:pt x="203200" y="25400"/>
                </a:lnTo>
              </a:path>
            </a:pathLst>
          </a:custGeom>
          <a:noFill/>
          <a:ln w="38160">
            <a:solidFill>
              <a:srgbClr val="ff0000"/>
            </a:solidFill>
            <a:round/>
          </a:ln>
        </p:spPr>
        <p:style>
          <a:lnRef idx="0"/>
          <a:fillRef idx="0"/>
          <a:effectRef idx="0"/>
          <a:fontRef idx="minor"/>
        </p:style>
        <p:txBody>
          <a:bodyPr tIns="-19800" bIns="-19800" anchor="ctr">
            <a:noAutofit/>
          </a:bodyPr>
          <a:p>
            <a:endParaRPr b="0" lang="en-US" sz="1800" spc="-1" strike="noStrike">
              <a:solidFill>
                <a:srgbClr val="000000"/>
              </a:solidFill>
              <a:latin typeface="Verdana"/>
            </a:endParaRPr>
          </a:p>
        </p:txBody>
      </p:sp>
      <p:sp>
        <p:nvSpPr>
          <p:cNvPr id="195" name="Freeform 56"/>
          <p:cNvSpPr/>
          <p:nvPr/>
        </p:nvSpPr>
        <p:spPr>
          <a:xfrm>
            <a:off x="4152960" y="4006800"/>
            <a:ext cx="361800" cy="285840"/>
          </a:xfrm>
          <a:custGeom>
            <a:avLst/>
            <a:gdLst>
              <a:gd name="textAreaLeft" fmla="*/ 0 w 361800"/>
              <a:gd name="textAreaRight" fmla="*/ 362160 w 361800"/>
              <a:gd name="textAreaTop" fmla="*/ 0 h 285840"/>
              <a:gd name="textAreaBottom" fmla="*/ 286200 h 285840"/>
            </a:gdLst>
            <a:ahLst/>
            <a:rect l="textAreaLeft" t="textAreaTop" r="textAreaRight" b="textAreaBottom"/>
            <a:pathLst>
              <a:path w="361951" h="285751">
                <a:moveTo>
                  <a:pt x="0" y="0"/>
                </a:moveTo>
                <a:lnTo>
                  <a:pt x="0" y="0"/>
                </a:lnTo>
                <a:lnTo>
                  <a:pt x="0" y="6350"/>
                </a:lnTo>
                <a:lnTo>
                  <a:pt x="0" y="6350"/>
                </a:lnTo>
                <a:lnTo>
                  <a:pt x="6350" y="12700"/>
                </a:lnTo>
                <a:lnTo>
                  <a:pt x="6350" y="12700"/>
                </a:lnTo>
                <a:lnTo>
                  <a:pt x="6350" y="19050"/>
                </a:lnTo>
                <a:lnTo>
                  <a:pt x="12700" y="25400"/>
                </a:lnTo>
                <a:lnTo>
                  <a:pt x="19050" y="38100"/>
                </a:lnTo>
                <a:lnTo>
                  <a:pt x="19050" y="50800"/>
                </a:lnTo>
                <a:lnTo>
                  <a:pt x="25400" y="63500"/>
                </a:lnTo>
                <a:lnTo>
                  <a:pt x="31750" y="76200"/>
                </a:lnTo>
                <a:lnTo>
                  <a:pt x="31750" y="95250"/>
                </a:lnTo>
                <a:lnTo>
                  <a:pt x="38100" y="114300"/>
                </a:lnTo>
                <a:lnTo>
                  <a:pt x="38100" y="133350"/>
                </a:lnTo>
                <a:lnTo>
                  <a:pt x="44450" y="146050"/>
                </a:lnTo>
                <a:lnTo>
                  <a:pt x="50800" y="171450"/>
                </a:lnTo>
                <a:lnTo>
                  <a:pt x="50800" y="184150"/>
                </a:lnTo>
                <a:lnTo>
                  <a:pt x="57150" y="203200"/>
                </a:lnTo>
                <a:lnTo>
                  <a:pt x="69850" y="215900"/>
                </a:lnTo>
                <a:lnTo>
                  <a:pt x="76200" y="228600"/>
                </a:lnTo>
                <a:lnTo>
                  <a:pt x="82550" y="241300"/>
                </a:lnTo>
                <a:lnTo>
                  <a:pt x="88900" y="247650"/>
                </a:lnTo>
                <a:lnTo>
                  <a:pt x="95250" y="254000"/>
                </a:lnTo>
                <a:lnTo>
                  <a:pt x="101600" y="254000"/>
                </a:lnTo>
                <a:lnTo>
                  <a:pt x="101600" y="254000"/>
                </a:lnTo>
                <a:lnTo>
                  <a:pt x="107950" y="254000"/>
                </a:lnTo>
                <a:lnTo>
                  <a:pt x="114300" y="254000"/>
                </a:lnTo>
                <a:lnTo>
                  <a:pt x="114300" y="241300"/>
                </a:lnTo>
                <a:lnTo>
                  <a:pt x="120650" y="234950"/>
                </a:lnTo>
                <a:lnTo>
                  <a:pt x="120650" y="222250"/>
                </a:lnTo>
                <a:lnTo>
                  <a:pt x="127000" y="203200"/>
                </a:lnTo>
                <a:lnTo>
                  <a:pt x="127000" y="190500"/>
                </a:lnTo>
                <a:lnTo>
                  <a:pt x="127000" y="177800"/>
                </a:lnTo>
                <a:lnTo>
                  <a:pt x="127000" y="158750"/>
                </a:lnTo>
                <a:lnTo>
                  <a:pt x="127000" y="146050"/>
                </a:lnTo>
                <a:lnTo>
                  <a:pt x="127000" y="133350"/>
                </a:lnTo>
                <a:lnTo>
                  <a:pt x="127000" y="120650"/>
                </a:lnTo>
                <a:lnTo>
                  <a:pt x="127000" y="107950"/>
                </a:lnTo>
                <a:lnTo>
                  <a:pt x="127000" y="101600"/>
                </a:lnTo>
                <a:lnTo>
                  <a:pt x="133350" y="95250"/>
                </a:lnTo>
                <a:lnTo>
                  <a:pt x="133350" y="88900"/>
                </a:lnTo>
                <a:lnTo>
                  <a:pt x="133350" y="82550"/>
                </a:lnTo>
                <a:lnTo>
                  <a:pt x="139700" y="82550"/>
                </a:lnTo>
                <a:lnTo>
                  <a:pt x="139700" y="76200"/>
                </a:lnTo>
                <a:lnTo>
                  <a:pt x="146050" y="82550"/>
                </a:lnTo>
                <a:lnTo>
                  <a:pt x="152400" y="82550"/>
                </a:lnTo>
                <a:lnTo>
                  <a:pt x="158750" y="88900"/>
                </a:lnTo>
                <a:lnTo>
                  <a:pt x="171450" y="95250"/>
                </a:lnTo>
                <a:lnTo>
                  <a:pt x="177800" y="101600"/>
                </a:lnTo>
                <a:lnTo>
                  <a:pt x="190500" y="114300"/>
                </a:lnTo>
                <a:lnTo>
                  <a:pt x="203200" y="127000"/>
                </a:lnTo>
                <a:lnTo>
                  <a:pt x="215900" y="139700"/>
                </a:lnTo>
                <a:lnTo>
                  <a:pt x="228600" y="158750"/>
                </a:lnTo>
                <a:lnTo>
                  <a:pt x="241300" y="171450"/>
                </a:lnTo>
                <a:lnTo>
                  <a:pt x="254000" y="190500"/>
                </a:lnTo>
                <a:lnTo>
                  <a:pt x="266700" y="209550"/>
                </a:lnTo>
                <a:lnTo>
                  <a:pt x="279400" y="222250"/>
                </a:lnTo>
                <a:lnTo>
                  <a:pt x="292100" y="241300"/>
                </a:lnTo>
                <a:lnTo>
                  <a:pt x="304800" y="254000"/>
                </a:lnTo>
                <a:lnTo>
                  <a:pt x="317500" y="266700"/>
                </a:lnTo>
                <a:lnTo>
                  <a:pt x="323850" y="273050"/>
                </a:lnTo>
                <a:lnTo>
                  <a:pt x="330200" y="279400"/>
                </a:lnTo>
                <a:lnTo>
                  <a:pt x="336550" y="285750"/>
                </a:lnTo>
                <a:lnTo>
                  <a:pt x="342900" y="285750"/>
                </a:lnTo>
                <a:lnTo>
                  <a:pt x="342900" y="285750"/>
                </a:lnTo>
                <a:lnTo>
                  <a:pt x="342900" y="285750"/>
                </a:lnTo>
                <a:lnTo>
                  <a:pt x="342900" y="285750"/>
                </a:lnTo>
                <a:lnTo>
                  <a:pt x="342900" y="279400"/>
                </a:lnTo>
                <a:lnTo>
                  <a:pt x="342900" y="266700"/>
                </a:lnTo>
                <a:lnTo>
                  <a:pt x="342900" y="254000"/>
                </a:lnTo>
                <a:lnTo>
                  <a:pt x="336550" y="241300"/>
                </a:lnTo>
                <a:lnTo>
                  <a:pt x="336550" y="228600"/>
                </a:lnTo>
                <a:lnTo>
                  <a:pt x="336550" y="209550"/>
                </a:lnTo>
                <a:lnTo>
                  <a:pt x="330200" y="190500"/>
                </a:lnTo>
                <a:lnTo>
                  <a:pt x="330200" y="171450"/>
                </a:lnTo>
                <a:lnTo>
                  <a:pt x="330200" y="158750"/>
                </a:lnTo>
                <a:lnTo>
                  <a:pt x="330200" y="139700"/>
                </a:lnTo>
                <a:lnTo>
                  <a:pt x="330200" y="120650"/>
                </a:lnTo>
                <a:lnTo>
                  <a:pt x="330200" y="107950"/>
                </a:lnTo>
                <a:lnTo>
                  <a:pt x="330200" y="88900"/>
                </a:lnTo>
                <a:lnTo>
                  <a:pt x="330200" y="76200"/>
                </a:lnTo>
                <a:lnTo>
                  <a:pt x="336550" y="63500"/>
                </a:lnTo>
                <a:lnTo>
                  <a:pt x="342900" y="50800"/>
                </a:lnTo>
                <a:lnTo>
                  <a:pt x="349250" y="44450"/>
                </a:lnTo>
                <a:lnTo>
                  <a:pt x="355600" y="38100"/>
                </a:lnTo>
                <a:lnTo>
                  <a:pt x="355600" y="38100"/>
                </a:lnTo>
                <a:lnTo>
                  <a:pt x="361950" y="25400"/>
                </a:lnTo>
                <a:lnTo>
                  <a:pt x="361950" y="254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96" name="Freeform 57"/>
          <p:cNvSpPr/>
          <p:nvPr/>
        </p:nvSpPr>
        <p:spPr>
          <a:xfrm>
            <a:off x="4591080" y="4102200"/>
            <a:ext cx="235080" cy="260280"/>
          </a:xfrm>
          <a:custGeom>
            <a:avLst/>
            <a:gdLst>
              <a:gd name="textAreaLeft" fmla="*/ 0 w 235080"/>
              <a:gd name="textAreaRight" fmla="*/ 235440 w 235080"/>
              <a:gd name="textAreaTop" fmla="*/ 0 h 260280"/>
              <a:gd name="textAreaBottom" fmla="*/ 260640 h 260280"/>
            </a:gdLst>
            <a:ahLst/>
            <a:rect l="textAreaLeft" t="textAreaTop" r="textAreaRight" b="textAreaBottom"/>
            <a:pathLst>
              <a:path w="234951" h="260351">
                <a:moveTo>
                  <a:pt x="12700" y="6350"/>
                </a:moveTo>
                <a:lnTo>
                  <a:pt x="19050" y="6350"/>
                </a:lnTo>
                <a:lnTo>
                  <a:pt x="19050" y="6350"/>
                </a:lnTo>
                <a:lnTo>
                  <a:pt x="25400" y="6350"/>
                </a:lnTo>
                <a:lnTo>
                  <a:pt x="31750" y="0"/>
                </a:lnTo>
                <a:lnTo>
                  <a:pt x="38100" y="0"/>
                </a:lnTo>
                <a:lnTo>
                  <a:pt x="50800" y="0"/>
                </a:lnTo>
                <a:lnTo>
                  <a:pt x="57150" y="0"/>
                </a:lnTo>
                <a:lnTo>
                  <a:pt x="76200" y="6350"/>
                </a:lnTo>
                <a:lnTo>
                  <a:pt x="82550" y="6350"/>
                </a:lnTo>
                <a:lnTo>
                  <a:pt x="101600" y="12700"/>
                </a:lnTo>
                <a:lnTo>
                  <a:pt x="120650" y="19050"/>
                </a:lnTo>
                <a:lnTo>
                  <a:pt x="133350" y="31750"/>
                </a:lnTo>
                <a:lnTo>
                  <a:pt x="146050" y="44450"/>
                </a:lnTo>
                <a:lnTo>
                  <a:pt x="158750" y="57150"/>
                </a:lnTo>
                <a:lnTo>
                  <a:pt x="171450" y="76200"/>
                </a:lnTo>
                <a:lnTo>
                  <a:pt x="184150" y="95250"/>
                </a:lnTo>
                <a:lnTo>
                  <a:pt x="196850" y="114300"/>
                </a:lnTo>
                <a:lnTo>
                  <a:pt x="203200" y="133350"/>
                </a:lnTo>
                <a:lnTo>
                  <a:pt x="209550" y="152400"/>
                </a:lnTo>
                <a:lnTo>
                  <a:pt x="215900" y="171450"/>
                </a:lnTo>
                <a:lnTo>
                  <a:pt x="222250" y="184150"/>
                </a:lnTo>
                <a:lnTo>
                  <a:pt x="228600" y="196850"/>
                </a:lnTo>
                <a:lnTo>
                  <a:pt x="228600" y="209550"/>
                </a:lnTo>
                <a:lnTo>
                  <a:pt x="228600" y="215900"/>
                </a:lnTo>
                <a:lnTo>
                  <a:pt x="234950" y="222250"/>
                </a:lnTo>
                <a:lnTo>
                  <a:pt x="234950" y="222250"/>
                </a:lnTo>
                <a:lnTo>
                  <a:pt x="228600" y="222250"/>
                </a:lnTo>
                <a:lnTo>
                  <a:pt x="228600" y="222250"/>
                </a:lnTo>
                <a:lnTo>
                  <a:pt x="222250" y="215900"/>
                </a:lnTo>
                <a:lnTo>
                  <a:pt x="215900" y="203200"/>
                </a:lnTo>
                <a:lnTo>
                  <a:pt x="209550" y="196850"/>
                </a:lnTo>
                <a:lnTo>
                  <a:pt x="203200" y="184150"/>
                </a:lnTo>
                <a:lnTo>
                  <a:pt x="190500" y="171450"/>
                </a:lnTo>
                <a:lnTo>
                  <a:pt x="177800" y="158750"/>
                </a:lnTo>
                <a:lnTo>
                  <a:pt x="165100" y="146050"/>
                </a:lnTo>
                <a:lnTo>
                  <a:pt x="146050" y="139700"/>
                </a:lnTo>
                <a:lnTo>
                  <a:pt x="127000" y="127000"/>
                </a:lnTo>
                <a:lnTo>
                  <a:pt x="114300" y="120650"/>
                </a:lnTo>
                <a:lnTo>
                  <a:pt x="88900" y="120650"/>
                </a:lnTo>
                <a:lnTo>
                  <a:pt x="76200" y="114300"/>
                </a:lnTo>
                <a:lnTo>
                  <a:pt x="57150" y="114300"/>
                </a:lnTo>
                <a:lnTo>
                  <a:pt x="38100" y="114300"/>
                </a:lnTo>
                <a:lnTo>
                  <a:pt x="25400" y="120650"/>
                </a:lnTo>
                <a:lnTo>
                  <a:pt x="19050" y="127000"/>
                </a:lnTo>
                <a:lnTo>
                  <a:pt x="12700" y="133350"/>
                </a:lnTo>
                <a:lnTo>
                  <a:pt x="6350" y="146050"/>
                </a:lnTo>
                <a:lnTo>
                  <a:pt x="0" y="152400"/>
                </a:lnTo>
                <a:lnTo>
                  <a:pt x="6350" y="165100"/>
                </a:lnTo>
                <a:lnTo>
                  <a:pt x="12700" y="177800"/>
                </a:lnTo>
                <a:lnTo>
                  <a:pt x="19050" y="184150"/>
                </a:lnTo>
                <a:lnTo>
                  <a:pt x="25400" y="196850"/>
                </a:lnTo>
                <a:lnTo>
                  <a:pt x="44450" y="209550"/>
                </a:lnTo>
                <a:lnTo>
                  <a:pt x="57150" y="222250"/>
                </a:lnTo>
                <a:lnTo>
                  <a:pt x="76200" y="228600"/>
                </a:lnTo>
                <a:lnTo>
                  <a:pt x="95250" y="241300"/>
                </a:lnTo>
                <a:lnTo>
                  <a:pt x="120650" y="247650"/>
                </a:lnTo>
                <a:lnTo>
                  <a:pt x="139700" y="254000"/>
                </a:lnTo>
                <a:lnTo>
                  <a:pt x="158750" y="260350"/>
                </a:lnTo>
                <a:lnTo>
                  <a:pt x="177800" y="260350"/>
                </a:lnTo>
                <a:lnTo>
                  <a:pt x="190500" y="260350"/>
                </a:lnTo>
                <a:lnTo>
                  <a:pt x="203200" y="260350"/>
                </a:lnTo>
                <a:lnTo>
                  <a:pt x="215900" y="254000"/>
                </a:lnTo>
                <a:lnTo>
                  <a:pt x="215900" y="254000"/>
                </a:lnTo>
                <a:lnTo>
                  <a:pt x="228600" y="247650"/>
                </a:lnTo>
                <a:lnTo>
                  <a:pt x="228600" y="2476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97" name="Freeform 58"/>
          <p:cNvSpPr/>
          <p:nvPr/>
        </p:nvSpPr>
        <p:spPr>
          <a:xfrm>
            <a:off x="4915080" y="4076640"/>
            <a:ext cx="139680" cy="362160"/>
          </a:xfrm>
          <a:custGeom>
            <a:avLst/>
            <a:gdLst>
              <a:gd name="textAreaLeft" fmla="*/ 0 w 139680"/>
              <a:gd name="textAreaRight" fmla="*/ 140040 w 139680"/>
              <a:gd name="textAreaTop" fmla="*/ 0 h 362160"/>
              <a:gd name="textAreaBottom" fmla="*/ 362520 h 362160"/>
            </a:gdLst>
            <a:ahLst/>
            <a:rect l="textAreaLeft" t="textAreaTop" r="textAreaRight" b="textAreaBottom"/>
            <a:pathLst>
              <a:path w="139701" h="361951">
                <a:moveTo>
                  <a:pt x="0" y="0"/>
                </a:moveTo>
                <a:lnTo>
                  <a:pt x="0" y="0"/>
                </a:lnTo>
                <a:lnTo>
                  <a:pt x="0" y="0"/>
                </a:lnTo>
                <a:lnTo>
                  <a:pt x="6350" y="0"/>
                </a:lnTo>
                <a:lnTo>
                  <a:pt x="6350" y="6350"/>
                </a:lnTo>
                <a:lnTo>
                  <a:pt x="12700" y="6350"/>
                </a:lnTo>
                <a:lnTo>
                  <a:pt x="12700" y="12700"/>
                </a:lnTo>
                <a:lnTo>
                  <a:pt x="19050" y="25400"/>
                </a:lnTo>
                <a:lnTo>
                  <a:pt x="31750" y="31750"/>
                </a:lnTo>
                <a:lnTo>
                  <a:pt x="38100" y="44450"/>
                </a:lnTo>
                <a:lnTo>
                  <a:pt x="38100" y="63500"/>
                </a:lnTo>
                <a:lnTo>
                  <a:pt x="44450" y="76200"/>
                </a:lnTo>
                <a:lnTo>
                  <a:pt x="50800" y="95250"/>
                </a:lnTo>
                <a:lnTo>
                  <a:pt x="57150" y="114300"/>
                </a:lnTo>
                <a:lnTo>
                  <a:pt x="63500" y="139700"/>
                </a:lnTo>
                <a:lnTo>
                  <a:pt x="69850" y="158750"/>
                </a:lnTo>
                <a:lnTo>
                  <a:pt x="76200" y="184150"/>
                </a:lnTo>
                <a:lnTo>
                  <a:pt x="82550" y="209550"/>
                </a:lnTo>
                <a:lnTo>
                  <a:pt x="88900" y="228600"/>
                </a:lnTo>
                <a:lnTo>
                  <a:pt x="101600" y="254000"/>
                </a:lnTo>
                <a:lnTo>
                  <a:pt x="107950" y="273050"/>
                </a:lnTo>
                <a:lnTo>
                  <a:pt x="120650" y="292100"/>
                </a:lnTo>
                <a:lnTo>
                  <a:pt x="127000" y="311150"/>
                </a:lnTo>
                <a:lnTo>
                  <a:pt x="133350" y="323850"/>
                </a:lnTo>
                <a:lnTo>
                  <a:pt x="133350" y="336550"/>
                </a:lnTo>
                <a:lnTo>
                  <a:pt x="139700" y="349250"/>
                </a:lnTo>
                <a:lnTo>
                  <a:pt x="139700" y="355600"/>
                </a:lnTo>
                <a:lnTo>
                  <a:pt x="139700" y="361950"/>
                </a:lnTo>
                <a:lnTo>
                  <a:pt x="139700" y="361950"/>
                </a:lnTo>
                <a:lnTo>
                  <a:pt x="139700" y="355600"/>
                </a:lnTo>
                <a:lnTo>
                  <a:pt x="133350" y="349250"/>
                </a:lnTo>
                <a:lnTo>
                  <a:pt x="133350" y="349250"/>
                </a:lnTo>
                <a:lnTo>
                  <a:pt x="133350" y="349250"/>
                </a:lnTo>
                <a:lnTo>
                  <a:pt x="133350" y="3492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198" name="Freeform 59"/>
          <p:cNvSpPr/>
          <p:nvPr/>
        </p:nvSpPr>
        <p:spPr>
          <a:xfrm>
            <a:off x="4857840" y="4222800"/>
            <a:ext cx="247680" cy="25200"/>
          </a:xfrm>
          <a:custGeom>
            <a:avLst/>
            <a:gdLst>
              <a:gd name="textAreaLeft" fmla="*/ 0 w 247680"/>
              <a:gd name="textAreaRight" fmla="*/ 248040 w 247680"/>
              <a:gd name="textAreaTop" fmla="*/ 0 h 25200"/>
              <a:gd name="textAreaBottom" fmla="*/ 25560 h 25200"/>
            </a:gdLst>
            <a:ahLst/>
            <a:rect l="textAreaLeft" t="textAreaTop" r="textAreaRight" b="textAreaBottom"/>
            <a:pathLst>
              <a:path w="247651" h="25401">
                <a:moveTo>
                  <a:pt x="12700" y="12700"/>
                </a:moveTo>
                <a:lnTo>
                  <a:pt x="12700" y="12700"/>
                </a:lnTo>
                <a:lnTo>
                  <a:pt x="12700" y="12700"/>
                </a:lnTo>
                <a:lnTo>
                  <a:pt x="6350" y="12700"/>
                </a:lnTo>
                <a:lnTo>
                  <a:pt x="0" y="6350"/>
                </a:lnTo>
                <a:lnTo>
                  <a:pt x="0" y="6350"/>
                </a:lnTo>
                <a:lnTo>
                  <a:pt x="0" y="6350"/>
                </a:lnTo>
                <a:lnTo>
                  <a:pt x="0" y="6350"/>
                </a:lnTo>
                <a:lnTo>
                  <a:pt x="0" y="6350"/>
                </a:lnTo>
                <a:lnTo>
                  <a:pt x="6350" y="6350"/>
                </a:lnTo>
                <a:lnTo>
                  <a:pt x="6350" y="0"/>
                </a:lnTo>
                <a:lnTo>
                  <a:pt x="12700" y="6350"/>
                </a:lnTo>
                <a:lnTo>
                  <a:pt x="25400" y="6350"/>
                </a:lnTo>
                <a:lnTo>
                  <a:pt x="38100" y="6350"/>
                </a:lnTo>
                <a:lnTo>
                  <a:pt x="44450" y="6350"/>
                </a:lnTo>
                <a:lnTo>
                  <a:pt x="63500" y="12700"/>
                </a:lnTo>
                <a:lnTo>
                  <a:pt x="82550" y="12700"/>
                </a:lnTo>
                <a:lnTo>
                  <a:pt x="101600" y="19050"/>
                </a:lnTo>
                <a:lnTo>
                  <a:pt x="120650" y="19050"/>
                </a:lnTo>
                <a:lnTo>
                  <a:pt x="139700" y="25400"/>
                </a:lnTo>
                <a:lnTo>
                  <a:pt x="158750" y="25400"/>
                </a:lnTo>
                <a:lnTo>
                  <a:pt x="177800" y="25400"/>
                </a:lnTo>
                <a:lnTo>
                  <a:pt x="196850" y="25400"/>
                </a:lnTo>
                <a:lnTo>
                  <a:pt x="209550" y="19050"/>
                </a:lnTo>
                <a:lnTo>
                  <a:pt x="222250" y="19050"/>
                </a:lnTo>
                <a:lnTo>
                  <a:pt x="234950" y="12700"/>
                </a:lnTo>
                <a:lnTo>
                  <a:pt x="241300" y="6350"/>
                </a:lnTo>
                <a:lnTo>
                  <a:pt x="241300" y="6350"/>
                </a:lnTo>
                <a:lnTo>
                  <a:pt x="247650" y="0"/>
                </a:lnTo>
                <a:lnTo>
                  <a:pt x="247650" y="0"/>
                </a:lnTo>
              </a:path>
            </a:pathLst>
          </a:custGeom>
          <a:noFill/>
          <a:ln w="38160">
            <a:solidFill>
              <a:srgbClr val="ff0000"/>
            </a:solidFill>
            <a:round/>
          </a:ln>
        </p:spPr>
        <p:style>
          <a:lnRef idx="0"/>
          <a:fillRef idx="0"/>
          <a:effectRef idx="0"/>
          <a:fontRef idx="minor"/>
        </p:style>
        <p:txBody>
          <a:bodyPr tIns="-20160" bIns="-20160" anchor="ctr">
            <a:noAutofit/>
          </a:bodyPr>
          <a:p>
            <a:endParaRPr b="0" lang="en-US" sz="1800" spc="-1" strike="noStrike">
              <a:solidFill>
                <a:srgbClr val="000000"/>
              </a:solidFill>
              <a:latin typeface="Verdana"/>
            </a:endParaRPr>
          </a:p>
        </p:txBody>
      </p:sp>
      <p:sp>
        <p:nvSpPr>
          <p:cNvPr id="199" name="Freeform 60"/>
          <p:cNvSpPr/>
          <p:nvPr/>
        </p:nvSpPr>
        <p:spPr>
          <a:xfrm>
            <a:off x="5162400" y="4172040"/>
            <a:ext cx="571680" cy="260280"/>
          </a:xfrm>
          <a:custGeom>
            <a:avLst/>
            <a:gdLst>
              <a:gd name="textAreaLeft" fmla="*/ 0 w 571680"/>
              <a:gd name="textAreaRight" fmla="*/ 572040 w 571680"/>
              <a:gd name="textAreaTop" fmla="*/ 0 h 260280"/>
              <a:gd name="textAreaBottom" fmla="*/ 260640 h 260280"/>
            </a:gdLst>
            <a:ahLst/>
            <a:rect l="textAreaLeft" t="textAreaTop" r="textAreaRight" b="textAreaBottom"/>
            <a:pathLst>
              <a:path w="571501" h="260351">
                <a:moveTo>
                  <a:pt x="0" y="114300"/>
                </a:moveTo>
                <a:lnTo>
                  <a:pt x="0" y="120650"/>
                </a:lnTo>
                <a:lnTo>
                  <a:pt x="0" y="120650"/>
                </a:lnTo>
                <a:lnTo>
                  <a:pt x="6350" y="120650"/>
                </a:lnTo>
                <a:lnTo>
                  <a:pt x="6350" y="120650"/>
                </a:lnTo>
                <a:lnTo>
                  <a:pt x="6350" y="120650"/>
                </a:lnTo>
                <a:lnTo>
                  <a:pt x="12700" y="120650"/>
                </a:lnTo>
                <a:lnTo>
                  <a:pt x="25400" y="120650"/>
                </a:lnTo>
                <a:lnTo>
                  <a:pt x="31750" y="120650"/>
                </a:lnTo>
                <a:lnTo>
                  <a:pt x="50800" y="120650"/>
                </a:lnTo>
                <a:lnTo>
                  <a:pt x="69850" y="114300"/>
                </a:lnTo>
                <a:lnTo>
                  <a:pt x="82550" y="114300"/>
                </a:lnTo>
                <a:lnTo>
                  <a:pt x="107950" y="107950"/>
                </a:lnTo>
                <a:lnTo>
                  <a:pt x="120650" y="101600"/>
                </a:lnTo>
                <a:lnTo>
                  <a:pt x="133350" y="95250"/>
                </a:lnTo>
                <a:lnTo>
                  <a:pt x="146050" y="88900"/>
                </a:lnTo>
                <a:lnTo>
                  <a:pt x="152400" y="82550"/>
                </a:lnTo>
                <a:lnTo>
                  <a:pt x="158750" y="76200"/>
                </a:lnTo>
                <a:lnTo>
                  <a:pt x="165100" y="63500"/>
                </a:lnTo>
                <a:lnTo>
                  <a:pt x="165100" y="57150"/>
                </a:lnTo>
                <a:lnTo>
                  <a:pt x="171450" y="50800"/>
                </a:lnTo>
                <a:lnTo>
                  <a:pt x="165100" y="38100"/>
                </a:lnTo>
                <a:lnTo>
                  <a:pt x="165100" y="31750"/>
                </a:lnTo>
                <a:lnTo>
                  <a:pt x="158750" y="25400"/>
                </a:lnTo>
                <a:lnTo>
                  <a:pt x="152400" y="19050"/>
                </a:lnTo>
                <a:lnTo>
                  <a:pt x="139700" y="12700"/>
                </a:lnTo>
                <a:lnTo>
                  <a:pt x="127000" y="6350"/>
                </a:lnTo>
                <a:lnTo>
                  <a:pt x="107950" y="6350"/>
                </a:lnTo>
                <a:lnTo>
                  <a:pt x="95250" y="0"/>
                </a:lnTo>
                <a:lnTo>
                  <a:pt x="76200" y="0"/>
                </a:lnTo>
                <a:lnTo>
                  <a:pt x="63500" y="6350"/>
                </a:lnTo>
                <a:lnTo>
                  <a:pt x="50800" y="12700"/>
                </a:lnTo>
                <a:lnTo>
                  <a:pt x="38100" y="19050"/>
                </a:lnTo>
                <a:lnTo>
                  <a:pt x="25400" y="31750"/>
                </a:lnTo>
                <a:lnTo>
                  <a:pt x="19050" y="44450"/>
                </a:lnTo>
                <a:lnTo>
                  <a:pt x="6350" y="57150"/>
                </a:lnTo>
                <a:lnTo>
                  <a:pt x="6350" y="76200"/>
                </a:lnTo>
                <a:lnTo>
                  <a:pt x="0" y="95250"/>
                </a:lnTo>
                <a:lnTo>
                  <a:pt x="0" y="114300"/>
                </a:lnTo>
                <a:lnTo>
                  <a:pt x="6350" y="127000"/>
                </a:lnTo>
                <a:lnTo>
                  <a:pt x="6350" y="152400"/>
                </a:lnTo>
                <a:lnTo>
                  <a:pt x="19050" y="171450"/>
                </a:lnTo>
                <a:lnTo>
                  <a:pt x="25400" y="190500"/>
                </a:lnTo>
                <a:lnTo>
                  <a:pt x="38100" y="209550"/>
                </a:lnTo>
                <a:lnTo>
                  <a:pt x="50800" y="222250"/>
                </a:lnTo>
                <a:lnTo>
                  <a:pt x="69850" y="234950"/>
                </a:lnTo>
                <a:lnTo>
                  <a:pt x="82550" y="247650"/>
                </a:lnTo>
                <a:lnTo>
                  <a:pt x="107950" y="254000"/>
                </a:lnTo>
                <a:lnTo>
                  <a:pt x="120650" y="260350"/>
                </a:lnTo>
                <a:lnTo>
                  <a:pt x="139700" y="260350"/>
                </a:lnTo>
                <a:lnTo>
                  <a:pt x="158750" y="254000"/>
                </a:lnTo>
                <a:lnTo>
                  <a:pt x="171450" y="254000"/>
                </a:lnTo>
                <a:lnTo>
                  <a:pt x="190500" y="247650"/>
                </a:lnTo>
                <a:lnTo>
                  <a:pt x="209550" y="234950"/>
                </a:lnTo>
                <a:lnTo>
                  <a:pt x="222250" y="222250"/>
                </a:lnTo>
                <a:lnTo>
                  <a:pt x="241300" y="209550"/>
                </a:lnTo>
                <a:lnTo>
                  <a:pt x="254000" y="190500"/>
                </a:lnTo>
                <a:lnTo>
                  <a:pt x="260350" y="177800"/>
                </a:lnTo>
                <a:lnTo>
                  <a:pt x="266700" y="158750"/>
                </a:lnTo>
                <a:lnTo>
                  <a:pt x="273050" y="146050"/>
                </a:lnTo>
                <a:lnTo>
                  <a:pt x="279400" y="127000"/>
                </a:lnTo>
                <a:lnTo>
                  <a:pt x="279400" y="107950"/>
                </a:lnTo>
                <a:lnTo>
                  <a:pt x="279400" y="95250"/>
                </a:lnTo>
                <a:lnTo>
                  <a:pt x="279400" y="82550"/>
                </a:lnTo>
                <a:lnTo>
                  <a:pt x="279400" y="76200"/>
                </a:lnTo>
                <a:lnTo>
                  <a:pt x="279400" y="63500"/>
                </a:lnTo>
                <a:lnTo>
                  <a:pt x="273050" y="57150"/>
                </a:lnTo>
                <a:lnTo>
                  <a:pt x="273050" y="50800"/>
                </a:lnTo>
                <a:lnTo>
                  <a:pt x="273050" y="50800"/>
                </a:lnTo>
                <a:lnTo>
                  <a:pt x="273050" y="44450"/>
                </a:lnTo>
                <a:lnTo>
                  <a:pt x="273050" y="50800"/>
                </a:lnTo>
                <a:lnTo>
                  <a:pt x="273050" y="50800"/>
                </a:lnTo>
                <a:lnTo>
                  <a:pt x="279400" y="57150"/>
                </a:lnTo>
                <a:lnTo>
                  <a:pt x="279400" y="69850"/>
                </a:lnTo>
                <a:lnTo>
                  <a:pt x="279400" y="76200"/>
                </a:lnTo>
                <a:lnTo>
                  <a:pt x="285750" y="95250"/>
                </a:lnTo>
                <a:lnTo>
                  <a:pt x="292100" y="114300"/>
                </a:lnTo>
                <a:lnTo>
                  <a:pt x="292100" y="127000"/>
                </a:lnTo>
                <a:lnTo>
                  <a:pt x="298450" y="152400"/>
                </a:lnTo>
                <a:lnTo>
                  <a:pt x="304800" y="171450"/>
                </a:lnTo>
                <a:lnTo>
                  <a:pt x="311150" y="190500"/>
                </a:lnTo>
                <a:lnTo>
                  <a:pt x="317500" y="209550"/>
                </a:lnTo>
                <a:lnTo>
                  <a:pt x="323850" y="228600"/>
                </a:lnTo>
                <a:lnTo>
                  <a:pt x="330200" y="241300"/>
                </a:lnTo>
                <a:lnTo>
                  <a:pt x="336550" y="254000"/>
                </a:lnTo>
                <a:lnTo>
                  <a:pt x="336550" y="260350"/>
                </a:lnTo>
                <a:lnTo>
                  <a:pt x="342900" y="260350"/>
                </a:lnTo>
                <a:lnTo>
                  <a:pt x="342900" y="260350"/>
                </a:lnTo>
                <a:lnTo>
                  <a:pt x="342900" y="260350"/>
                </a:lnTo>
                <a:lnTo>
                  <a:pt x="342900" y="254000"/>
                </a:lnTo>
                <a:lnTo>
                  <a:pt x="336550" y="247650"/>
                </a:lnTo>
                <a:lnTo>
                  <a:pt x="336550" y="241300"/>
                </a:lnTo>
                <a:lnTo>
                  <a:pt x="336550" y="222250"/>
                </a:lnTo>
                <a:lnTo>
                  <a:pt x="336550" y="209550"/>
                </a:lnTo>
                <a:lnTo>
                  <a:pt x="336550" y="190500"/>
                </a:lnTo>
                <a:lnTo>
                  <a:pt x="330200" y="165100"/>
                </a:lnTo>
                <a:lnTo>
                  <a:pt x="336550" y="146050"/>
                </a:lnTo>
                <a:lnTo>
                  <a:pt x="336550" y="120650"/>
                </a:lnTo>
                <a:lnTo>
                  <a:pt x="342900" y="95250"/>
                </a:lnTo>
                <a:lnTo>
                  <a:pt x="349250" y="76200"/>
                </a:lnTo>
                <a:lnTo>
                  <a:pt x="355600" y="69850"/>
                </a:lnTo>
                <a:lnTo>
                  <a:pt x="361950" y="63500"/>
                </a:lnTo>
                <a:lnTo>
                  <a:pt x="381000" y="63500"/>
                </a:lnTo>
                <a:lnTo>
                  <a:pt x="400050" y="63500"/>
                </a:lnTo>
                <a:lnTo>
                  <a:pt x="425450" y="69850"/>
                </a:lnTo>
                <a:lnTo>
                  <a:pt x="457200" y="82550"/>
                </a:lnTo>
                <a:lnTo>
                  <a:pt x="488950" y="95250"/>
                </a:lnTo>
                <a:lnTo>
                  <a:pt x="514350" y="120650"/>
                </a:lnTo>
                <a:lnTo>
                  <a:pt x="552450" y="139700"/>
                </a:lnTo>
                <a:lnTo>
                  <a:pt x="552450" y="139700"/>
                </a:lnTo>
                <a:lnTo>
                  <a:pt x="571500" y="158750"/>
                </a:lnTo>
                <a:lnTo>
                  <a:pt x="571500" y="1587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p:transition>
    <p:wipe dir="r"/>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22" presetSubtype="1">
                                  <p:stCondLst>
                                    <p:cond delay="0"/>
                                  </p:stCondLst>
                                  <p:childTnLst>
                                    <p:set>
                                      <p:cBhvr>
                                        <p:cTn id="164" dur="1" fill="hold">
                                          <p:stCondLst>
                                            <p:cond delay="0"/>
                                          </p:stCondLst>
                                        </p:cTn>
                                        <p:tgtEl>
                                          <p:spTgt spid="141"/>
                                        </p:tgtEl>
                                        <p:attrNameLst>
                                          <p:attrName>style.visibility</p:attrName>
                                        </p:attrNameLst>
                                      </p:cBhvr>
                                      <p:to>
                                        <p:strVal val="visible"/>
                                      </p:to>
                                    </p:set>
                                    <p:animEffect filter="wipe(up)" transition="in">
                                      <p:cBhvr additive="repl">
                                        <p:cTn id="165" dur="500"/>
                                        <p:tgtEl>
                                          <p:spTgt spid="14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42"/>
                                        </p:tgtEl>
                                        <p:attrNameLst>
                                          <p:attrName>style.visibility</p:attrName>
                                        </p:attrNameLst>
                                      </p:cBhvr>
                                      <p:to>
                                        <p:strVal val="visible"/>
                                      </p:to>
                                    </p:set>
                                    <p:animEffect filter="wipe(left)" transition="in">
                                      <p:cBhvr additive="repl">
                                        <p:cTn id="17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0" y="0"/>
            <a:ext cx="9144000" cy="6858000"/>
          </a:xfrm>
          <a:prstGeom prst="rect">
            <a:avLst/>
          </a:prstGeom>
          <a:solidFill>
            <a:srgbClr val="40404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01" name="Picture 11" descr="57106.JPG"/>
          <p:cNvPicPr/>
          <p:nvPr/>
        </p:nvPicPr>
        <p:blipFill>
          <a:blip r:embed="rId1"/>
          <a:stretch/>
        </p:blipFill>
        <p:spPr>
          <a:xfrm>
            <a:off x="3809880" y="671400"/>
            <a:ext cx="4800600" cy="5653080"/>
          </a:xfrm>
          <a:prstGeom prst="rect">
            <a:avLst/>
          </a:prstGeom>
          <a:ln w="0">
            <a:noFill/>
          </a:ln>
        </p:spPr>
      </p:pic>
      <p:sp>
        <p:nvSpPr>
          <p:cNvPr id="202" name="Text Box 13"/>
          <p:cNvSpPr/>
          <p:nvPr/>
        </p:nvSpPr>
        <p:spPr>
          <a:xfrm rot="20233200">
            <a:off x="21240" y="1986480"/>
            <a:ext cx="3962520" cy="169452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u="sng">
                <a:solidFill>
                  <a:srgbClr val="ff0000"/>
                </a:solidFill>
                <a:uFillTx/>
                <a:latin typeface="Verdana"/>
              </a:rPr>
              <a:t>What do you think this character is like? </a:t>
            </a:r>
            <a:endParaRPr b="0" lang="en-US" sz="3500" spc="-1" strike="noStrike">
              <a:solidFill>
                <a:srgbClr val="000000"/>
              </a:solidFill>
              <a:latin typeface="Verdana"/>
            </a:endParaRPr>
          </a:p>
        </p:txBody>
      </p:sp>
      <p:sp>
        <p:nvSpPr>
          <p:cNvPr id="203" name="Freeform 1"/>
          <p:cNvSpPr/>
          <p:nvPr/>
        </p:nvSpPr>
        <p:spPr>
          <a:xfrm>
            <a:off x="3949560" y="857160"/>
            <a:ext cx="247680" cy="374760"/>
          </a:xfrm>
          <a:custGeom>
            <a:avLst/>
            <a:gdLst>
              <a:gd name="textAreaLeft" fmla="*/ 0 w 247680"/>
              <a:gd name="textAreaRight" fmla="*/ 248040 w 247680"/>
              <a:gd name="textAreaTop" fmla="*/ 0 h 374760"/>
              <a:gd name="textAreaBottom" fmla="*/ 375120 h 374760"/>
            </a:gdLst>
            <a:ahLst/>
            <a:rect l="textAreaLeft" t="textAreaTop" r="textAreaRight" b="textAreaBottom"/>
            <a:pathLst>
              <a:path w="247651" h="374651">
                <a:moveTo>
                  <a:pt x="241300" y="82550"/>
                </a:moveTo>
                <a:lnTo>
                  <a:pt x="241300" y="82550"/>
                </a:lnTo>
                <a:lnTo>
                  <a:pt x="241300" y="82550"/>
                </a:lnTo>
                <a:lnTo>
                  <a:pt x="241300" y="82550"/>
                </a:lnTo>
                <a:lnTo>
                  <a:pt x="247650" y="82550"/>
                </a:lnTo>
                <a:lnTo>
                  <a:pt x="247650" y="82550"/>
                </a:lnTo>
                <a:lnTo>
                  <a:pt x="247650" y="82550"/>
                </a:lnTo>
                <a:lnTo>
                  <a:pt x="247650" y="82550"/>
                </a:lnTo>
                <a:lnTo>
                  <a:pt x="247650" y="82550"/>
                </a:lnTo>
                <a:lnTo>
                  <a:pt x="247650" y="82550"/>
                </a:lnTo>
                <a:lnTo>
                  <a:pt x="247650" y="76200"/>
                </a:lnTo>
                <a:lnTo>
                  <a:pt x="247650" y="76200"/>
                </a:lnTo>
                <a:lnTo>
                  <a:pt x="247650" y="69850"/>
                </a:lnTo>
                <a:lnTo>
                  <a:pt x="241300" y="63500"/>
                </a:lnTo>
                <a:lnTo>
                  <a:pt x="241300" y="57150"/>
                </a:lnTo>
                <a:lnTo>
                  <a:pt x="241300" y="50800"/>
                </a:lnTo>
                <a:lnTo>
                  <a:pt x="234950" y="44450"/>
                </a:lnTo>
                <a:lnTo>
                  <a:pt x="228600" y="31750"/>
                </a:lnTo>
                <a:lnTo>
                  <a:pt x="215900" y="25400"/>
                </a:lnTo>
                <a:lnTo>
                  <a:pt x="203200" y="19050"/>
                </a:lnTo>
                <a:lnTo>
                  <a:pt x="190500" y="12700"/>
                </a:lnTo>
                <a:lnTo>
                  <a:pt x="177800" y="6350"/>
                </a:lnTo>
                <a:lnTo>
                  <a:pt x="165100" y="6350"/>
                </a:lnTo>
                <a:lnTo>
                  <a:pt x="152400" y="0"/>
                </a:lnTo>
                <a:lnTo>
                  <a:pt x="139700" y="0"/>
                </a:lnTo>
                <a:lnTo>
                  <a:pt x="120650" y="0"/>
                </a:lnTo>
                <a:lnTo>
                  <a:pt x="107950" y="6350"/>
                </a:lnTo>
                <a:lnTo>
                  <a:pt x="95250" y="6350"/>
                </a:lnTo>
                <a:lnTo>
                  <a:pt x="82550" y="12700"/>
                </a:lnTo>
                <a:lnTo>
                  <a:pt x="63500" y="25400"/>
                </a:lnTo>
                <a:lnTo>
                  <a:pt x="57150" y="31750"/>
                </a:lnTo>
                <a:lnTo>
                  <a:pt x="44450" y="44450"/>
                </a:lnTo>
                <a:lnTo>
                  <a:pt x="38100" y="57150"/>
                </a:lnTo>
                <a:lnTo>
                  <a:pt x="31750" y="69850"/>
                </a:lnTo>
                <a:lnTo>
                  <a:pt x="19050" y="82550"/>
                </a:lnTo>
                <a:lnTo>
                  <a:pt x="12700" y="101600"/>
                </a:lnTo>
                <a:lnTo>
                  <a:pt x="6350" y="114300"/>
                </a:lnTo>
                <a:lnTo>
                  <a:pt x="6350" y="133350"/>
                </a:lnTo>
                <a:lnTo>
                  <a:pt x="0" y="152400"/>
                </a:lnTo>
                <a:lnTo>
                  <a:pt x="0" y="171450"/>
                </a:lnTo>
                <a:lnTo>
                  <a:pt x="0" y="190500"/>
                </a:lnTo>
                <a:lnTo>
                  <a:pt x="0" y="203200"/>
                </a:lnTo>
                <a:lnTo>
                  <a:pt x="0" y="222250"/>
                </a:lnTo>
                <a:lnTo>
                  <a:pt x="6350" y="234950"/>
                </a:lnTo>
                <a:lnTo>
                  <a:pt x="12700" y="254000"/>
                </a:lnTo>
                <a:lnTo>
                  <a:pt x="19050" y="273050"/>
                </a:lnTo>
                <a:lnTo>
                  <a:pt x="25400" y="285750"/>
                </a:lnTo>
                <a:lnTo>
                  <a:pt x="31750" y="304800"/>
                </a:lnTo>
                <a:lnTo>
                  <a:pt x="44450" y="317500"/>
                </a:lnTo>
                <a:lnTo>
                  <a:pt x="50800" y="323850"/>
                </a:lnTo>
                <a:lnTo>
                  <a:pt x="63500" y="336550"/>
                </a:lnTo>
                <a:lnTo>
                  <a:pt x="76200" y="349250"/>
                </a:lnTo>
                <a:lnTo>
                  <a:pt x="88900" y="355600"/>
                </a:lnTo>
                <a:lnTo>
                  <a:pt x="101600" y="361950"/>
                </a:lnTo>
                <a:lnTo>
                  <a:pt x="114300" y="368300"/>
                </a:lnTo>
                <a:lnTo>
                  <a:pt x="133350" y="374650"/>
                </a:lnTo>
                <a:lnTo>
                  <a:pt x="146050" y="374650"/>
                </a:lnTo>
                <a:lnTo>
                  <a:pt x="158750" y="374650"/>
                </a:lnTo>
                <a:lnTo>
                  <a:pt x="171450" y="374650"/>
                </a:lnTo>
                <a:lnTo>
                  <a:pt x="184150" y="368300"/>
                </a:lnTo>
                <a:lnTo>
                  <a:pt x="196850" y="361950"/>
                </a:lnTo>
                <a:lnTo>
                  <a:pt x="203200" y="355600"/>
                </a:lnTo>
                <a:lnTo>
                  <a:pt x="215900" y="349250"/>
                </a:lnTo>
                <a:lnTo>
                  <a:pt x="222250" y="336550"/>
                </a:lnTo>
                <a:lnTo>
                  <a:pt x="222250" y="336550"/>
                </a:lnTo>
                <a:lnTo>
                  <a:pt x="228600" y="330200"/>
                </a:lnTo>
                <a:lnTo>
                  <a:pt x="228600" y="3302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04" name="Freeform 5"/>
          <p:cNvSpPr/>
          <p:nvPr/>
        </p:nvSpPr>
        <p:spPr>
          <a:xfrm>
            <a:off x="4273560" y="952560"/>
            <a:ext cx="25560" cy="203040"/>
          </a:xfrm>
          <a:custGeom>
            <a:avLst/>
            <a:gdLst>
              <a:gd name="textAreaLeft" fmla="*/ 0 w 25560"/>
              <a:gd name="textAreaRight" fmla="*/ 25920 w 25560"/>
              <a:gd name="textAreaTop" fmla="*/ 0 h 203040"/>
              <a:gd name="textAreaBottom" fmla="*/ 203400 h 203040"/>
            </a:gdLst>
            <a:ahLst/>
            <a:rect l="textAreaLeft" t="textAreaTop" r="textAreaRight" b="textAreaBottom"/>
            <a:pathLst>
              <a:path w="25401" h="203201">
                <a:moveTo>
                  <a:pt x="0" y="6350"/>
                </a:moveTo>
                <a:lnTo>
                  <a:pt x="0" y="6350"/>
                </a:lnTo>
                <a:lnTo>
                  <a:pt x="0" y="6350"/>
                </a:lnTo>
                <a:lnTo>
                  <a:pt x="6350" y="0"/>
                </a:lnTo>
                <a:lnTo>
                  <a:pt x="6350" y="0"/>
                </a:lnTo>
                <a:lnTo>
                  <a:pt x="6350" y="0"/>
                </a:lnTo>
                <a:lnTo>
                  <a:pt x="6350" y="0"/>
                </a:lnTo>
                <a:lnTo>
                  <a:pt x="6350" y="0"/>
                </a:lnTo>
                <a:lnTo>
                  <a:pt x="6350" y="0"/>
                </a:lnTo>
                <a:lnTo>
                  <a:pt x="6350" y="0"/>
                </a:lnTo>
                <a:lnTo>
                  <a:pt x="6350" y="0"/>
                </a:lnTo>
                <a:lnTo>
                  <a:pt x="6350" y="0"/>
                </a:lnTo>
                <a:lnTo>
                  <a:pt x="6350" y="0"/>
                </a:lnTo>
                <a:lnTo>
                  <a:pt x="6350" y="0"/>
                </a:lnTo>
                <a:lnTo>
                  <a:pt x="6350" y="6350"/>
                </a:lnTo>
                <a:lnTo>
                  <a:pt x="6350" y="12700"/>
                </a:lnTo>
                <a:lnTo>
                  <a:pt x="0" y="19050"/>
                </a:lnTo>
                <a:lnTo>
                  <a:pt x="0" y="31750"/>
                </a:lnTo>
                <a:lnTo>
                  <a:pt x="0" y="44450"/>
                </a:lnTo>
                <a:lnTo>
                  <a:pt x="0" y="63500"/>
                </a:lnTo>
                <a:lnTo>
                  <a:pt x="0" y="76200"/>
                </a:lnTo>
                <a:lnTo>
                  <a:pt x="0" y="95250"/>
                </a:lnTo>
                <a:lnTo>
                  <a:pt x="0" y="107950"/>
                </a:lnTo>
                <a:lnTo>
                  <a:pt x="6350" y="127000"/>
                </a:lnTo>
                <a:lnTo>
                  <a:pt x="6350" y="139700"/>
                </a:lnTo>
                <a:lnTo>
                  <a:pt x="12700" y="152400"/>
                </a:lnTo>
                <a:lnTo>
                  <a:pt x="12700" y="165100"/>
                </a:lnTo>
                <a:lnTo>
                  <a:pt x="19050" y="177800"/>
                </a:lnTo>
                <a:lnTo>
                  <a:pt x="25400" y="190500"/>
                </a:lnTo>
                <a:lnTo>
                  <a:pt x="25400" y="196850"/>
                </a:lnTo>
                <a:lnTo>
                  <a:pt x="25400" y="203200"/>
                </a:lnTo>
                <a:lnTo>
                  <a:pt x="25400" y="203200"/>
                </a:lnTo>
                <a:lnTo>
                  <a:pt x="25400" y="203200"/>
                </a:lnTo>
                <a:lnTo>
                  <a:pt x="25400" y="203200"/>
                </a:lnTo>
                <a:lnTo>
                  <a:pt x="25400" y="203200"/>
                </a:lnTo>
                <a:lnTo>
                  <a:pt x="25400" y="196850"/>
                </a:lnTo>
                <a:lnTo>
                  <a:pt x="19050" y="190500"/>
                </a:lnTo>
                <a:lnTo>
                  <a:pt x="12700" y="171450"/>
                </a:lnTo>
                <a:lnTo>
                  <a:pt x="12700" y="158750"/>
                </a:lnTo>
                <a:lnTo>
                  <a:pt x="12700" y="146050"/>
                </a:lnTo>
                <a:lnTo>
                  <a:pt x="12700" y="146050"/>
                </a:lnTo>
                <a:lnTo>
                  <a:pt x="12700" y="133350"/>
                </a:lnTo>
                <a:lnTo>
                  <a:pt x="12700" y="1333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05" name="Freeform 6"/>
          <p:cNvSpPr/>
          <p:nvPr/>
        </p:nvSpPr>
        <p:spPr>
          <a:xfrm>
            <a:off x="4273560" y="831960"/>
            <a:ext cx="12600" cy="6120"/>
          </a:xfrm>
          <a:custGeom>
            <a:avLst/>
            <a:gdLst>
              <a:gd name="textAreaLeft" fmla="*/ 0 w 12600"/>
              <a:gd name="textAreaRight" fmla="*/ 12960 w 12600"/>
              <a:gd name="textAreaTop" fmla="*/ 0 h 6120"/>
              <a:gd name="textAreaBottom" fmla="*/ 6480 h 6120"/>
            </a:gdLst>
            <a:ahLst/>
            <a:rect l="textAreaLeft" t="textAreaTop" r="textAreaRight" b="textAreaBottom"/>
            <a:pathLst>
              <a:path w="12701" h="6351">
                <a:moveTo>
                  <a:pt x="0" y="0"/>
                </a:moveTo>
                <a:lnTo>
                  <a:pt x="6350" y="6350"/>
                </a:lnTo>
                <a:lnTo>
                  <a:pt x="6350" y="6350"/>
                </a:lnTo>
                <a:lnTo>
                  <a:pt x="6350" y="6350"/>
                </a:lnTo>
                <a:lnTo>
                  <a:pt x="6350" y="6350"/>
                </a:lnTo>
                <a:lnTo>
                  <a:pt x="12700" y="6350"/>
                </a:lnTo>
                <a:lnTo>
                  <a:pt x="12700" y="6350"/>
                </a:lnTo>
                <a:lnTo>
                  <a:pt x="12700" y="6350"/>
                </a:lnTo>
                <a:lnTo>
                  <a:pt x="12700" y="6350"/>
                </a:lnTo>
                <a:lnTo>
                  <a:pt x="12700" y="6350"/>
                </a:lnTo>
                <a:lnTo>
                  <a:pt x="12700" y="6350"/>
                </a:lnTo>
                <a:lnTo>
                  <a:pt x="12700" y="6350"/>
                </a:lnTo>
              </a:path>
            </a:pathLst>
          </a:custGeom>
          <a:noFill/>
          <a:ln w="38160">
            <a:solidFill>
              <a:srgbClr val="ff0000"/>
            </a:solidFill>
            <a:round/>
          </a:ln>
        </p:spPr>
        <p:style>
          <a:lnRef idx="0"/>
          <a:fillRef idx="0"/>
          <a:effectRef idx="0"/>
          <a:fontRef idx="minor"/>
        </p:style>
        <p:txBody>
          <a:bodyPr tIns="-39240" bIns="-39240" anchor="ctr">
            <a:noAutofit/>
          </a:bodyPr>
          <a:p>
            <a:endParaRPr b="0" lang="en-US" sz="1800" spc="-1" strike="noStrike">
              <a:solidFill>
                <a:srgbClr val="000000"/>
              </a:solidFill>
              <a:latin typeface="Verdana"/>
            </a:endParaRPr>
          </a:p>
        </p:txBody>
      </p:sp>
      <p:sp>
        <p:nvSpPr>
          <p:cNvPr id="206" name="Freeform 7"/>
          <p:cNvSpPr/>
          <p:nvPr/>
        </p:nvSpPr>
        <p:spPr>
          <a:xfrm>
            <a:off x="4381560" y="762120"/>
            <a:ext cx="50760" cy="393480"/>
          </a:xfrm>
          <a:custGeom>
            <a:avLst/>
            <a:gdLst>
              <a:gd name="textAreaLeft" fmla="*/ 0 w 50760"/>
              <a:gd name="textAreaRight" fmla="*/ 51120 w 50760"/>
              <a:gd name="textAreaTop" fmla="*/ 0 h 393480"/>
              <a:gd name="textAreaBottom" fmla="*/ 393840 h 393480"/>
            </a:gdLst>
            <a:ahLst/>
            <a:rect l="textAreaLeft" t="textAreaTop" r="textAreaRight" b="textAreaBottom"/>
            <a:pathLst>
              <a:path w="50801" h="393701">
                <a:moveTo>
                  <a:pt x="38100" y="0"/>
                </a:moveTo>
                <a:lnTo>
                  <a:pt x="44450" y="0"/>
                </a:lnTo>
                <a:lnTo>
                  <a:pt x="44450" y="0"/>
                </a:lnTo>
                <a:lnTo>
                  <a:pt x="44450" y="6350"/>
                </a:lnTo>
                <a:lnTo>
                  <a:pt x="44450" y="6350"/>
                </a:lnTo>
                <a:lnTo>
                  <a:pt x="44450" y="6350"/>
                </a:lnTo>
                <a:lnTo>
                  <a:pt x="44450" y="6350"/>
                </a:lnTo>
                <a:lnTo>
                  <a:pt x="50800" y="12700"/>
                </a:lnTo>
                <a:lnTo>
                  <a:pt x="50800" y="19050"/>
                </a:lnTo>
                <a:lnTo>
                  <a:pt x="50800" y="25400"/>
                </a:lnTo>
                <a:lnTo>
                  <a:pt x="50800" y="38100"/>
                </a:lnTo>
                <a:lnTo>
                  <a:pt x="50800" y="50800"/>
                </a:lnTo>
                <a:lnTo>
                  <a:pt x="50800" y="63500"/>
                </a:lnTo>
                <a:lnTo>
                  <a:pt x="44450" y="76200"/>
                </a:lnTo>
                <a:lnTo>
                  <a:pt x="44450" y="95250"/>
                </a:lnTo>
                <a:lnTo>
                  <a:pt x="44450" y="114300"/>
                </a:lnTo>
                <a:lnTo>
                  <a:pt x="44450" y="139700"/>
                </a:lnTo>
                <a:lnTo>
                  <a:pt x="44450" y="158750"/>
                </a:lnTo>
                <a:lnTo>
                  <a:pt x="38100" y="177800"/>
                </a:lnTo>
                <a:lnTo>
                  <a:pt x="38100" y="203200"/>
                </a:lnTo>
                <a:lnTo>
                  <a:pt x="44450" y="222250"/>
                </a:lnTo>
                <a:lnTo>
                  <a:pt x="44450" y="247650"/>
                </a:lnTo>
                <a:lnTo>
                  <a:pt x="44450" y="266700"/>
                </a:lnTo>
                <a:lnTo>
                  <a:pt x="44450" y="285750"/>
                </a:lnTo>
                <a:lnTo>
                  <a:pt x="44450" y="304800"/>
                </a:lnTo>
                <a:lnTo>
                  <a:pt x="44450" y="317500"/>
                </a:lnTo>
                <a:lnTo>
                  <a:pt x="44450" y="336550"/>
                </a:lnTo>
                <a:lnTo>
                  <a:pt x="44450" y="349250"/>
                </a:lnTo>
                <a:lnTo>
                  <a:pt x="44450" y="361950"/>
                </a:lnTo>
                <a:lnTo>
                  <a:pt x="44450" y="374650"/>
                </a:lnTo>
                <a:lnTo>
                  <a:pt x="44450" y="381000"/>
                </a:lnTo>
                <a:lnTo>
                  <a:pt x="44450" y="387350"/>
                </a:lnTo>
                <a:lnTo>
                  <a:pt x="44450" y="387350"/>
                </a:lnTo>
                <a:lnTo>
                  <a:pt x="44450" y="393700"/>
                </a:lnTo>
                <a:lnTo>
                  <a:pt x="44450" y="393700"/>
                </a:lnTo>
                <a:lnTo>
                  <a:pt x="44450" y="387350"/>
                </a:lnTo>
                <a:lnTo>
                  <a:pt x="44450" y="387350"/>
                </a:lnTo>
                <a:lnTo>
                  <a:pt x="44450" y="381000"/>
                </a:lnTo>
                <a:lnTo>
                  <a:pt x="38100" y="368300"/>
                </a:lnTo>
                <a:lnTo>
                  <a:pt x="38100" y="355600"/>
                </a:lnTo>
                <a:lnTo>
                  <a:pt x="31750" y="349250"/>
                </a:lnTo>
                <a:lnTo>
                  <a:pt x="25400" y="336550"/>
                </a:lnTo>
                <a:lnTo>
                  <a:pt x="19050" y="323850"/>
                </a:lnTo>
                <a:lnTo>
                  <a:pt x="12700" y="317500"/>
                </a:lnTo>
                <a:lnTo>
                  <a:pt x="6350" y="311150"/>
                </a:lnTo>
                <a:lnTo>
                  <a:pt x="6350" y="311150"/>
                </a:lnTo>
                <a:lnTo>
                  <a:pt x="0" y="298450"/>
                </a:lnTo>
                <a:lnTo>
                  <a:pt x="0" y="2984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07" name="Freeform 8"/>
          <p:cNvSpPr/>
          <p:nvPr/>
        </p:nvSpPr>
        <p:spPr>
          <a:xfrm>
            <a:off x="4330800" y="946080"/>
            <a:ext cx="215640" cy="50760"/>
          </a:xfrm>
          <a:custGeom>
            <a:avLst/>
            <a:gdLst>
              <a:gd name="textAreaLeft" fmla="*/ 0 w 215640"/>
              <a:gd name="textAreaRight" fmla="*/ 216000 w 215640"/>
              <a:gd name="textAreaTop" fmla="*/ 0 h 50760"/>
              <a:gd name="textAreaBottom" fmla="*/ 51120 h 50760"/>
            </a:gdLst>
            <a:ahLst/>
            <a:rect l="textAreaLeft" t="textAreaTop" r="textAreaRight" b="textAreaBottom"/>
            <a:pathLst>
              <a:path w="215901" h="50801">
                <a:moveTo>
                  <a:pt x="0" y="50800"/>
                </a:moveTo>
                <a:lnTo>
                  <a:pt x="0" y="50800"/>
                </a:lnTo>
                <a:lnTo>
                  <a:pt x="0" y="50800"/>
                </a:lnTo>
                <a:lnTo>
                  <a:pt x="0" y="44450"/>
                </a:lnTo>
                <a:lnTo>
                  <a:pt x="0" y="44450"/>
                </a:lnTo>
                <a:lnTo>
                  <a:pt x="0" y="44450"/>
                </a:lnTo>
                <a:lnTo>
                  <a:pt x="0" y="44450"/>
                </a:lnTo>
                <a:lnTo>
                  <a:pt x="0" y="44450"/>
                </a:lnTo>
                <a:lnTo>
                  <a:pt x="6350" y="44450"/>
                </a:lnTo>
                <a:lnTo>
                  <a:pt x="19050" y="44450"/>
                </a:lnTo>
                <a:lnTo>
                  <a:pt x="31750" y="38100"/>
                </a:lnTo>
                <a:lnTo>
                  <a:pt x="44450" y="38100"/>
                </a:lnTo>
                <a:lnTo>
                  <a:pt x="57150" y="38100"/>
                </a:lnTo>
                <a:lnTo>
                  <a:pt x="76200" y="38100"/>
                </a:lnTo>
                <a:lnTo>
                  <a:pt x="95250" y="38100"/>
                </a:lnTo>
                <a:lnTo>
                  <a:pt x="107950" y="31750"/>
                </a:lnTo>
                <a:lnTo>
                  <a:pt x="127000" y="31750"/>
                </a:lnTo>
                <a:lnTo>
                  <a:pt x="146050" y="25400"/>
                </a:lnTo>
                <a:lnTo>
                  <a:pt x="165100" y="25400"/>
                </a:lnTo>
                <a:lnTo>
                  <a:pt x="177800" y="19050"/>
                </a:lnTo>
                <a:lnTo>
                  <a:pt x="190500" y="12700"/>
                </a:lnTo>
                <a:lnTo>
                  <a:pt x="196850" y="12700"/>
                </a:lnTo>
                <a:lnTo>
                  <a:pt x="209550" y="6350"/>
                </a:lnTo>
                <a:lnTo>
                  <a:pt x="209550" y="6350"/>
                </a:lnTo>
                <a:lnTo>
                  <a:pt x="215900" y="0"/>
                </a:lnTo>
                <a:lnTo>
                  <a:pt x="215900" y="0"/>
                </a:lnTo>
              </a:path>
            </a:pathLst>
          </a:custGeom>
          <a:noFill/>
          <a:ln w="38160">
            <a:solidFill>
              <a:srgbClr val="ff0000"/>
            </a:solidFill>
            <a:round/>
          </a:ln>
        </p:spPr>
        <p:style>
          <a:lnRef idx="0"/>
          <a:fillRef idx="0"/>
          <a:effectRef idx="0"/>
          <a:fontRef idx="minor"/>
        </p:style>
        <p:txBody>
          <a:bodyPr tIns="5400" bIns="5400" anchor="ctr">
            <a:noAutofit/>
          </a:bodyPr>
          <a:p>
            <a:endParaRPr b="0" lang="en-US" sz="1800" spc="-1" strike="noStrike">
              <a:solidFill>
                <a:srgbClr val="000000"/>
              </a:solidFill>
              <a:latin typeface="Verdana"/>
            </a:endParaRPr>
          </a:p>
        </p:txBody>
      </p:sp>
      <p:sp>
        <p:nvSpPr>
          <p:cNvPr id="208" name="Freeform 9"/>
          <p:cNvSpPr/>
          <p:nvPr/>
        </p:nvSpPr>
        <p:spPr>
          <a:xfrm>
            <a:off x="4584600" y="901800"/>
            <a:ext cx="279360" cy="387360"/>
          </a:xfrm>
          <a:custGeom>
            <a:avLst/>
            <a:gdLst>
              <a:gd name="textAreaLeft" fmla="*/ 0 w 279360"/>
              <a:gd name="textAreaRight" fmla="*/ 279720 w 279360"/>
              <a:gd name="textAreaTop" fmla="*/ 0 h 387360"/>
              <a:gd name="textAreaBottom" fmla="*/ 387720 h 387360"/>
            </a:gdLst>
            <a:ahLst/>
            <a:rect l="textAreaLeft" t="textAreaTop" r="textAreaRight" b="textAreaBottom"/>
            <a:pathLst>
              <a:path w="279401" h="387351">
                <a:moveTo>
                  <a:pt x="0" y="12700"/>
                </a:moveTo>
                <a:lnTo>
                  <a:pt x="0" y="19050"/>
                </a:lnTo>
                <a:lnTo>
                  <a:pt x="0" y="19050"/>
                </a:lnTo>
                <a:lnTo>
                  <a:pt x="0" y="19050"/>
                </a:lnTo>
                <a:lnTo>
                  <a:pt x="0" y="19050"/>
                </a:lnTo>
                <a:lnTo>
                  <a:pt x="0" y="25400"/>
                </a:lnTo>
                <a:lnTo>
                  <a:pt x="6350" y="25400"/>
                </a:lnTo>
                <a:lnTo>
                  <a:pt x="6350" y="25400"/>
                </a:lnTo>
                <a:lnTo>
                  <a:pt x="6350" y="31750"/>
                </a:lnTo>
                <a:lnTo>
                  <a:pt x="12700" y="38100"/>
                </a:lnTo>
                <a:lnTo>
                  <a:pt x="12700" y="44450"/>
                </a:lnTo>
                <a:lnTo>
                  <a:pt x="19050" y="57150"/>
                </a:lnTo>
                <a:lnTo>
                  <a:pt x="19050" y="63500"/>
                </a:lnTo>
                <a:lnTo>
                  <a:pt x="25400" y="76200"/>
                </a:lnTo>
                <a:lnTo>
                  <a:pt x="31750" y="88900"/>
                </a:lnTo>
                <a:lnTo>
                  <a:pt x="31750" y="101600"/>
                </a:lnTo>
                <a:lnTo>
                  <a:pt x="38100" y="120650"/>
                </a:lnTo>
                <a:lnTo>
                  <a:pt x="44450" y="139700"/>
                </a:lnTo>
                <a:lnTo>
                  <a:pt x="57150" y="152400"/>
                </a:lnTo>
                <a:lnTo>
                  <a:pt x="63500" y="165100"/>
                </a:lnTo>
                <a:lnTo>
                  <a:pt x="69850" y="177800"/>
                </a:lnTo>
                <a:lnTo>
                  <a:pt x="82550" y="184150"/>
                </a:lnTo>
                <a:lnTo>
                  <a:pt x="88900" y="190500"/>
                </a:lnTo>
                <a:lnTo>
                  <a:pt x="101600" y="203200"/>
                </a:lnTo>
                <a:lnTo>
                  <a:pt x="114300" y="203200"/>
                </a:lnTo>
                <a:lnTo>
                  <a:pt x="127000" y="203200"/>
                </a:lnTo>
                <a:lnTo>
                  <a:pt x="133350" y="203200"/>
                </a:lnTo>
                <a:lnTo>
                  <a:pt x="146050" y="203200"/>
                </a:lnTo>
                <a:lnTo>
                  <a:pt x="158750" y="190500"/>
                </a:lnTo>
                <a:lnTo>
                  <a:pt x="165100" y="184150"/>
                </a:lnTo>
                <a:lnTo>
                  <a:pt x="177800" y="177800"/>
                </a:lnTo>
                <a:lnTo>
                  <a:pt x="184150" y="158750"/>
                </a:lnTo>
                <a:lnTo>
                  <a:pt x="190500" y="152400"/>
                </a:lnTo>
                <a:lnTo>
                  <a:pt x="196850" y="133350"/>
                </a:lnTo>
                <a:lnTo>
                  <a:pt x="209550" y="120650"/>
                </a:lnTo>
                <a:lnTo>
                  <a:pt x="209550" y="101600"/>
                </a:lnTo>
                <a:lnTo>
                  <a:pt x="215900" y="88900"/>
                </a:lnTo>
                <a:lnTo>
                  <a:pt x="215900" y="76200"/>
                </a:lnTo>
                <a:lnTo>
                  <a:pt x="215900" y="63500"/>
                </a:lnTo>
                <a:lnTo>
                  <a:pt x="215900" y="50800"/>
                </a:lnTo>
                <a:lnTo>
                  <a:pt x="209550" y="38100"/>
                </a:lnTo>
                <a:lnTo>
                  <a:pt x="203200" y="31750"/>
                </a:lnTo>
                <a:lnTo>
                  <a:pt x="203200" y="19050"/>
                </a:lnTo>
                <a:lnTo>
                  <a:pt x="196850" y="12700"/>
                </a:lnTo>
                <a:lnTo>
                  <a:pt x="196850" y="6350"/>
                </a:lnTo>
                <a:lnTo>
                  <a:pt x="196850" y="6350"/>
                </a:lnTo>
                <a:lnTo>
                  <a:pt x="196850" y="6350"/>
                </a:lnTo>
                <a:lnTo>
                  <a:pt x="196850" y="0"/>
                </a:lnTo>
                <a:lnTo>
                  <a:pt x="196850" y="0"/>
                </a:lnTo>
                <a:lnTo>
                  <a:pt x="196850" y="6350"/>
                </a:lnTo>
                <a:lnTo>
                  <a:pt x="203200" y="6350"/>
                </a:lnTo>
                <a:lnTo>
                  <a:pt x="203200" y="12700"/>
                </a:lnTo>
                <a:lnTo>
                  <a:pt x="209550" y="19050"/>
                </a:lnTo>
                <a:lnTo>
                  <a:pt x="222250" y="25400"/>
                </a:lnTo>
                <a:lnTo>
                  <a:pt x="222250" y="38100"/>
                </a:lnTo>
                <a:lnTo>
                  <a:pt x="228600" y="50800"/>
                </a:lnTo>
                <a:lnTo>
                  <a:pt x="241300" y="63500"/>
                </a:lnTo>
                <a:lnTo>
                  <a:pt x="247650" y="82550"/>
                </a:lnTo>
                <a:lnTo>
                  <a:pt x="254000" y="95250"/>
                </a:lnTo>
                <a:lnTo>
                  <a:pt x="266700" y="120650"/>
                </a:lnTo>
                <a:lnTo>
                  <a:pt x="273050" y="139700"/>
                </a:lnTo>
                <a:lnTo>
                  <a:pt x="273050" y="158750"/>
                </a:lnTo>
                <a:lnTo>
                  <a:pt x="279400" y="177800"/>
                </a:lnTo>
                <a:lnTo>
                  <a:pt x="279400" y="203200"/>
                </a:lnTo>
                <a:lnTo>
                  <a:pt x="279400" y="222250"/>
                </a:lnTo>
                <a:lnTo>
                  <a:pt x="279400" y="241300"/>
                </a:lnTo>
                <a:lnTo>
                  <a:pt x="279400" y="266700"/>
                </a:lnTo>
                <a:lnTo>
                  <a:pt x="273050" y="279400"/>
                </a:lnTo>
                <a:lnTo>
                  <a:pt x="273050" y="304800"/>
                </a:lnTo>
                <a:lnTo>
                  <a:pt x="266700" y="317500"/>
                </a:lnTo>
                <a:lnTo>
                  <a:pt x="254000" y="336550"/>
                </a:lnTo>
                <a:lnTo>
                  <a:pt x="247650" y="342900"/>
                </a:lnTo>
                <a:lnTo>
                  <a:pt x="234950" y="355600"/>
                </a:lnTo>
                <a:lnTo>
                  <a:pt x="222250" y="368300"/>
                </a:lnTo>
                <a:lnTo>
                  <a:pt x="203200" y="374650"/>
                </a:lnTo>
                <a:lnTo>
                  <a:pt x="190500" y="381000"/>
                </a:lnTo>
                <a:lnTo>
                  <a:pt x="171450" y="387350"/>
                </a:lnTo>
                <a:lnTo>
                  <a:pt x="152400" y="387350"/>
                </a:lnTo>
                <a:lnTo>
                  <a:pt x="133350" y="387350"/>
                </a:lnTo>
                <a:lnTo>
                  <a:pt x="107950" y="387350"/>
                </a:lnTo>
                <a:lnTo>
                  <a:pt x="88900" y="387350"/>
                </a:lnTo>
                <a:lnTo>
                  <a:pt x="88900" y="387350"/>
                </a:lnTo>
                <a:lnTo>
                  <a:pt x="69850" y="381000"/>
                </a:lnTo>
                <a:lnTo>
                  <a:pt x="69850" y="3810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09" name="Freeform 10"/>
          <p:cNvSpPr/>
          <p:nvPr/>
        </p:nvSpPr>
        <p:spPr>
          <a:xfrm>
            <a:off x="3930480" y="1200240"/>
            <a:ext cx="819360" cy="108000"/>
          </a:xfrm>
          <a:custGeom>
            <a:avLst/>
            <a:gdLst>
              <a:gd name="textAreaLeft" fmla="*/ 0 w 819360"/>
              <a:gd name="textAreaRight" fmla="*/ 819720 w 819360"/>
              <a:gd name="textAreaTop" fmla="*/ 0 h 108000"/>
              <a:gd name="textAreaBottom" fmla="*/ 108360 h 108000"/>
            </a:gdLst>
            <a:ahLst/>
            <a:rect l="textAreaLeft" t="textAreaTop" r="textAreaRight" b="textAreaBottom"/>
            <a:pathLst>
              <a:path w="819151" h="107951">
                <a:moveTo>
                  <a:pt x="0" y="107950"/>
                </a:moveTo>
                <a:lnTo>
                  <a:pt x="0" y="107950"/>
                </a:lnTo>
                <a:lnTo>
                  <a:pt x="6350" y="107950"/>
                </a:lnTo>
                <a:lnTo>
                  <a:pt x="6350" y="107950"/>
                </a:lnTo>
                <a:lnTo>
                  <a:pt x="12700" y="107950"/>
                </a:lnTo>
                <a:lnTo>
                  <a:pt x="12700" y="107950"/>
                </a:lnTo>
                <a:lnTo>
                  <a:pt x="19050" y="107950"/>
                </a:lnTo>
                <a:lnTo>
                  <a:pt x="25400" y="101600"/>
                </a:lnTo>
                <a:lnTo>
                  <a:pt x="31750" y="101600"/>
                </a:lnTo>
                <a:lnTo>
                  <a:pt x="44450" y="101600"/>
                </a:lnTo>
                <a:lnTo>
                  <a:pt x="50800" y="101600"/>
                </a:lnTo>
                <a:lnTo>
                  <a:pt x="63500" y="95250"/>
                </a:lnTo>
                <a:lnTo>
                  <a:pt x="76200" y="95250"/>
                </a:lnTo>
                <a:lnTo>
                  <a:pt x="88900" y="95250"/>
                </a:lnTo>
                <a:lnTo>
                  <a:pt x="101600" y="95250"/>
                </a:lnTo>
                <a:lnTo>
                  <a:pt x="120650" y="88900"/>
                </a:lnTo>
                <a:lnTo>
                  <a:pt x="133350" y="88900"/>
                </a:lnTo>
                <a:lnTo>
                  <a:pt x="152400" y="88900"/>
                </a:lnTo>
                <a:lnTo>
                  <a:pt x="171450" y="82550"/>
                </a:lnTo>
                <a:lnTo>
                  <a:pt x="196850" y="76200"/>
                </a:lnTo>
                <a:lnTo>
                  <a:pt x="222250" y="76200"/>
                </a:lnTo>
                <a:lnTo>
                  <a:pt x="247650" y="69850"/>
                </a:lnTo>
                <a:lnTo>
                  <a:pt x="273050" y="69850"/>
                </a:lnTo>
                <a:lnTo>
                  <a:pt x="298450" y="63500"/>
                </a:lnTo>
                <a:lnTo>
                  <a:pt x="323850" y="57150"/>
                </a:lnTo>
                <a:lnTo>
                  <a:pt x="355600" y="57150"/>
                </a:lnTo>
                <a:lnTo>
                  <a:pt x="381000" y="50800"/>
                </a:lnTo>
                <a:lnTo>
                  <a:pt x="412750" y="50800"/>
                </a:lnTo>
                <a:lnTo>
                  <a:pt x="438150" y="44450"/>
                </a:lnTo>
                <a:lnTo>
                  <a:pt x="469900" y="38100"/>
                </a:lnTo>
                <a:lnTo>
                  <a:pt x="495300" y="38100"/>
                </a:lnTo>
                <a:lnTo>
                  <a:pt x="533400" y="31750"/>
                </a:lnTo>
                <a:lnTo>
                  <a:pt x="565150" y="31750"/>
                </a:lnTo>
                <a:lnTo>
                  <a:pt x="590550" y="25400"/>
                </a:lnTo>
                <a:lnTo>
                  <a:pt x="622300" y="25400"/>
                </a:lnTo>
                <a:lnTo>
                  <a:pt x="647700" y="19050"/>
                </a:lnTo>
                <a:lnTo>
                  <a:pt x="679450" y="19050"/>
                </a:lnTo>
                <a:lnTo>
                  <a:pt x="704850" y="12700"/>
                </a:lnTo>
                <a:lnTo>
                  <a:pt x="730250" y="12700"/>
                </a:lnTo>
                <a:lnTo>
                  <a:pt x="755650" y="6350"/>
                </a:lnTo>
                <a:lnTo>
                  <a:pt x="774700" y="6350"/>
                </a:lnTo>
                <a:lnTo>
                  <a:pt x="787400" y="6350"/>
                </a:lnTo>
                <a:lnTo>
                  <a:pt x="800100" y="6350"/>
                </a:lnTo>
                <a:lnTo>
                  <a:pt x="806450" y="6350"/>
                </a:lnTo>
                <a:lnTo>
                  <a:pt x="812800" y="6350"/>
                </a:lnTo>
                <a:lnTo>
                  <a:pt x="812800" y="6350"/>
                </a:lnTo>
                <a:lnTo>
                  <a:pt x="819150" y="0"/>
                </a:lnTo>
                <a:lnTo>
                  <a:pt x="819150" y="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10" name="Freeform 11"/>
          <p:cNvSpPr/>
          <p:nvPr/>
        </p:nvSpPr>
        <p:spPr>
          <a:xfrm>
            <a:off x="3530520" y="1644480"/>
            <a:ext cx="184320" cy="19080"/>
          </a:xfrm>
          <a:custGeom>
            <a:avLst/>
            <a:gdLst>
              <a:gd name="textAreaLeft" fmla="*/ 0 w 184320"/>
              <a:gd name="textAreaRight" fmla="*/ 184680 w 184320"/>
              <a:gd name="textAreaTop" fmla="*/ 0 h 19080"/>
              <a:gd name="textAreaBottom" fmla="*/ 19440 h 19080"/>
            </a:gdLst>
            <a:ahLst/>
            <a:rect l="textAreaLeft" t="textAreaTop" r="textAreaRight" b="textAreaBottom"/>
            <a:pathLst>
              <a:path w="184151" h="19051">
                <a:moveTo>
                  <a:pt x="0" y="19050"/>
                </a:moveTo>
                <a:lnTo>
                  <a:pt x="6350" y="19050"/>
                </a:lnTo>
                <a:lnTo>
                  <a:pt x="6350" y="19050"/>
                </a:lnTo>
                <a:lnTo>
                  <a:pt x="12700" y="19050"/>
                </a:lnTo>
                <a:lnTo>
                  <a:pt x="12700" y="19050"/>
                </a:lnTo>
                <a:lnTo>
                  <a:pt x="19050" y="19050"/>
                </a:lnTo>
                <a:lnTo>
                  <a:pt x="25400" y="19050"/>
                </a:lnTo>
                <a:lnTo>
                  <a:pt x="31750" y="19050"/>
                </a:lnTo>
                <a:lnTo>
                  <a:pt x="38100" y="19050"/>
                </a:lnTo>
                <a:lnTo>
                  <a:pt x="44450" y="19050"/>
                </a:lnTo>
                <a:lnTo>
                  <a:pt x="57150" y="19050"/>
                </a:lnTo>
                <a:lnTo>
                  <a:pt x="63500" y="19050"/>
                </a:lnTo>
                <a:lnTo>
                  <a:pt x="76200" y="12700"/>
                </a:lnTo>
                <a:lnTo>
                  <a:pt x="88900" y="12700"/>
                </a:lnTo>
                <a:lnTo>
                  <a:pt x="95250" y="12700"/>
                </a:lnTo>
                <a:lnTo>
                  <a:pt x="107950" y="12700"/>
                </a:lnTo>
                <a:lnTo>
                  <a:pt x="120650" y="12700"/>
                </a:lnTo>
                <a:lnTo>
                  <a:pt x="139700" y="6350"/>
                </a:lnTo>
                <a:lnTo>
                  <a:pt x="146050" y="6350"/>
                </a:lnTo>
                <a:lnTo>
                  <a:pt x="158750" y="6350"/>
                </a:lnTo>
                <a:lnTo>
                  <a:pt x="171450" y="6350"/>
                </a:lnTo>
                <a:lnTo>
                  <a:pt x="177800" y="6350"/>
                </a:lnTo>
                <a:lnTo>
                  <a:pt x="177800" y="6350"/>
                </a:lnTo>
                <a:lnTo>
                  <a:pt x="184150" y="0"/>
                </a:lnTo>
                <a:lnTo>
                  <a:pt x="184150" y="0"/>
                </a:lnTo>
              </a:path>
            </a:pathLst>
          </a:custGeom>
          <a:noFill/>
          <a:ln w="38160">
            <a:solidFill>
              <a:srgbClr val="ff0000"/>
            </a:solidFill>
            <a:round/>
          </a:ln>
        </p:spPr>
        <p:style>
          <a:lnRef idx="0"/>
          <a:fillRef idx="0"/>
          <a:effectRef idx="0"/>
          <a:fontRef idx="minor"/>
        </p:style>
        <p:txBody>
          <a:bodyPr tIns="-26280" bIns="-26280" anchor="ctr">
            <a:noAutofit/>
          </a:bodyPr>
          <a:p>
            <a:endParaRPr b="0" lang="en-US" sz="1800" spc="-1" strike="noStrike">
              <a:solidFill>
                <a:srgbClr val="000000"/>
              </a:solidFill>
              <a:latin typeface="Verdana"/>
            </a:endParaRPr>
          </a:p>
        </p:txBody>
      </p:sp>
      <p:sp>
        <p:nvSpPr>
          <p:cNvPr id="211" name="Freeform 12"/>
          <p:cNvSpPr/>
          <p:nvPr/>
        </p:nvSpPr>
        <p:spPr>
          <a:xfrm>
            <a:off x="3784680" y="1562040"/>
            <a:ext cx="279360" cy="266760"/>
          </a:xfrm>
          <a:custGeom>
            <a:avLst/>
            <a:gdLst>
              <a:gd name="textAreaLeft" fmla="*/ 0 w 279360"/>
              <a:gd name="textAreaRight" fmla="*/ 279720 w 279360"/>
              <a:gd name="textAreaTop" fmla="*/ 0 h 266760"/>
              <a:gd name="textAreaBottom" fmla="*/ 267120 h 266760"/>
            </a:gdLst>
            <a:ahLst/>
            <a:rect l="textAreaLeft" t="textAreaTop" r="textAreaRight" b="textAreaBottom"/>
            <a:pathLst>
              <a:path w="279401" h="266701">
                <a:moveTo>
                  <a:pt x="0" y="6350"/>
                </a:moveTo>
                <a:lnTo>
                  <a:pt x="0" y="6350"/>
                </a:lnTo>
                <a:lnTo>
                  <a:pt x="0" y="6350"/>
                </a:lnTo>
                <a:lnTo>
                  <a:pt x="0" y="6350"/>
                </a:lnTo>
                <a:lnTo>
                  <a:pt x="0" y="6350"/>
                </a:lnTo>
                <a:lnTo>
                  <a:pt x="0" y="6350"/>
                </a:lnTo>
                <a:lnTo>
                  <a:pt x="0" y="0"/>
                </a:lnTo>
                <a:lnTo>
                  <a:pt x="0" y="0"/>
                </a:lnTo>
                <a:lnTo>
                  <a:pt x="0" y="6350"/>
                </a:lnTo>
                <a:lnTo>
                  <a:pt x="0" y="6350"/>
                </a:lnTo>
                <a:lnTo>
                  <a:pt x="0" y="6350"/>
                </a:lnTo>
                <a:lnTo>
                  <a:pt x="0" y="6350"/>
                </a:lnTo>
                <a:lnTo>
                  <a:pt x="6350" y="12700"/>
                </a:lnTo>
                <a:lnTo>
                  <a:pt x="6350" y="19050"/>
                </a:lnTo>
                <a:lnTo>
                  <a:pt x="6350" y="19050"/>
                </a:lnTo>
                <a:lnTo>
                  <a:pt x="6350" y="31750"/>
                </a:lnTo>
                <a:lnTo>
                  <a:pt x="12700" y="38100"/>
                </a:lnTo>
                <a:lnTo>
                  <a:pt x="12700" y="50800"/>
                </a:lnTo>
                <a:lnTo>
                  <a:pt x="12700" y="63500"/>
                </a:lnTo>
                <a:lnTo>
                  <a:pt x="12700" y="76200"/>
                </a:lnTo>
                <a:lnTo>
                  <a:pt x="12700" y="95250"/>
                </a:lnTo>
                <a:lnTo>
                  <a:pt x="19050" y="107950"/>
                </a:lnTo>
                <a:lnTo>
                  <a:pt x="19050" y="120650"/>
                </a:lnTo>
                <a:lnTo>
                  <a:pt x="19050" y="139700"/>
                </a:lnTo>
                <a:lnTo>
                  <a:pt x="25400" y="158750"/>
                </a:lnTo>
                <a:lnTo>
                  <a:pt x="25400" y="171450"/>
                </a:lnTo>
                <a:lnTo>
                  <a:pt x="31750" y="190500"/>
                </a:lnTo>
                <a:lnTo>
                  <a:pt x="31750" y="203200"/>
                </a:lnTo>
                <a:lnTo>
                  <a:pt x="38100" y="222250"/>
                </a:lnTo>
                <a:lnTo>
                  <a:pt x="44450" y="228600"/>
                </a:lnTo>
                <a:lnTo>
                  <a:pt x="50800" y="241300"/>
                </a:lnTo>
                <a:lnTo>
                  <a:pt x="50800" y="247650"/>
                </a:lnTo>
                <a:lnTo>
                  <a:pt x="57150" y="254000"/>
                </a:lnTo>
                <a:lnTo>
                  <a:pt x="63500" y="260350"/>
                </a:lnTo>
                <a:lnTo>
                  <a:pt x="63500" y="260350"/>
                </a:lnTo>
                <a:lnTo>
                  <a:pt x="63500" y="260350"/>
                </a:lnTo>
                <a:lnTo>
                  <a:pt x="69850" y="260350"/>
                </a:lnTo>
                <a:lnTo>
                  <a:pt x="69850" y="254000"/>
                </a:lnTo>
                <a:lnTo>
                  <a:pt x="69850" y="247650"/>
                </a:lnTo>
                <a:lnTo>
                  <a:pt x="69850" y="234950"/>
                </a:lnTo>
                <a:lnTo>
                  <a:pt x="69850" y="222250"/>
                </a:lnTo>
                <a:lnTo>
                  <a:pt x="69850" y="215900"/>
                </a:lnTo>
                <a:lnTo>
                  <a:pt x="69850" y="196850"/>
                </a:lnTo>
                <a:lnTo>
                  <a:pt x="76200" y="184150"/>
                </a:lnTo>
                <a:lnTo>
                  <a:pt x="76200" y="171450"/>
                </a:lnTo>
                <a:lnTo>
                  <a:pt x="76200" y="158750"/>
                </a:lnTo>
                <a:lnTo>
                  <a:pt x="82550" y="152400"/>
                </a:lnTo>
                <a:lnTo>
                  <a:pt x="82550" y="139700"/>
                </a:lnTo>
                <a:lnTo>
                  <a:pt x="82550" y="133350"/>
                </a:lnTo>
                <a:lnTo>
                  <a:pt x="82550" y="127000"/>
                </a:lnTo>
                <a:lnTo>
                  <a:pt x="88900" y="120650"/>
                </a:lnTo>
                <a:lnTo>
                  <a:pt x="88900" y="114300"/>
                </a:lnTo>
                <a:lnTo>
                  <a:pt x="88900" y="107950"/>
                </a:lnTo>
                <a:lnTo>
                  <a:pt x="95250" y="107950"/>
                </a:lnTo>
                <a:lnTo>
                  <a:pt x="95250" y="101600"/>
                </a:lnTo>
                <a:lnTo>
                  <a:pt x="101600" y="101600"/>
                </a:lnTo>
                <a:lnTo>
                  <a:pt x="101600" y="101600"/>
                </a:lnTo>
                <a:lnTo>
                  <a:pt x="107950" y="107950"/>
                </a:lnTo>
                <a:lnTo>
                  <a:pt x="114300" y="107950"/>
                </a:lnTo>
                <a:lnTo>
                  <a:pt x="120650" y="114300"/>
                </a:lnTo>
                <a:lnTo>
                  <a:pt x="127000" y="120650"/>
                </a:lnTo>
                <a:lnTo>
                  <a:pt x="133350" y="127000"/>
                </a:lnTo>
                <a:lnTo>
                  <a:pt x="146050" y="133350"/>
                </a:lnTo>
                <a:lnTo>
                  <a:pt x="158750" y="146050"/>
                </a:lnTo>
                <a:lnTo>
                  <a:pt x="165100" y="158750"/>
                </a:lnTo>
                <a:lnTo>
                  <a:pt x="177800" y="171450"/>
                </a:lnTo>
                <a:lnTo>
                  <a:pt x="184150" y="184150"/>
                </a:lnTo>
                <a:lnTo>
                  <a:pt x="203200" y="190500"/>
                </a:lnTo>
                <a:lnTo>
                  <a:pt x="209550" y="203200"/>
                </a:lnTo>
                <a:lnTo>
                  <a:pt x="222250" y="215900"/>
                </a:lnTo>
                <a:lnTo>
                  <a:pt x="228600" y="228600"/>
                </a:lnTo>
                <a:lnTo>
                  <a:pt x="241300" y="234950"/>
                </a:lnTo>
                <a:lnTo>
                  <a:pt x="247650" y="247650"/>
                </a:lnTo>
                <a:lnTo>
                  <a:pt x="260350" y="254000"/>
                </a:lnTo>
                <a:lnTo>
                  <a:pt x="260350" y="260350"/>
                </a:lnTo>
                <a:lnTo>
                  <a:pt x="266700" y="260350"/>
                </a:lnTo>
                <a:lnTo>
                  <a:pt x="273050" y="266700"/>
                </a:lnTo>
                <a:lnTo>
                  <a:pt x="273050" y="266700"/>
                </a:lnTo>
                <a:lnTo>
                  <a:pt x="279400" y="260350"/>
                </a:lnTo>
                <a:lnTo>
                  <a:pt x="279400" y="260350"/>
                </a:lnTo>
                <a:lnTo>
                  <a:pt x="279400" y="254000"/>
                </a:lnTo>
                <a:lnTo>
                  <a:pt x="279400" y="254000"/>
                </a:lnTo>
                <a:lnTo>
                  <a:pt x="279400" y="241300"/>
                </a:lnTo>
                <a:lnTo>
                  <a:pt x="279400" y="228600"/>
                </a:lnTo>
                <a:lnTo>
                  <a:pt x="273050" y="215900"/>
                </a:lnTo>
                <a:lnTo>
                  <a:pt x="273050" y="196850"/>
                </a:lnTo>
                <a:lnTo>
                  <a:pt x="266700" y="177800"/>
                </a:lnTo>
                <a:lnTo>
                  <a:pt x="266700" y="165100"/>
                </a:lnTo>
                <a:lnTo>
                  <a:pt x="260350" y="146050"/>
                </a:lnTo>
                <a:lnTo>
                  <a:pt x="254000" y="127000"/>
                </a:lnTo>
                <a:lnTo>
                  <a:pt x="254000" y="114300"/>
                </a:lnTo>
                <a:lnTo>
                  <a:pt x="247650" y="101600"/>
                </a:lnTo>
                <a:lnTo>
                  <a:pt x="247650" y="82550"/>
                </a:lnTo>
                <a:lnTo>
                  <a:pt x="241300" y="69850"/>
                </a:lnTo>
                <a:lnTo>
                  <a:pt x="241300" y="63500"/>
                </a:lnTo>
                <a:lnTo>
                  <a:pt x="241300" y="50800"/>
                </a:lnTo>
                <a:lnTo>
                  <a:pt x="241300" y="38100"/>
                </a:lnTo>
                <a:lnTo>
                  <a:pt x="247650" y="31750"/>
                </a:lnTo>
                <a:lnTo>
                  <a:pt x="254000" y="25400"/>
                </a:lnTo>
                <a:lnTo>
                  <a:pt x="260350" y="19050"/>
                </a:lnTo>
                <a:lnTo>
                  <a:pt x="260350" y="12700"/>
                </a:lnTo>
                <a:lnTo>
                  <a:pt x="266700" y="6350"/>
                </a:lnTo>
                <a:lnTo>
                  <a:pt x="266700" y="6350"/>
                </a:lnTo>
                <a:lnTo>
                  <a:pt x="273050" y="6350"/>
                </a:lnTo>
                <a:lnTo>
                  <a:pt x="273050" y="63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12" name="Freeform 13"/>
          <p:cNvSpPr/>
          <p:nvPr/>
        </p:nvSpPr>
        <p:spPr>
          <a:xfrm>
            <a:off x="4127400" y="1587600"/>
            <a:ext cx="190440" cy="183960"/>
          </a:xfrm>
          <a:custGeom>
            <a:avLst/>
            <a:gdLst>
              <a:gd name="textAreaLeft" fmla="*/ 0 w 190440"/>
              <a:gd name="textAreaRight" fmla="*/ 190800 w 190440"/>
              <a:gd name="textAreaTop" fmla="*/ 0 h 183960"/>
              <a:gd name="textAreaBottom" fmla="*/ 184320 h 183960"/>
            </a:gdLst>
            <a:ahLst/>
            <a:rect l="textAreaLeft" t="textAreaTop" r="textAreaRight" b="textAreaBottom"/>
            <a:pathLst>
              <a:path w="190501" h="184151">
                <a:moveTo>
                  <a:pt x="0" y="114300"/>
                </a:moveTo>
                <a:lnTo>
                  <a:pt x="6350" y="114300"/>
                </a:lnTo>
                <a:lnTo>
                  <a:pt x="6350" y="114300"/>
                </a:lnTo>
                <a:lnTo>
                  <a:pt x="6350" y="114300"/>
                </a:lnTo>
                <a:lnTo>
                  <a:pt x="6350" y="114300"/>
                </a:lnTo>
                <a:lnTo>
                  <a:pt x="6350" y="114300"/>
                </a:lnTo>
                <a:lnTo>
                  <a:pt x="12700" y="114300"/>
                </a:lnTo>
                <a:lnTo>
                  <a:pt x="12700" y="114300"/>
                </a:lnTo>
                <a:lnTo>
                  <a:pt x="12700" y="107950"/>
                </a:lnTo>
                <a:lnTo>
                  <a:pt x="19050" y="107950"/>
                </a:lnTo>
                <a:lnTo>
                  <a:pt x="31750" y="101600"/>
                </a:lnTo>
                <a:lnTo>
                  <a:pt x="38100" y="95250"/>
                </a:lnTo>
                <a:lnTo>
                  <a:pt x="50800" y="88900"/>
                </a:lnTo>
                <a:lnTo>
                  <a:pt x="63500" y="82550"/>
                </a:lnTo>
                <a:lnTo>
                  <a:pt x="69850" y="76200"/>
                </a:lnTo>
                <a:lnTo>
                  <a:pt x="82550" y="63500"/>
                </a:lnTo>
                <a:lnTo>
                  <a:pt x="88900" y="57150"/>
                </a:lnTo>
                <a:lnTo>
                  <a:pt x="101600" y="50800"/>
                </a:lnTo>
                <a:lnTo>
                  <a:pt x="107950" y="44450"/>
                </a:lnTo>
                <a:lnTo>
                  <a:pt x="107950" y="38100"/>
                </a:lnTo>
                <a:lnTo>
                  <a:pt x="114300" y="31750"/>
                </a:lnTo>
                <a:lnTo>
                  <a:pt x="114300" y="25400"/>
                </a:lnTo>
                <a:lnTo>
                  <a:pt x="114300" y="19050"/>
                </a:lnTo>
                <a:lnTo>
                  <a:pt x="114300" y="19050"/>
                </a:lnTo>
                <a:lnTo>
                  <a:pt x="114300" y="12700"/>
                </a:lnTo>
                <a:lnTo>
                  <a:pt x="107950" y="6350"/>
                </a:lnTo>
                <a:lnTo>
                  <a:pt x="107950" y="6350"/>
                </a:lnTo>
                <a:lnTo>
                  <a:pt x="95250" y="0"/>
                </a:lnTo>
                <a:lnTo>
                  <a:pt x="88900" y="0"/>
                </a:lnTo>
                <a:lnTo>
                  <a:pt x="82550" y="0"/>
                </a:lnTo>
                <a:lnTo>
                  <a:pt x="69850" y="0"/>
                </a:lnTo>
                <a:lnTo>
                  <a:pt x="63500" y="0"/>
                </a:lnTo>
                <a:lnTo>
                  <a:pt x="57150" y="6350"/>
                </a:lnTo>
                <a:lnTo>
                  <a:pt x="44450" y="6350"/>
                </a:lnTo>
                <a:lnTo>
                  <a:pt x="38100" y="12700"/>
                </a:lnTo>
                <a:lnTo>
                  <a:pt x="25400" y="19050"/>
                </a:lnTo>
                <a:lnTo>
                  <a:pt x="19050" y="25400"/>
                </a:lnTo>
                <a:lnTo>
                  <a:pt x="12700" y="38100"/>
                </a:lnTo>
                <a:lnTo>
                  <a:pt x="12700" y="44450"/>
                </a:lnTo>
                <a:lnTo>
                  <a:pt x="6350" y="57150"/>
                </a:lnTo>
                <a:lnTo>
                  <a:pt x="6350" y="69850"/>
                </a:lnTo>
                <a:lnTo>
                  <a:pt x="6350" y="76200"/>
                </a:lnTo>
                <a:lnTo>
                  <a:pt x="6350" y="88900"/>
                </a:lnTo>
                <a:lnTo>
                  <a:pt x="6350" y="101600"/>
                </a:lnTo>
                <a:lnTo>
                  <a:pt x="12700" y="114300"/>
                </a:lnTo>
                <a:lnTo>
                  <a:pt x="12700" y="127000"/>
                </a:lnTo>
                <a:lnTo>
                  <a:pt x="25400" y="133350"/>
                </a:lnTo>
                <a:lnTo>
                  <a:pt x="31750" y="146050"/>
                </a:lnTo>
                <a:lnTo>
                  <a:pt x="38100" y="152400"/>
                </a:lnTo>
                <a:lnTo>
                  <a:pt x="50800" y="158750"/>
                </a:lnTo>
                <a:lnTo>
                  <a:pt x="63500" y="165100"/>
                </a:lnTo>
                <a:lnTo>
                  <a:pt x="69850" y="171450"/>
                </a:lnTo>
                <a:lnTo>
                  <a:pt x="82550" y="177800"/>
                </a:lnTo>
                <a:lnTo>
                  <a:pt x="88900" y="177800"/>
                </a:lnTo>
                <a:lnTo>
                  <a:pt x="101600" y="177800"/>
                </a:lnTo>
                <a:lnTo>
                  <a:pt x="114300" y="184150"/>
                </a:lnTo>
                <a:lnTo>
                  <a:pt x="127000" y="177800"/>
                </a:lnTo>
                <a:lnTo>
                  <a:pt x="133350" y="177800"/>
                </a:lnTo>
                <a:lnTo>
                  <a:pt x="146050" y="171450"/>
                </a:lnTo>
                <a:lnTo>
                  <a:pt x="158750" y="165100"/>
                </a:lnTo>
                <a:lnTo>
                  <a:pt x="165100" y="158750"/>
                </a:lnTo>
                <a:lnTo>
                  <a:pt x="177800" y="152400"/>
                </a:lnTo>
                <a:lnTo>
                  <a:pt x="184150" y="146050"/>
                </a:lnTo>
                <a:lnTo>
                  <a:pt x="190500" y="139700"/>
                </a:lnTo>
                <a:lnTo>
                  <a:pt x="190500" y="139700"/>
                </a:lnTo>
                <a:lnTo>
                  <a:pt x="190500" y="133350"/>
                </a:lnTo>
                <a:lnTo>
                  <a:pt x="190500" y="1333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13" name="Freeform 14"/>
          <p:cNvSpPr/>
          <p:nvPr/>
        </p:nvSpPr>
        <p:spPr>
          <a:xfrm>
            <a:off x="4292640" y="1581120"/>
            <a:ext cx="6480" cy="12600"/>
          </a:xfrm>
          <a:custGeom>
            <a:avLst/>
            <a:gdLst>
              <a:gd name="textAreaLeft" fmla="*/ 0 w 6480"/>
              <a:gd name="textAreaRight" fmla="*/ 6840 w 6480"/>
              <a:gd name="textAreaTop" fmla="*/ 0 h 12600"/>
              <a:gd name="textAreaBottom" fmla="*/ 12960 h 12600"/>
            </a:gdLst>
            <a:ahLst/>
            <a:rect l="textAreaLeft" t="textAreaTop" r="textAreaRight" b="textAreaBottom"/>
            <a:pathLst>
              <a:path w="6351" h="12701">
                <a:moveTo>
                  <a:pt x="6350" y="12700"/>
                </a:moveTo>
                <a:lnTo>
                  <a:pt x="6350" y="12700"/>
                </a:lnTo>
                <a:lnTo>
                  <a:pt x="6350" y="12700"/>
                </a:lnTo>
                <a:lnTo>
                  <a:pt x="6350" y="6350"/>
                </a:lnTo>
                <a:lnTo>
                  <a:pt x="0" y="0"/>
                </a:lnTo>
                <a:lnTo>
                  <a:pt x="0" y="0"/>
                </a:lnTo>
                <a:lnTo>
                  <a:pt x="0" y="0"/>
                </a:lnTo>
                <a:lnTo>
                  <a:pt x="0" y="0"/>
                </a:lnTo>
              </a:path>
            </a:pathLst>
          </a:custGeom>
          <a:noFill/>
          <a:ln w="38160">
            <a:solidFill>
              <a:srgbClr val="ff0000"/>
            </a:solidFill>
            <a:round/>
          </a:ln>
        </p:spPr>
        <p:style>
          <a:lnRef idx="0"/>
          <a:fillRef idx="0"/>
          <a:effectRef idx="0"/>
          <a:fontRef idx="minor"/>
        </p:style>
        <p:txBody>
          <a:bodyPr tIns="-32760" bIns="-32760" anchor="ctr">
            <a:noAutofit/>
          </a:bodyPr>
          <a:p>
            <a:endParaRPr b="0" lang="en-US" sz="1800" spc="-1" strike="noStrike">
              <a:solidFill>
                <a:srgbClr val="000000"/>
              </a:solidFill>
              <a:latin typeface="Verdana"/>
            </a:endParaRPr>
          </a:p>
        </p:txBody>
      </p:sp>
      <p:sp>
        <p:nvSpPr>
          <p:cNvPr id="214" name="Freeform 15"/>
          <p:cNvSpPr/>
          <p:nvPr/>
        </p:nvSpPr>
        <p:spPr>
          <a:xfrm>
            <a:off x="4299120" y="1562040"/>
            <a:ext cx="311040" cy="196920"/>
          </a:xfrm>
          <a:custGeom>
            <a:avLst/>
            <a:gdLst>
              <a:gd name="textAreaLeft" fmla="*/ 0 w 311040"/>
              <a:gd name="textAreaRight" fmla="*/ 311400 w 311040"/>
              <a:gd name="textAreaTop" fmla="*/ 0 h 196920"/>
              <a:gd name="textAreaBottom" fmla="*/ 197280 h 196920"/>
            </a:gdLst>
            <a:ahLst/>
            <a:rect l="textAreaLeft" t="textAreaTop" r="textAreaRight" b="textAreaBottom"/>
            <a:pathLst>
              <a:path w="311151" h="196851">
                <a:moveTo>
                  <a:pt x="0" y="19050"/>
                </a:moveTo>
                <a:lnTo>
                  <a:pt x="6350" y="19050"/>
                </a:lnTo>
                <a:lnTo>
                  <a:pt x="6350" y="19050"/>
                </a:lnTo>
                <a:lnTo>
                  <a:pt x="12700" y="19050"/>
                </a:lnTo>
                <a:lnTo>
                  <a:pt x="19050" y="12700"/>
                </a:lnTo>
                <a:lnTo>
                  <a:pt x="25400" y="12700"/>
                </a:lnTo>
                <a:lnTo>
                  <a:pt x="31750" y="6350"/>
                </a:lnTo>
                <a:lnTo>
                  <a:pt x="44450" y="6350"/>
                </a:lnTo>
                <a:lnTo>
                  <a:pt x="57150" y="0"/>
                </a:lnTo>
                <a:lnTo>
                  <a:pt x="69850" y="0"/>
                </a:lnTo>
                <a:lnTo>
                  <a:pt x="82550" y="0"/>
                </a:lnTo>
                <a:lnTo>
                  <a:pt x="101600" y="0"/>
                </a:lnTo>
                <a:lnTo>
                  <a:pt x="120650" y="0"/>
                </a:lnTo>
                <a:lnTo>
                  <a:pt x="133350" y="0"/>
                </a:lnTo>
                <a:lnTo>
                  <a:pt x="152400" y="6350"/>
                </a:lnTo>
                <a:lnTo>
                  <a:pt x="171450" y="12700"/>
                </a:lnTo>
                <a:lnTo>
                  <a:pt x="184150" y="19050"/>
                </a:lnTo>
                <a:lnTo>
                  <a:pt x="203200" y="31750"/>
                </a:lnTo>
                <a:lnTo>
                  <a:pt x="215900" y="38100"/>
                </a:lnTo>
                <a:lnTo>
                  <a:pt x="222250" y="50800"/>
                </a:lnTo>
                <a:lnTo>
                  <a:pt x="234950" y="63500"/>
                </a:lnTo>
                <a:lnTo>
                  <a:pt x="241300" y="76200"/>
                </a:lnTo>
                <a:lnTo>
                  <a:pt x="254000" y="88900"/>
                </a:lnTo>
                <a:lnTo>
                  <a:pt x="260350" y="101600"/>
                </a:lnTo>
                <a:lnTo>
                  <a:pt x="260350" y="107950"/>
                </a:lnTo>
                <a:lnTo>
                  <a:pt x="266700" y="107950"/>
                </a:lnTo>
                <a:lnTo>
                  <a:pt x="266700" y="114300"/>
                </a:lnTo>
                <a:lnTo>
                  <a:pt x="266700" y="114300"/>
                </a:lnTo>
                <a:lnTo>
                  <a:pt x="266700" y="114300"/>
                </a:lnTo>
                <a:lnTo>
                  <a:pt x="266700" y="107950"/>
                </a:lnTo>
                <a:lnTo>
                  <a:pt x="260350" y="107950"/>
                </a:lnTo>
                <a:lnTo>
                  <a:pt x="260350" y="101600"/>
                </a:lnTo>
                <a:lnTo>
                  <a:pt x="247650" y="95250"/>
                </a:lnTo>
                <a:lnTo>
                  <a:pt x="241300" y="82550"/>
                </a:lnTo>
                <a:lnTo>
                  <a:pt x="228600" y="82550"/>
                </a:lnTo>
                <a:lnTo>
                  <a:pt x="222250" y="76200"/>
                </a:lnTo>
                <a:lnTo>
                  <a:pt x="209550" y="76200"/>
                </a:lnTo>
                <a:lnTo>
                  <a:pt x="196850" y="69850"/>
                </a:lnTo>
                <a:lnTo>
                  <a:pt x="177800" y="69850"/>
                </a:lnTo>
                <a:lnTo>
                  <a:pt x="165100" y="76200"/>
                </a:lnTo>
                <a:lnTo>
                  <a:pt x="146050" y="76200"/>
                </a:lnTo>
                <a:lnTo>
                  <a:pt x="133350" y="82550"/>
                </a:lnTo>
                <a:lnTo>
                  <a:pt x="120650" y="95250"/>
                </a:lnTo>
                <a:lnTo>
                  <a:pt x="107950" y="101600"/>
                </a:lnTo>
                <a:lnTo>
                  <a:pt x="101600" y="107950"/>
                </a:lnTo>
                <a:lnTo>
                  <a:pt x="95250" y="120650"/>
                </a:lnTo>
                <a:lnTo>
                  <a:pt x="88900" y="133350"/>
                </a:lnTo>
                <a:lnTo>
                  <a:pt x="95250" y="146050"/>
                </a:lnTo>
                <a:lnTo>
                  <a:pt x="95250" y="152400"/>
                </a:lnTo>
                <a:lnTo>
                  <a:pt x="107950" y="165100"/>
                </a:lnTo>
                <a:lnTo>
                  <a:pt x="114300" y="171450"/>
                </a:lnTo>
                <a:lnTo>
                  <a:pt x="133350" y="184150"/>
                </a:lnTo>
                <a:lnTo>
                  <a:pt x="146050" y="190500"/>
                </a:lnTo>
                <a:lnTo>
                  <a:pt x="165100" y="190500"/>
                </a:lnTo>
                <a:lnTo>
                  <a:pt x="184150" y="196850"/>
                </a:lnTo>
                <a:lnTo>
                  <a:pt x="203200" y="196850"/>
                </a:lnTo>
                <a:lnTo>
                  <a:pt x="222250" y="190500"/>
                </a:lnTo>
                <a:lnTo>
                  <a:pt x="241300" y="190500"/>
                </a:lnTo>
                <a:lnTo>
                  <a:pt x="260350" y="177800"/>
                </a:lnTo>
                <a:lnTo>
                  <a:pt x="273050" y="171450"/>
                </a:lnTo>
                <a:lnTo>
                  <a:pt x="292100" y="158750"/>
                </a:lnTo>
                <a:lnTo>
                  <a:pt x="298450" y="146050"/>
                </a:lnTo>
                <a:lnTo>
                  <a:pt x="298450" y="146050"/>
                </a:lnTo>
                <a:lnTo>
                  <a:pt x="311150" y="139700"/>
                </a:lnTo>
                <a:lnTo>
                  <a:pt x="311150" y="1397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15" name="Freeform 16"/>
          <p:cNvSpPr/>
          <p:nvPr/>
        </p:nvSpPr>
        <p:spPr>
          <a:xfrm>
            <a:off x="4610160" y="1479600"/>
            <a:ext cx="133200" cy="253800"/>
          </a:xfrm>
          <a:custGeom>
            <a:avLst/>
            <a:gdLst>
              <a:gd name="textAreaLeft" fmla="*/ 0 w 133200"/>
              <a:gd name="textAreaRight" fmla="*/ 133560 w 133200"/>
              <a:gd name="textAreaTop" fmla="*/ 0 h 253800"/>
              <a:gd name="textAreaBottom" fmla="*/ 254160 h 253800"/>
            </a:gdLst>
            <a:ahLst/>
            <a:rect l="textAreaLeft" t="textAreaTop" r="textAreaRight" b="textAreaBottom"/>
            <a:pathLst>
              <a:path w="133351" h="254001">
                <a:moveTo>
                  <a:pt x="0" y="0"/>
                </a:moveTo>
                <a:lnTo>
                  <a:pt x="6350" y="0"/>
                </a:lnTo>
                <a:lnTo>
                  <a:pt x="6350" y="6350"/>
                </a:lnTo>
                <a:lnTo>
                  <a:pt x="6350" y="6350"/>
                </a:lnTo>
                <a:lnTo>
                  <a:pt x="12700" y="6350"/>
                </a:lnTo>
                <a:lnTo>
                  <a:pt x="19050" y="12700"/>
                </a:lnTo>
                <a:lnTo>
                  <a:pt x="25400" y="12700"/>
                </a:lnTo>
                <a:lnTo>
                  <a:pt x="31750" y="25400"/>
                </a:lnTo>
                <a:lnTo>
                  <a:pt x="38100" y="38100"/>
                </a:lnTo>
                <a:lnTo>
                  <a:pt x="44450" y="44450"/>
                </a:lnTo>
                <a:lnTo>
                  <a:pt x="50800" y="63500"/>
                </a:lnTo>
                <a:lnTo>
                  <a:pt x="57150" y="82550"/>
                </a:lnTo>
                <a:lnTo>
                  <a:pt x="63500" y="101600"/>
                </a:lnTo>
                <a:lnTo>
                  <a:pt x="76200" y="120650"/>
                </a:lnTo>
                <a:lnTo>
                  <a:pt x="82550" y="139700"/>
                </a:lnTo>
                <a:lnTo>
                  <a:pt x="88900" y="158750"/>
                </a:lnTo>
                <a:lnTo>
                  <a:pt x="101600" y="177800"/>
                </a:lnTo>
                <a:lnTo>
                  <a:pt x="101600" y="190500"/>
                </a:lnTo>
                <a:lnTo>
                  <a:pt x="107950" y="209550"/>
                </a:lnTo>
                <a:lnTo>
                  <a:pt x="114300" y="215900"/>
                </a:lnTo>
                <a:lnTo>
                  <a:pt x="127000" y="228600"/>
                </a:lnTo>
                <a:lnTo>
                  <a:pt x="127000" y="241300"/>
                </a:lnTo>
                <a:lnTo>
                  <a:pt x="133350" y="247650"/>
                </a:lnTo>
                <a:lnTo>
                  <a:pt x="133350" y="247650"/>
                </a:lnTo>
                <a:lnTo>
                  <a:pt x="133350" y="254000"/>
                </a:lnTo>
                <a:lnTo>
                  <a:pt x="127000" y="254000"/>
                </a:lnTo>
                <a:lnTo>
                  <a:pt x="127000" y="247650"/>
                </a:lnTo>
                <a:lnTo>
                  <a:pt x="114300" y="247650"/>
                </a:lnTo>
                <a:lnTo>
                  <a:pt x="107950" y="241300"/>
                </a:lnTo>
                <a:lnTo>
                  <a:pt x="101600" y="234950"/>
                </a:lnTo>
                <a:lnTo>
                  <a:pt x="88900" y="222250"/>
                </a:lnTo>
                <a:lnTo>
                  <a:pt x="82550" y="209550"/>
                </a:lnTo>
                <a:lnTo>
                  <a:pt x="82550" y="209550"/>
                </a:lnTo>
                <a:lnTo>
                  <a:pt x="69850" y="196850"/>
                </a:lnTo>
                <a:lnTo>
                  <a:pt x="69850" y="1968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16" name="Freeform 17"/>
          <p:cNvSpPr/>
          <p:nvPr/>
        </p:nvSpPr>
        <p:spPr>
          <a:xfrm>
            <a:off x="4559400" y="1555920"/>
            <a:ext cx="247680" cy="75960"/>
          </a:xfrm>
          <a:custGeom>
            <a:avLst/>
            <a:gdLst>
              <a:gd name="textAreaLeft" fmla="*/ 0 w 247680"/>
              <a:gd name="textAreaRight" fmla="*/ 248040 w 247680"/>
              <a:gd name="textAreaTop" fmla="*/ 0 h 75960"/>
              <a:gd name="textAreaBottom" fmla="*/ 76320 h 75960"/>
            </a:gdLst>
            <a:ahLst/>
            <a:rect l="textAreaLeft" t="textAreaTop" r="textAreaRight" b="textAreaBottom"/>
            <a:pathLst>
              <a:path w="247651" h="76201">
                <a:moveTo>
                  <a:pt x="19050" y="76200"/>
                </a:moveTo>
                <a:lnTo>
                  <a:pt x="12700" y="76200"/>
                </a:lnTo>
                <a:lnTo>
                  <a:pt x="12700" y="69850"/>
                </a:lnTo>
                <a:lnTo>
                  <a:pt x="6350" y="69850"/>
                </a:lnTo>
                <a:lnTo>
                  <a:pt x="6350" y="69850"/>
                </a:lnTo>
                <a:lnTo>
                  <a:pt x="0" y="69850"/>
                </a:lnTo>
                <a:lnTo>
                  <a:pt x="0" y="69850"/>
                </a:lnTo>
                <a:lnTo>
                  <a:pt x="0" y="69850"/>
                </a:lnTo>
                <a:lnTo>
                  <a:pt x="6350" y="69850"/>
                </a:lnTo>
                <a:lnTo>
                  <a:pt x="12700" y="69850"/>
                </a:lnTo>
                <a:lnTo>
                  <a:pt x="25400" y="63500"/>
                </a:lnTo>
                <a:lnTo>
                  <a:pt x="44450" y="63500"/>
                </a:lnTo>
                <a:lnTo>
                  <a:pt x="57150" y="57150"/>
                </a:lnTo>
                <a:lnTo>
                  <a:pt x="76200" y="57150"/>
                </a:lnTo>
                <a:lnTo>
                  <a:pt x="101600" y="50800"/>
                </a:lnTo>
                <a:lnTo>
                  <a:pt x="127000" y="50800"/>
                </a:lnTo>
                <a:lnTo>
                  <a:pt x="146050" y="44450"/>
                </a:lnTo>
                <a:lnTo>
                  <a:pt x="171450" y="38100"/>
                </a:lnTo>
                <a:lnTo>
                  <a:pt x="190500" y="38100"/>
                </a:lnTo>
                <a:lnTo>
                  <a:pt x="209550" y="25400"/>
                </a:lnTo>
                <a:lnTo>
                  <a:pt x="222250" y="19050"/>
                </a:lnTo>
                <a:lnTo>
                  <a:pt x="234950" y="12700"/>
                </a:lnTo>
                <a:lnTo>
                  <a:pt x="241300" y="6350"/>
                </a:lnTo>
                <a:lnTo>
                  <a:pt x="241300" y="6350"/>
                </a:lnTo>
                <a:lnTo>
                  <a:pt x="247650" y="0"/>
                </a:lnTo>
                <a:lnTo>
                  <a:pt x="247650" y="0"/>
                </a:lnTo>
              </a:path>
            </a:pathLst>
          </a:custGeom>
          <a:noFill/>
          <a:ln w="38160">
            <a:solidFill>
              <a:srgbClr val="ff0000"/>
            </a:solidFill>
            <a:round/>
          </a:ln>
        </p:spPr>
        <p:style>
          <a:lnRef idx="0"/>
          <a:fillRef idx="0"/>
          <a:effectRef idx="0"/>
          <a:fontRef idx="minor"/>
        </p:style>
        <p:txBody>
          <a:bodyPr tIns="30600" bIns="30600" anchor="ctr">
            <a:noAutofit/>
          </a:bodyPr>
          <a:p>
            <a:endParaRPr b="0" lang="en-US" sz="1800" spc="-1" strike="noStrike">
              <a:solidFill>
                <a:srgbClr val="000000"/>
              </a:solidFill>
              <a:latin typeface="Verdana"/>
            </a:endParaRPr>
          </a:p>
        </p:txBody>
      </p:sp>
      <p:sp>
        <p:nvSpPr>
          <p:cNvPr id="217" name="Freeform 18"/>
          <p:cNvSpPr/>
          <p:nvPr/>
        </p:nvSpPr>
        <p:spPr>
          <a:xfrm>
            <a:off x="4794120" y="1486080"/>
            <a:ext cx="279360" cy="266400"/>
          </a:xfrm>
          <a:custGeom>
            <a:avLst/>
            <a:gdLst>
              <a:gd name="textAreaLeft" fmla="*/ 0 w 279360"/>
              <a:gd name="textAreaRight" fmla="*/ 279720 w 279360"/>
              <a:gd name="textAreaTop" fmla="*/ 0 h 266400"/>
              <a:gd name="textAreaBottom" fmla="*/ 266760 h 266400"/>
            </a:gdLst>
            <a:ahLst/>
            <a:rect l="textAreaLeft" t="textAreaTop" r="textAreaRight" b="textAreaBottom"/>
            <a:pathLst>
              <a:path w="279401" h="266701">
                <a:moveTo>
                  <a:pt x="0" y="0"/>
                </a:moveTo>
                <a:lnTo>
                  <a:pt x="0" y="0"/>
                </a:lnTo>
                <a:lnTo>
                  <a:pt x="6350" y="6350"/>
                </a:lnTo>
                <a:lnTo>
                  <a:pt x="6350" y="6350"/>
                </a:lnTo>
                <a:lnTo>
                  <a:pt x="12700" y="6350"/>
                </a:lnTo>
                <a:lnTo>
                  <a:pt x="12700" y="12700"/>
                </a:lnTo>
                <a:lnTo>
                  <a:pt x="12700" y="19050"/>
                </a:lnTo>
                <a:lnTo>
                  <a:pt x="19050" y="25400"/>
                </a:lnTo>
                <a:lnTo>
                  <a:pt x="25400" y="31750"/>
                </a:lnTo>
                <a:lnTo>
                  <a:pt x="31750" y="44450"/>
                </a:lnTo>
                <a:lnTo>
                  <a:pt x="38100" y="57150"/>
                </a:lnTo>
                <a:lnTo>
                  <a:pt x="44450" y="69850"/>
                </a:lnTo>
                <a:lnTo>
                  <a:pt x="50800" y="82550"/>
                </a:lnTo>
                <a:lnTo>
                  <a:pt x="50800" y="101600"/>
                </a:lnTo>
                <a:lnTo>
                  <a:pt x="57150" y="120650"/>
                </a:lnTo>
                <a:lnTo>
                  <a:pt x="63500" y="139700"/>
                </a:lnTo>
                <a:lnTo>
                  <a:pt x="63500" y="158750"/>
                </a:lnTo>
                <a:lnTo>
                  <a:pt x="69850" y="177800"/>
                </a:lnTo>
                <a:lnTo>
                  <a:pt x="76200" y="190500"/>
                </a:lnTo>
                <a:lnTo>
                  <a:pt x="82550" y="209550"/>
                </a:lnTo>
                <a:lnTo>
                  <a:pt x="88900" y="222250"/>
                </a:lnTo>
                <a:lnTo>
                  <a:pt x="95250" y="234950"/>
                </a:lnTo>
                <a:lnTo>
                  <a:pt x="101600" y="247650"/>
                </a:lnTo>
                <a:lnTo>
                  <a:pt x="107950" y="254000"/>
                </a:lnTo>
                <a:lnTo>
                  <a:pt x="107950" y="260350"/>
                </a:lnTo>
                <a:lnTo>
                  <a:pt x="107950" y="260350"/>
                </a:lnTo>
                <a:lnTo>
                  <a:pt x="107950" y="266700"/>
                </a:lnTo>
                <a:lnTo>
                  <a:pt x="107950" y="266700"/>
                </a:lnTo>
                <a:lnTo>
                  <a:pt x="107950" y="260350"/>
                </a:lnTo>
                <a:lnTo>
                  <a:pt x="107950" y="260350"/>
                </a:lnTo>
                <a:lnTo>
                  <a:pt x="107950" y="254000"/>
                </a:lnTo>
                <a:lnTo>
                  <a:pt x="107950" y="241300"/>
                </a:lnTo>
                <a:lnTo>
                  <a:pt x="101600" y="228600"/>
                </a:lnTo>
                <a:lnTo>
                  <a:pt x="101600" y="215900"/>
                </a:lnTo>
                <a:lnTo>
                  <a:pt x="95250" y="196850"/>
                </a:lnTo>
                <a:lnTo>
                  <a:pt x="95250" y="177800"/>
                </a:lnTo>
                <a:lnTo>
                  <a:pt x="88900" y="158750"/>
                </a:lnTo>
                <a:lnTo>
                  <a:pt x="82550" y="146050"/>
                </a:lnTo>
                <a:lnTo>
                  <a:pt x="82550" y="133350"/>
                </a:lnTo>
                <a:lnTo>
                  <a:pt x="82550" y="127000"/>
                </a:lnTo>
                <a:lnTo>
                  <a:pt x="88900" y="114300"/>
                </a:lnTo>
                <a:lnTo>
                  <a:pt x="95250" y="114300"/>
                </a:lnTo>
                <a:lnTo>
                  <a:pt x="107950" y="107950"/>
                </a:lnTo>
                <a:lnTo>
                  <a:pt x="114300" y="107950"/>
                </a:lnTo>
                <a:lnTo>
                  <a:pt x="127000" y="107950"/>
                </a:lnTo>
                <a:lnTo>
                  <a:pt x="139700" y="107950"/>
                </a:lnTo>
                <a:lnTo>
                  <a:pt x="158750" y="107950"/>
                </a:lnTo>
                <a:lnTo>
                  <a:pt x="177800" y="114300"/>
                </a:lnTo>
                <a:lnTo>
                  <a:pt x="190500" y="120650"/>
                </a:lnTo>
                <a:lnTo>
                  <a:pt x="209550" y="127000"/>
                </a:lnTo>
                <a:lnTo>
                  <a:pt x="222250" y="139700"/>
                </a:lnTo>
                <a:lnTo>
                  <a:pt x="234950" y="152400"/>
                </a:lnTo>
                <a:lnTo>
                  <a:pt x="254000" y="165100"/>
                </a:lnTo>
                <a:lnTo>
                  <a:pt x="260350" y="184150"/>
                </a:lnTo>
                <a:lnTo>
                  <a:pt x="266700" y="196850"/>
                </a:lnTo>
                <a:lnTo>
                  <a:pt x="273050" y="209550"/>
                </a:lnTo>
                <a:lnTo>
                  <a:pt x="279400" y="222250"/>
                </a:lnTo>
                <a:lnTo>
                  <a:pt x="279400" y="234950"/>
                </a:lnTo>
                <a:lnTo>
                  <a:pt x="279400" y="234950"/>
                </a:lnTo>
                <a:lnTo>
                  <a:pt x="279400" y="241300"/>
                </a:lnTo>
                <a:lnTo>
                  <a:pt x="279400" y="241300"/>
                </a:lnTo>
                <a:lnTo>
                  <a:pt x="279400" y="241300"/>
                </a:lnTo>
                <a:lnTo>
                  <a:pt x="279400" y="241300"/>
                </a:lnTo>
                <a:lnTo>
                  <a:pt x="279400" y="24130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18" name="Freeform 19"/>
          <p:cNvSpPr/>
          <p:nvPr/>
        </p:nvSpPr>
        <p:spPr>
          <a:xfrm>
            <a:off x="5124600" y="1542960"/>
            <a:ext cx="196560" cy="158760"/>
          </a:xfrm>
          <a:custGeom>
            <a:avLst/>
            <a:gdLst>
              <a:gd name="textAreaLeft" fmla="*/ 0 w 196560"/>
              <a:gd name="textAreaRight" fmla="*/ 196920 w 196560"/>
              <a:gd name="textAreaTop" fmla="*/ 0 h 158760"/>
              <a:gd name="textAreaBottom" fmla="*/ 159120 h 158760"/>
            </a:gdLst>
            <a:ahLst/>
            <a:rect l="textAreaLeft" t="textAreaTop" r="textAreaRight" b="textAreaBottom"/>
            <a:pathLst>
              <a:path w="196851" h="158751">
                <a:moveTo>
                  <a:pt x="0" y="95250"/>
                </a:moveTo>
                <a:lnTo>
                  <a:pt x="6350" y="95250"/>
                </a:lnTo>
                <a:lnTo>
                  <a:pt x="12700" y="95250"/>
                </a:lnTo>
                <a:lnTo>
                  <a:pt x="19050" y="95250"/>
                </a:lnTo>
                <a:lnTo>
                  <a:pt x="31750" y="95250"/>
                </a:lnTo>
                <a:lnTo>
                  <a:pt x="44450" y="88900"/>
                </a:lnTo>
                <a:lnTo>
                  <a:pt x="57150" y="82550"/>
                </a:lnTo>
                <a:lnTo>
                  <a:pt x="69850" y="69850"/>
                </a:lnTo>
                <a:lnTo>
                  <a:pt x="82550" y="63500"/>
                </a:lnTo>
                <a:lnTo>
                  <a:pt x="95250" y="57150"/>
                </a:lnTo>
                <a:lnTo>
                  <a:pt x="107950" y="50800"/>
                </a:lnTo>
                <a:lnTo>
                  <a:pt x="114300" y="38100"/>
                </a:lnTo>
                <a:lnTo>
                  <a:pt x="120650" y="31750"/>
                </a:lnTo>
                <a:lnTo>
                  <a:pt x="120650" y="25400"/>
                </a:lnTo>
                <a:lnTo>
                  <a:pt x="120650" y="19050"/>
                </a:lnTo>
                <a:lnTo>
                  <a:pt x="120650" y="6350"/>
                </a:lnTo>
                <a:lnTo>
                  <a:pt x="120650" y="6350"/>
                </a:lnTo>
                <a:lnTo>
                  <a:pt x="114300" y="0"/>
                </a:lnTo>
                <a:lnTo>
                  <a:pt x="107950" y="0"/>
                </a:lnTo>
                <a:lnTo>
                  <a:pt x="95250" y="0"/>
                </a:lnTo>
                <a:lnTo>
                  <a:pt x="88900" y="0"/>
                </a:lnTo>
                <a:lnTo>
                  <a:pt x="76200" y="0"/>
                </a:lnTo>
                <a:lnTo>
                  <a:pt x="63500" y="6350"/>
                </a:lnTo>
                <a:lnTo>
                  <a:pt x="50800" y="12700"/>
                </a:lnTo>
                <a:lnTo>
                  <a:pt x="38100" y="25400"/>
                </a:lnTo>
                <a:lnTo>
                  <a:pt x="31750" y="31750"/>
                </a:lnTo>
                <a:lnTo>
                  <a:pt x="25400" y="44450"/>
                </a:lnTo>
                <a:lnTo>
                  <a:pt x="19050" y="57150"/>
                </a:lnTo>
                <a:lnTo>
                  <a:pt x="19050" y="69850"/>
                </a:lnTo>
                <a:lnTo>
                  <a:pt x="19050" y="88900"/>
                </a:lnTo>
                <a:lnTo>
                  <a:pt x="25400" y="101600"/>
                </a:lnTo>
                <a:lnTo>
                  <a:pt x="38100" y="114300"/>
                </a:lnTo>
                <a:lnTo>
                  <a:pt x="44450" y="127000"/>
                </a:lnTo>
                <a:lnTo>
                  <a:pt x="63500" y="133350"/>
                </a:lnTo>
                <a:lnTo>
                  <a:pt x="76200" y="146050"/>
                </a:lnTo>
                <a:lnTo>
                  <a:pt x="95250" y="152400"/>
                </a:lnTo>
                <a:lnTo>
                  <a:pt x="114300" y="158750"/>
                </a:lnTo>
                <a:lnTo>
                  <a:pt x="127000" y="158750"/>
                </a:lnTo>
                <a:lnTo>
                  <a:pt x="139700" y="158750"/>
                </a:lnTo>
                <a:lnTo>
                  <a:pt x="158750" y="152400"/>
                </a:lnTo>
                <a:lnTo>
                  <a:pt x="165100" y="146050"/>
                </a:lnTo>
                <a:lnTo>
                  <a:pt x="177800" y="133350"/>
                </a:lnTo>
                <a:lnTo>
                  <a:pt x="190500" y="120650"/>
                </a:lnTo>
                <a:lnTo>
                  <a:pt x="190500" y="120650"/>
                </a:lnTo>
                <a:lnTo>
                  <a:pt x="196850" y="107950"/>
                </a:lnTo>
                <a:lnTo>
                  <a:pt x="196850" y="10795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19" name="Freeform 20"/>
          <p:cNvSpPr/>
          <p:nvPr/>
        </p:nvSpPr>
        <p:spPr>
          <a:xfrm>
            <a:off x="5359320" y="1542960"/>
            <a:ext cx="279360" cy="146160"/>
          </a:xfrm>
          <a:custGeom>
            <a:avLst/>
            <a:gdLst>
              <a:gd name="textAreaLeft" fmla="*/ 0 w 279360"/>
              <a:gd name="textAreaRight" fmla="*/ 279720 w 279360"/>
              <a:gd name="textAreaTop" fmla="*/ 0 h 146160"/>
              <a:gd name="textAreaBottom" fmla="*/ 146520 h 146160"/>
            </a:gdLst>
            <a:ahLst/>
            <a:rect l="textAreaLeft" t="textAreaTop" r="textAreaRight" b="textAreaBottom"/>
            <a:pathLst>
              <a:path w="279401" h="146051">
                <a:moveTo>
                  <a:pt x="0" y="38100"/>
                </a:moveTo>
                <a:lnTo>
                  <a:pt x="0" y="38100"/>
                </a:lnTo>
                <a:lnTo>
                  <a:pt x="0" y="44450"/>
                </a:lnTo>
                <a:lnTo>
                  <a:pt x="6350" y="50800"/>
                </a:lnTo>
                <a:lnTo>
                  <a:pt x="12700" y="63500"/>
                </a:lnTo>
                <a:lnTo>
                  <a:pt x="19050" y="69850"/>
                </a:lnTo>
                <a:lnTo>
                  <a:pt x="19050" y="82550"/>
                </a:lnTo>
                <a:lnTo>
                  <a:pt x="31750" y="95250"/>
                </a:lnTo>
                <a:lnTo>
                  <a:pt x="38100" y="107950"/>
                </a:lnTo>
                <a:lnTo>
                  <a:pt x="44450" y="120650"/>
                </a:lnTo>
                <a:lnTo>
                  <a:pt x="50800" y="127000"/>
                </a:lnTo>
                <a:lnTo>
                  <a:pt x="57150" y="133350"/>
                </a:lnTo>
                <a:lnTo>
                  <a:pt x="63500" y="139700"/>
                </a:lnTo>
                <a:lnTo>
                  <a:pt x="69850" y="146050"/>
                </a:lnTo>
                <a:lnTo>
                  <a:pt x="69850" y="146050"/>
                </a:lnTo>
                <a:lnTo>
                  <a:pt x="69850" y="146050"/>
                </a:lnTo>
                <a:lnTo>
                  <a:pt x="69850" y="139700"/>
                </a:lnTo>
                <a:lnTo>
                  <a:pt x="63500" y="133350"/>
                </a:lnTo>
                <a:lnTo>
                  <a:pt x="63500" y="127000"/>
                </a:lnTo>
                <a:lnTo>
                  <a:pt x="63500" y="114300"/>
                </a:lnTo>
                <a:lnTo>
                  <a:pt x="63500" y="101600"/>
                </a:lnTo>
                <a:lnTo>
                  <a:pt x="57150" y="82550"/>
                </a:lnTo>
                <a:lnTo>
                  <a:pt x="57150" y="69850"/>
                </a:lnTo>
                <a:lnTo>
                  <a:pt x="50800" y="50800"/>
                </a:lnTo>
                <a:lnTo>
                  <a:pt x="50800" y="38100"/>
                </a:lnTo>
                <a:lnTo>
                  <a:pt x="57150" y="25400"/>
                </a:lnTo>
                <a:lnTo>
                  <a:pt x="57150" y="19050"/>
                </a:lnTo>
                <a:lnTo>
                  <a:pt x="69850" y="12700"/>
                </a:lnTo>
                <a:lnTo>
                  <a:pt x="82550" y="6350"/>
                </a:lnTo>
                <a:lnTo>
                  <a:pt x="107950" y="0"/>
                </a:lnTo>
                <a:lnTo>
                  <a:pt x="133350" y="0"/>
                </a:lnTo>
                <a:lnTo>
                  <a:pt x="165100" y="0"/>
                </a:lnTo>
                <a:lnTo>
                  <a:pt x="196850" y="0"/>
                </a:lnTo>
                <a:lnTo>
                  <a:pt x="228600" y="0"/>
                </a:lnTo>
                <a:lnTo>
                  <a:pt x="260350" y="0"/>
                </a:lnTo>
                <a:lnTo>
                  <a:pt x="260350" y="0"/>
                </a:lnTo>
                <a:lnTo>
                  <a:pt x="279400" y="0"/>
                </a:lnTo>
                <a:lnTo>
                  <a:pt x="279400" y="0"/>
                </a:lnTo>
              </a:path>
            </a:pathLst>
          </a:custGeom>
          <a:noFill/>
          <a:ln w="381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Verdana"/>
            </a:endParaRPr>
          </a:p>
        </p:txBody>
      </p:sp>
      <p:sp>
        <p:nvSpPr>
          <p:cNvPr id="220" name="Freeform 21"/>
          <p:cNvSpPr/>
          <p:nvPr/>
        </p:nvSpPr>
        <p:spPr>
          <a:xfrm>
            <a:off x="3848040" y="1955880"/>
            <a:ext cx="6480" cy="360"/>
          </a:xfrm>
          <a:custGeom>
            <a:avLst/>
            <a:gdLst>
              <a:gd name="textAreaLeft" fmla="*/ 0 w 6480"/>
              <a:gd name="textAreaRight" fmla="*/ 6840 w 6480"/>
              <a:gd name="textAreaTop" fmla="*/ 0 h 360"/>
              <a:gd name="textAreaBottom" fmla="*/ 720 h 360"/>
            </a:gdLst>
            <a:ahLst/>
            <a:rect l="textAreaLeft" t="textAreaTop" r="textAreaRight" b="textAreaBottom"/>
            <a:pathLst>
              <a:path w="6351" h="1">
                <a:moveTo>
                  <a:pt x="6350" y="0"/>
                </a:moveTo>
                <a:lnTo>
                  <a:pt x="6350" y="0"/>
                </a:lnTo>
                <a:lnTo>
                  <a:pt x="0" y="0"/>
                </a:lnTo>
                <a:lnTo>
                  <a:pt x="0" y="0"/>
                </a:lnTo>
              </a:path>
            </a:pathLst>
          </a:custGeom>
          <a:noFill/>
          <a:ln w="38160">
            <a:solidFill>
              <a:srgbClr val="ff0000"/>
            </a:solidFill>
            <a:round/>
          </a:ln>
        </p:spPr>
        <p:style>
          <a:lnRef idx="0"/>
          <a:fillRef idx="0"/>
          <a:effectRef idx="0"/>
          <a:fontRef idx="minor"/>
        </p:style>
        <p:txBody>
          <a:bodyPr tIns="-45000" bIns="-45000" anchor="ctr">
            <a:noAutofit/>
          </a:bodyPr>
          <a:p>
            <a:endParaRPr b="0" lang="en-US" sz="1800" spc="-1" strike="noStrike">
              <a:solidFill>
                <a:srgbClr val="000000"/>
              </a:solidFill>
              <a:latin typeface="Verdana"/>
            </a:endParaRPr>
          </a:p>
        </p:txBody>
      </p:sp>
      <p:sp>
        <p:nvSpPr>
          <p:cNvPr id="221" name="Freeform 22"/>
          <p:cNvSpPr/>
          <p:nvPr/>
        </p:nvSpPr>
        <p:spPr>
          <a:xfrm>
            <a:off x="3498840" y="2019240"/>
            <a:ext cx="393840" cy="69840"/>
          </a:xfrm>
          <a:custGeom>
            <a:avLst/>
            <a:gdLst>
              <a:gd name="textAreaLeft" fmla="*/ 0 w 393840"/>
              <a:gd name="textAreaRight" fmla="*/ 394200 w 393840"/>
              <a:gd name="textAreaTop" fmla="*/ 0 h 69840"/>
              <a:gd name="textAreaBottom" fmla="*/ 70200 h 69840"/>
            </a:gdLst>
            <a:ahLst/>
            <a:rect l="textAreaLeft" t="textAreaTop" r="textAreaRight" b="textAreaBottom"/>
            <a:pathLst>
              <a:path w="393701" h="69851">
                <a:moveTo>
                  <a:pt x="25400" y="50800"/>
                </a:moveTo>
                <a:lnTo>
                  <a:pt x="19050" y="57150"/>
                </a:lnTo>
                <a:lnTo>
                  <a:pt x="12700" y="63500"/>
                </a:lnTo>
                <a:lnTo>
                  <a:pt x="6350" y="63500"/>
                </a:lnTo>
                <a:lnTo>
                  <a:pt x="0" y="69850"/>
                </a:lnTo>
                <a:lnTo>
                  <a:pt x="0" y="69850"/>
                </a:lnTo>
                <a:lnTo>
                  <a:pt x="6350" y="69850"/>
                </a:lnTo>
                <a:lnTo>
                  <a:pt x="19050" y="69850"/>
                </a:lnTo>
                <a:lnTo>
                  <a:pt x="38100" y="63500"/>
                </a:lnTo>
                <a:lnTo>
                  <a:pt x="63500" y="57150"/>
                </a:lnTo>
                <a:lnTo>
                  <a:pt x="95250" y="50800"/>
                </a:lnTo>
                <a:lnTo>
                  <a:pt x="120650" y="44450"/>
                </a:lnTo>
                <a:lnTo>
                  <a:pt x="158750" y="38100"/>
                </a:lnTo>
                <a:lnTo>
                  <a:pt x="196850" y="25400"/>
                </a:lnTo>
                <a:lnTo>
                  <a:pt x="228600" y="19050"/>
                </a:lnTo>
                <a:lnTo>
                  <a:pt x="266700" y="19050"/>
                </a:lnTo>
                <a:lnTo>
                  <a:pt x="298450" y="12700"/>
                </a:lnTo>
                <a:lnTo>
                  <a:pt x="330200" y="6350"/>
                </a:lnTo>
                <a:lnTo>
                  <a:pt x="355600" y="6350"/>
                </a:lnTo>
                <a:lnTo>
                  <a:pt x="374650" y="0"/>
                </a:lnTo>
                <a:lnTo>
                  <a:pt x="374650" y="0"/>
                </a:lnTo>
                <a:lnTo>
                  <a:pt x="393700" y="0"/>
                </a:lnTo>
                <a:lnTo>
                  <a:pt x="393700" y="0"/>
                </a:lnTo>
              </a:path>
            </a:pathLst>
          </a:custGeom>
          <a:noFill/>
          <a:ln w="38160">
            <a:solidFill>
              <a:srgbClr val="ff0000"/>
            </a:solidFill>
            <a:round/>
          </a:ln>
        </p:spPr>
        <p:style>
          <a:lnRef idx="0"/>
          <a:fillRef idx="0"/>
          <a:effectRef idx="0"/>
          <a:fontRef idx="minor"/>
        </p:style>
        <p:txBody>
          <a:bodyPr tIns="24480" bIns="24480" anchor="ctr">
            <a:noAutofit/>
          </a:bodyPr>
          <a:p>
            <a:endParaRPr b="0" lang="en-US" sz="1800" spc="-1" strike="noStrike">
              <a:solidFill>
                <a:srgbClr val="000000"/>
              </a:solidFill>
              <a:latin typeface="Verdana"/>
            </a:endParaRPr>
          </a:p>
        </p:txBody>
      </p:sp>
    </p:spTree>
  </p:cSld>
  <p:transition>
    <p:wipe dir="r"/>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2" presetSubtype="1">
                                  <p:stCondLst>
                                    <p:cond delay="0"/>
                                  </p:stCondLst>
                                  <p:childTnLst>
                                    <p:set>
                                      <p:cBhvr>
                                        <p:cTn id="176" dur="1" fill="hold">
                                          <p:stCondLst>
                                            <p:cond delay="0"/>
                                          </p:stCondLst>
                                        </p:cTn>
                                        <p:tgtEl>
                                          <p:spTgt spid="201"/>
                                        </p:tgtEl>
                                        <p:attrNameLst>
                                          <p:attrName>style.visibility</p:attrName>
                                        </p:attrNameLst>
                                      </p:cBhvr>
                                      <p:to>
                                        <p:strVal val="visible"/>
                                      </p:to>
                                    </p:set>
                                    <p:animEffect filter="wipe(up)" transition="in">
                                      <p:cBhvr additive="repl">
                                        <p:cTn id="177" dur="500"/>
                                        <p:tgtEl>
                                          <p:spTgt spid="201"/>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202"/>
                                        </p:tgtEl>
                                        <p:attrNameLst>
                                          <p:attrName>style.visibility</p:attrName>
                                        </p:attrNameLst>
                                      </p:cBhvr>
                                      <p:to>
                                        <p:strVal val="visible"/>
                                      </p:to>
                                    </p:set>
                                    <p:animEffect filter="wipe(left)" transition="in">
                                      <p:cBhvr additive="repl">
                                        <p:cTn id="1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4:57:50Z</dcterms:created>
  <dc:creator>Amber</dc:creator>
  <dc:description/>
  <dc:language>en-US</dc:language>
  <cp:lastModifiedBy>Shettle, Meghan</cp:lastModifiedBy>
  <dcterms:modified xsi:type="dcterms:W3CDTF">2015-03-10T17:21:17Z</dcterms:modified>
  <cp:revision>34</cp:revision>
  <dc:subject/>
  <dc:title>Elements of Literature Plot</dc:title>
</cp:coreProperties>
</file>